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C47B-3089-44DD-B2A2-1A34EAFCA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F1B5-4629-40BC-A4EE-CBA7A9D2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C9CB-CE06-4077-AB01-C08FCEF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B655-64FF-422C-B5D2-CA42EAC0E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7C540-A760-4844-95B5-23F348EC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ED960-5474-4B4E-B648-998C841F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80A89-C7CF-4E69-A9F7-9ED88545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AF9AC-5F1B-43BF-97F0-EAEBBE5A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8A958-5491-4965-9898-7527244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D036E-D635-4C3A-8694-D9703919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BDCEA-BCE3-4F98-9AF4-C411FC9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006E-08EF-4FC0-A21C-640A4013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1A809-FEBE-47C0-8A8D-A53C0AC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FEDB7-2A00-4766-BBFF-1E65C6D6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0F781-C8DE-48FF-9FFF-7BB45F8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A160B-9B4C-43E9-8912-81DDB012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E93A4-AA83-4863-A41A-2711C6A8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69D5-7524-4727-B8AF-B25CC984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3FA9-2775-4E9F-8ADF-BBDAF32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5665-AE52-40BE-B514-529FD720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AC53-9C9A-4C83-A5ED-E1E81F47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1FBC-2C2F-4EA2-AFFA-E69EF0B6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75A0-9D9D-4750-9B3E-6818AE4A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3B9F-74E6-4530-AE62-5F4B66B0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630864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1413000"/>
            <a:ext cx="8305920" cy="236160"/>
            <a:chOff x="380880" y="1413000"/>
            <a:chExt cx="8305920" cy="236160"/>
          </a:xfrm>
        </p:grpSpPr>
        <p:sp>
          <p:nvSpPr>
            <p:cNvPr id="2" name=""/>
            <p:cNvSpPr/>
            <p:nvPr/>
          </p:nvSpPr>
          <p:spPr>
            <a:xfrm>
              <a:off x="6858000" y="1413000"/>
              <a:ext cx="1828800" cy="2361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11640"/>
              <a:ext cx="830592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78920" y="6453000"/>
            <a:ext cx="6480360" cy="25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914880" y="6453000"/>
            <a:ext cx="1904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CA7A-3342-4533-A42C-4B7D2D7F733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08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6236640"/>
            <a:chOff x="0" y="0"/>
            <a:chExt cx="8763120" cy="6236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511776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678480"/>
              <a:ext cx="8763120" cy="2558160"/>
              <a:chOff x="0" y="3678480"/>
              <a:chExt cx="8763120" cy="255816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678480"/>
                <a:ext cx="7772400" cy="25581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918240"/>
                <a:ext cx="7648560" cy="224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511740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59800"/>
              <a:ext cx="8077320" cy="318960"/>
              <a:chOff x="635040" y="559800"/>
              <a:chExt cx="8077320" cy="3189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59800"/>
                <a:ext cx="2438640" cy="3189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71928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AF06-4A3D-40AF-AF72-6707C3F0EA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69134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 Methodology for the Conceptual Modeling </a:t>
            </a: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of ETL Processes 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5640" y="4005000"/>
            <a:ext cx="40323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is Simit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imi@dbn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tu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chnical University of Athe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. of Electrical and Computer En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DBS Laborator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4076640"/>
            <a:ext cx="33782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os Vassilia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vassil@cs.uoi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Ioanni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pt. of Computer Scie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for the conceptual modeling for ETL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03280" y="2637000"/>
          <a:ext cx="686916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86916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4B1D-F90A-48FF-8A92-C9D10043D6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CAED-EBD2-4108-B555-57D4EBF315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ntification of the proper data store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didates and active candidates for the involved data store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 mapping between the providers and the consumer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notating the diagram with runtime constraint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0AB0-0761-4FF3-B2AD-1063AA1E3F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PARTSUPP {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PARTSUPP 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QTY, COS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W.PARTSUPP {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D221-1B0F-40EE-BCAC-C0864585EB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Identification of the proper data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03280" y="2565360"/>
          <a:ext cx="698508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98508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C396-B911-49C9-BAE9-80AB3D8690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Candidates and active candidates for the involved data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60360" y="2716200"/>
          <a:ext cx="7344000" cy="33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716200"/>
                    <a:ext cx="734400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6EB0-6EFF-4619-B2FD-7807DEF4ED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ing copy transformation: ignoring candid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19280" y="2637000"/>
          <a:ext cx="64785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637000"/>
                    <a:ext cx="64785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28F9-1B53-486B-99B6-91902909C1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ing copy transformation: replace targets with active candidat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19280" y="2924280"/>
          <a:ext cx="6478560" cy="22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647856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528E-A535-4B7D-AD62-F5726CB4BE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Attribute mapping between the providers and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8360" y="2454120"/>
          <a:ext cx="730728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2454120"/>
                    <a:ext cx="730728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D695-52D7-4BCD-A93B-901837A4BF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4: Annotating the diagram with run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03280" y="2421000"/>
          <a:ext cx="727236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727236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3B36-A497-4A14-A6BB-27BB22E464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General Idea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disciplined methodology for the conceptual part of the definition of ETL proces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early stages of a DW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design steps towards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mapp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attributes of the data sources to the attributes of the DW t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5C80-E707-4B41-9054-786B2D0A58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Full-fledged diagram of our example 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1771560"/>
          <a:ext cx="75596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1560"/>
                    <a:ext cx="75596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C585-9B3E-4134-AC48-6631F53F4D7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DD31-F5D4-4859-AEA9-3E78A2A7DE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lusio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, a set of design steps, that facilitates the tracing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interrelationship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ttributes and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cessary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ransforma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need to take place during the loading of the D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Design alternati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population of the D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Future 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l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actical evaluation (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ll integration with logical mode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DMDW’02, CAiSE’03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499C-30A3-4D39-A2FF-574E8DF065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n – going/Future Wor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5a84d8"/>
                </a:solidFill>
                <a:latin typeface="Times New Roman"/>
              </a:rPr>
              <a:t>Arktos I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project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s aimed toward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ceptu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gic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What-if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f ETL scenari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http://www.dbnet.ece.ntua.g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~pvassil/projects/arktos_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372360" y="5013360"/>
            <a:ext cx="22510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FEF1-F210-4552-9EA5-9BEF3044C0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55640" y="2573280"/>
            <a:ext cx="81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hank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EFA5-68BF-47E7-B22C-42AFE4AE6B3B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069080" y="32194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EA01-BFE1-4753-BB5B-8057428C343E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4200" y="1700280"/>
            <a:ext cx="8210520" cy="26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76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02280" y="3943440"/>
            <a:ext cx="36180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41880" y="3943440"/>
            <a:ext cx="36216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390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04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502160"/>
            <a:ext cx="3859200" cy="1728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200" y="4575240"/>
            <a:ext cx="1123920" cy="16905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4153320" y="2046960"/>
            <a:ext cx="512640" cy="654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25880" y="2346480"/>
            <a:ext cx="6508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38760" y="1938240"/>
            <a:ext cx="94104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5" idx="2"/>
            <a:endCxn id="243" idx="1"/>
          </p:cNvCxnSpPr>
          <p:nvPr/>
        </p:nvCxnSpPr>
        <p:spPr>
          <a:xfrm flipH="1">
            <a:off x="4408200" y="2025720"/>
            <a:ext cx="21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 rot="5400000">
            <a:off x="50220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340000"/>
            <a:ext cx="4352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7080" y="1766880"/>
            <a:ext cx="942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9" idx="2"/>
            <a:endCxn id="247" idx="1"/>
          </p:cNvCxnSpPr>
          <p:nvPr/>
        </p:nvCxnSpPr>
        <p:spPr>
          <a:xfrm>
            <a:off x="5279760" y="205560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rot="5400000">
            <a:off x="5963760" y="2049480"/>
            <a:ext cx="51264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96080" y="234000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49920" y="1946160"/>
            <a:ext cx="9414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2"/>
            <a:endCxn id="251" idx="1"/>
          </p:cNvCxnSpPr>
          <p:nvPr/>
        </p:nvCxnSpPr>
        <p:spPr>
          <a:xfrm>
            <a:off x="6221160" y="20318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 rot="5400000">
            <a:off x="69048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92760" y="1946160"/>
            <a:ext cx="9432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56" idx="2"/>
            <a:endCxn id="255" idx="1"/>
          </p:cNvCxnSpPr>
          <p:nvPr/>
        </p:nvCxnSpPr>
        <p:spPr>
          <a:xfrm flipH="1">
            <a:off x="7162560" y="2031840"/>
            <a:ext cx="36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3073320" y="337176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4156560" y="3301200"/>
            <a:ext cx="513000" cy="6537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35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4344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61" idx="2"/>
            <a:endCxn id="259" idx="1"/>
          </p:cNvCxnSpPr>
          <p:nvPr/>
        </p:nvCxnSpPr>
        <p:spPr>
          <a:xfrm flipH="1">
            <a:off x="4411440" y="3287880"/>
            <a:ext cx="360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 rot="5400000">
            <a:off x="50248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4680" y="3592440"/>
            <a:ext cx="4334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21120" y="3059280"/>
            <a:ext cx="943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5" idx="2"/>
            <a:endCxn id="263" idx="1"/>
          </p:cNvCxnSpPr>
          <p:nvPr/>
        </p:nvCxnSpPr>
        <p:spPr>
          <a:xfrm flipH="1">
            <a:off x="5283000" y="3366720"/>
            <a:ext cx="10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 rot="5400000">
            <a:off x="5967000" y="3303720"/>
            <a:ext cx="51300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5316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2"/>
            <a:endCxn id="267" idx="1"/>
          </p:cNvCxnSpPr>
          <p:nvPr/>
        </p:nvCxnSpPr>
        <p:spPr>
          <a:xfrm>
            <a:off x="6224400" y="32875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 rot="5400000">
            <a:off x="69076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24720" y="3200400"/>
            <a:ext cx="108432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71" idx="2"/>
            <a:endCxn id="270" idx="1"/>
          </p:cNvCxnSpPr>
          <p:nvPr/>
        </p:nvCxnSpPr>
        <p:spPr>
          <a:xfrm flipH="1">
            <a:off x="7165080" y="328752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6789600" y="3592440"/>
            <a:ext cx="63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783972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37480" y="3592440"/>
            <a:ext cx="736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62880" y="3200400"/>
            <a:ext cx="106056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2"/>
            <a:endCxn id="274" idx="1"/>
          </p:cNvCxnSpPr>
          <p:nvPr/>
        </p:nvCxnSpPr>
        <p:spPr>
          <a:xfrm>
            <a:off x="8092800" y="3287520"/>
            <a:ext cx="39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 rot="5400000">
            <a:off x="8091000" y="2168280"/>
            <a:ext cx="512640" cy="652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20080" y="246708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43" idx="0"/>
            <a:endCxn id="247" idx="3"/>
          </p:cNvCxnSpPr>
          <p:nvPr/>
        </p:nvCxnSpPr>
        <p:spPr>
          <a:xfrm>
            <a:off x="4735440" y="237312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47" idx="0"/>
            <a:endCxn id="251" idx="3"/>
          </p:cNvCxnSpPr>
          <p:nvPr/>
        </p:nvCxnSpPr>
        <p:spPr>
          <a:xfrm>
            <a:off x="5601960" y="2373120"/>
            <a:ext cx="29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51" idx="0"/>
            <a:endCxn id="255" idx="3"/>
          </p:cNvCxnSpPr>
          <p:nvPr/>
        </p:nvCxnSpPr>
        <p:spPr>
          <a:xfrm>
            <a:off x="6544800" y="2373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59" idx="0"/>
            <a:endCxn id="263" idx="3"/>
          </p:cNvCxnSpPr>
          <p:nvPr/>
        </p:nvCxnSpPr>
        <p:spPr>
          <a:xfrm>
            <a:off x="4738680" y="3627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3" idx="0"/>
            <a:endCxn id="267" idx="3"/>
          </p:cNvCxnSpPr>
          <p:nvPr/>
        </p:nvCxnSpPr>
        <p:spPr>
          <a:xfrm>
            <a:off x="5605200" y="362700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67" idx="0"/>
            <a:endCxn id="270" idx="3"/>
          </p:cNvCxnSpPr>
          <p:nvPr/>
        </p:nvCxnSpPr>
        <p:spPr>
          <a:xfrm>
            <a:off x="6548040" y="362700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0" idx="0"/>
            <a:endCxn id="274" idx="3"/>
          </p:cNvCxnSpPr>
          <p:nvPr/>
        </p:nvCxnSpPr>
        <p:spPr>
          <a:xfrm>
            <a:off x="7488360" y="3627000"/>
            <a:ext cx="28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58" idx="4"/>
            <a:endCxn id="259" idx="3"/>
          </p:cNvCxnSpPr>
          <p:nvPr/>
        </p:nvCxnSpPr>
        <p:spPr>
          <a:xfrm flipV="1">
            <a:off x="3797280" y="3626640"/>
            <a:ext cx="28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3070080" y="21178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8" idx="4"/>
            <a:endCxn id="243" idx="3"/>
          </p:cNvCxnSpPr>
          <p:nvPr/>
        </p:nvCxnSpPr>
        <p:spPr>
          <a:xfrm flipV="1">
            <a:off x="3794040" y="2373120"/>
            <a:ext cx="288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097600" y="278928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401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419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004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46640" y="379404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4664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37480" y="2338560"/>
            <a:ext cx="64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418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88040" y="379404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8660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37200" y="278928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83360" y="254016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833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80400" y="2789280"/>
            <a:ext cx="65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229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247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2252880" y="2049480"/>
            <a:ext cx="51408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84480" y="23353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28880" y="1827360"/>
            <a:ext cx="1158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2"/>
            <a:endCxn id="307" idx="1"/>
          </p:cNvCxnSpPr>
          <p:nvPr/>
        </p:nvCxnSpPr>
        <p:spPr>
          <a:xfrm>
            <a:off x="2507760" y="2034720"/>
            <a:ext cx="252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1095480" y="1827360"/>
            <a:ext cx="725400" cy="5140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11" idx="4"/>
            <a:endCxn id="307" idx="3"/>
          </p:cNvCxnSpPr>
          <p:nvPr/>
        </p:nvCxnSpPr>
        <p:spPr>
          <a:xfrm>
            <a:off x="1820880" y="2084040"/>
            <a:ext cx="364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1095480" y="239868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5" idx="0"/>
            <a:endCxn id="311" idx="2"/>
          </p:cNvCxnSpPr>
          <p:nvPr/>
        </p:nvCxnSpPr>
        <p:spPr>
          <a:xfrm flipH="1" flipV="1">
            <a:off x="1094760" y="2084040"/>
            <a:ext cx="1765800" cy="2870640"/>
          </a:xfrm>
          <a:prstGeom prst="bentConnector5">
            <a:avLst>
              <a:gd name="adj1" fmla="val -12520"/>
              <a:gd name="adj2" fmla="val 16254"/>
              <a:gd name="adj3" fmla="val 1143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3" idx="4"/>
            <a:endCxn id="307" idx="3"/>
          </p:cNvCxnSpPr>
          <p:nvPr/>
        </p:nvCxnSpPr>
        <p:spPr>
          <a:xfrm flipV="1">
            <a:off x="1820880" y="2374560"/>
            <a:ext cx="36432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5433840" y="4675320"/>
            <a:ext cx="725760" cy="511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7589520" y="46083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50200" y="4898880"/>
            <a:ext cx="793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73880" y="4538520"/>
            <a:ext cx="943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20" idx="2"/>
            <a:endCxn id="318" idx="1"/>
          </p:cNvCxnSpPr>
          <p:nvPr/>
        </p:nvCxnSpPr>
        <p:spPr>
          <a:xfrm>
            <a:off x="7845120" y="4683240"/>
            <a:ext cx="396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5400000">
            <a:off x="7588800" y="5453640"/>
            <a:ext cx="5144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50200" y="5745240"/>
            <a:ext cx="7538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73880" y="5270400"/>
            <a:ext cx="943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4" idx="2"/>
            <a:endCxn id="322" idx="1"/>
          </p:cNvCxnSpPr>
          <p:nvPr/>
        </p:nvCxnSpPr>
        <p:spPr>
          <a:xfrm>
            <a:off x="7846560" y="54403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7" idx="4"/>
            <a:endCxn id="318" idx="3"/>
          </p:cNvCxnSpPr>
          <p:nvPr/>
        </p:nvCxnSpPr>
        <p:spPr>
          <a:xfrm>
            <a:off x="6159600" y="4930920"/>
            <a:ext cx="13593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8461440" y="558000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2" idx="0"/>
            <a:endCxn id="327" idx="2"/>
          </p:cNvCxnSpPr>
          <p:nvPr/>
        </p:nvCxnSpPr>
        <p:spPr>
          <a:xfrm>
            <a:off x="8170560" y="5780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8461440" y="473544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18" idx="0"/>
            <a:endCxn id="329" idx="2"/>
          </p:cNvCxnSpPr>
          <p:nvPr/>
        </p:nvCxnSpPr>
        <p:spPr>
          <a:xfrm>
            <a:off x="8170560" y="4933440"/>
            <a:ext cx="291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5429160" y="5518080"/>
            <a:ext cx="723960" cy="514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6662160" y="545544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93040" y="5745240"/>
            <a:ext cx="433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86400" y="5278320"/>
            <a:ext cx="1060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4" idx="2"/>
            <a:endCxn id="332" idx="1"/>
          </p:cNvCxnSpPr>
          <p:nvPr/>
        </p:nvCxnSpPr>
        <p:spPr>
          <a:xfrm>
            <a:off x="6916320" y="5450040"/>
            <a:ext cx="540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17" idx="4"/>
            <a:endCxn id="332" idx="3"/>
          </p:cNvCxnSpPr>
          <p:nvPr/>
        </p:nvCxnSpPr>
        <p:spPr>
          <a:xfrm>
            <a:off x="6159600" y="4930560"/>
            <a:ext cx="4370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1" idx="4"/>
            <a:endCxn id="332" idx="3"/>
          </p:cNvCxnSpPr>
          <p:nvPr/>
        </p:nvCxnSpPr>
        <p:spPr>
          <a:xfrm>
            <a:off x="6152760" y="5775120"/>
            <a:ext cx="4374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2" idx="0"/>
            <a:endCxn id="322" idx="3"/>
          </p:cNvCxnSpPr>
          <p:nvPr/>
        </p:nvCxnSpPr>
        <p:spPr>
          <a:xfrm>
            <a:off x="7242120" y="5779800"/>
            <a:ext cx="27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 rot="5400000">
            <a:off x="2276640" y="4629240"/>
            <a:ext cx="5126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08240" y="491652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42840" y="46990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40" idx="4"/>
            <a:endCxn id="315" idx="3"/>
          </p:cNvCxnSpPr>
          <p:nvPr/>
        </p:nvCxnSpPr>
        <p:spPr>
          <a:xfrm flipV="1">
            <a:off x="1666800" y="4954320"/>
            <a:ext cx="5421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942840" y="552600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2276280" y="54561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8240" y="574668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42" idx="4"/>
            <a:endCxn id="343" idx="3"/>
          </p:cNvCxnSpPr>
          <p:nvPr/>
        </p:nvCxnSpPr>
        <p:spPr>
          <a:xfrm flipV="1">
            <a:off x="1666800" y="5780880"/>
            <a:ext cx="5421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1095480" y="309240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5400000">
            <a:off x="2252520" y="3306600"/>
            <a:ext cx="5144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84480" y="35989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6" idx="4"/>
            <a:endCxn id="347" idx="3"/>
          </p:cNvCxnSpPr>
          <p:nvPr/>
        </p:nvCxnSpPr>
        <p:spPr>
          <a:xfrm>
            <a:off x="1820880" y="3349800"/>
            <a:ext cx="36432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1095480" y="3662280"/>
            <a:ext cx="72540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"/>
          <p:cNvCxnSpPr>
            <a:stCxn id="343" idx="0"/>
            <a:endCxn id="346" idx="2"/>
          </p:cNvCxnSpPr>
          <p:nvPr/>
        </p:nvCxnSpPr>
        <p:spPr>
          <a:xfrm flipH="1" flipV="1">
            <a:off x="1094760" y="3349080"/>
            <a:ext cx="1765800" cy="2432520"/>
          </a:xfrm>
          <a:prstGeom prst="bentConnector5">
            <a:avLst>
              <a:gd name="adj1" fmla="val -16027"/>
              <a:gd name="adj2" fmla="val 56261"/>
              <a:gd name="adj3" fmla="val 10972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50" idx="4"/>
            <a:endCxn id="347" idx="3"/>
          </p:cNvCxnSpPr>
          <p:nvPr/>
        </p:nvCxnSpPr>
        <p:spPr>
          <a:xfrm flipV="1">
            <a:off x="1820880" y="3631320"/>
            <a:ext cx="3643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928880" y="3092400"/>
            <a:ext cx="1158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2"/>
            <a:endCxn id="347" idx="1"/>
          </p:cNvCxnSpPr>
          <p:nvPr/>
        </p:nvCxnSpPr>
        <p:spPr>
          <a:xfrm>
            <a:off x="2507760" y="3319200"/>
            <a:ext cx="25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07" idx="0"/>
            <a:endCxn id="288" idx="2"/>
          </p:cNvCxnSpPr>
          <p:nvPr/>
        </p:nvCxnSpPr>
        <p:spPr>
          <a:xfrm>
            <a:off x="2835360" y="237456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255" idx="0"/>
            <a:endCxn id="278" idx="3"/>
          </p:cNvCxnSpPr>
          <p:nvPr/>
        </p:nvCxnSpPr>
        <p:spPr>
          <a:xfrm>
            <a:off x="7486560" y="2374560"/>
            <a:ext cx="53568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274" idx="0"/>
            <a:endCxn id="278" idx="3"/>
          </p:cNvCxnSpPr>
          <p:nvPr/>
        </p:nvCxnSpPr>
        <p:spPr>
          <a:xfrm flipH="1" flipV="1">
            <a:off x="8021160" y="2493360"/>
            <a:ext cx="401040" cy="1135800"/>
          </a:xfrm>
          <a:prstGeom prst="bentConnector5">
            <a:avLst>
              <a:gd name="adj1" fmla="val -53908"/>
              <a:gd name="adj2" fmla="val 50000"/>
              <a:gd name="adj3" fmla="val 1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278" idx="0"/>
            <a:endCxn id="317" idx="2"/>
          </p:cNvCxnSpPr>
          <p:nvPr/>
        </p:nvCxnSpPr>
        <p:spPr>
          <a:xfrm flipH="1">
            <a:off x="5433120" y="2493720"/>
            <a:ext cx="3242520" cy="2437560"/>
          </a:xfrm>
          <a:prstGeom prst="bentConnector5">
            <a:avLst>
              <a:gd name="adj1" fmla="val -6817"/>
              <a:gd name="adj2" fmla="val 78596"/>
              <a:gd name="adj3" fmla="val 1068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754200" y="6004080"/>
            <a:ext cx="112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6004080"/>
            <a:ext cx="37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4200" y="4089240"/>
            <a:ext cx="78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Logical Model </a:t>
            </a:r>
            <a:r>
              <a:rPr b="0" lang="en-US" sz="2100" spc="-1" strike="noStrike">
                <a:solidFill>
                  <a:srgbClr val="660033"/>
                </a:solidFill>
                <a:latin typeface="Times New Roman"/>
              </a:rPr>
              <a:t>[DMDW’02, CAiSE’03]</a:t>
            </a:r>
            <a:endParaRPr b="0" lang="en-US" sz="21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>
            <a:off x="2843280" y="363348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5302-D1E9-4F73-821D-61322879D24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s orthogonal to the conceptual models which are available for the modeling of DW star schem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s specifically tailored for the back end of the D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of the proposals for the DW front end can be combined with our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s not a process/workflow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873B-F5FB-4675-ADC6-73761C4E125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Related Wor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58920" y="1743120"/>
          <a:ext cx="532908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43120"/>
                    <a:ext cx="532908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826920" y="4869000"/>
            <a:ext cx="7966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ront end of the DW has monopolized the research on the conceptual part of DW model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e paper for a list of re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existing “methodology” is found in the “The Data Warehouse Lifecycle Toolkit” book of Kim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B6A4-E141-4FAA-A890-559113ACCC3A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2E57-535B-4957-BE8A-53DA19858F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Extract – Transform – Load (ETL)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58920" y="2046240"/>
            <a:ext cx="6697440" cy="3830400"/>
            <a:chOff x="1258920" y="2046240"/>
            <a:chExt cx="6697440" cy="3830400"/>
          </a:xfrm>
        </p:grpSpPr>
        <p:sp>
          <p:nvSpPr>
            <p:cNvPr id="104" name=""/>
            <p:cNvSpPr/>
            <p:nvPr/>
          </p:nvSpPr>
          <p:spPr>
            <a:xfrm>
              <a:off x="1258920" y="465120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5240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228840" y="465120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68760" y="526392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099040" y="465120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2160" y="5033880"/>
              <a:ext cx="707760" cy="4604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7376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2296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9920" y="4727520"/>
              <a:ext cx="4734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986080" y="3119400"/>
              <a:ext cx="709560" cy="1914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696000" y="2261880"/>
              <a:ext cx="324000" cy="246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211640" y="3262320"/>
              <a:ext cx="2038320" cy="209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427280" y="3262320"/>
              <a:ext cx="1559160" cy="151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75200" y="3261960"/>
              <a:ext cx="153648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805280" y="3262320"/>
              <a:ext cx="393840" cy="193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87840" y="3262320"/>
              <a:ext cx="328320" cy="208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282560" y="3270240"/>
              <a:ext cx="460440" cy="14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731960" y="3271680"/>
              <a:ext cx="156960" cy="2222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020320" y="3261960"/>
              <a:ext cx="174600" cy="1879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43160" y="3262320"/>
              <a:ext cx="512640" cy="2154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622600" y="3262320"/>
              <a:ext cx="212400" cy="146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031560" y="3262320"/>
              <a:ext cx="282600" cy="1782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204624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149640" y="204624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796000" y="204624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74640" y="3041640"/>
              <a:ext cx="31428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46240" y="2889000"/>
              <a:ext cx="31572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09720" y="2658960"/>
              <a:ext cx="315720" cy="154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500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6600" y="2352600"/>
              <a:ext cx="31572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6536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0188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384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3224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876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626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19560" y="296532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38680" y="2965320"/>
              <a:ext cx="31464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5280" y="212220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071880" y="2275920"/>
              <a:ext cx="787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441520" y="2352600"/>
              <a:ext cx="13381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8480" y="25826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888920" y="2965320"/>
              <a:ext cx="14972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5000" y="2734920"/>
              <a:ext cx="11811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16160" y="2582640"/>
              <a:ext cx="3160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6160" y="258264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2680" y="2276280"/>
              <a:ext cx="6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25720" y="2965320"/>
              <a:ext cx="393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3040" y="2582640"/>
              <a:ext cx="2365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25840" y="56451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93960" y="56451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40080" y="56451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12760" y="20462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3920" y="204624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78920" y="204624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5640" y="528624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00360" y="470988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71880" y="495756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7964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2960" y="534024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0000" y="4727520"/>
              <a:ext cx="39384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570F-6660-4929-BA63-445619CDDB8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7532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ages of the DW desig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Concepts are still fuzz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         frequently chan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ts of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 interview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No ti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a full, clean-cut definition of the DW and the ETL workf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, we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e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mapp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attributes of the data sources to the attributes of the DW t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e 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necessary constraints and transforma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ETL pro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02280" y="3274920"/>
            <a:ext cx="1773360" cy="1378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187344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6443640" y="5300640"/>
            <a:ext cx="2232000" cy="432000"/>
            <a:chOff x="6443640" y="5300640"/>
            <a:chExt cx="2232000" cy="432000"/>
          </a:xfrm>
        </p:grpSpPr>
        <p:sp>
          <p:nvSpPr>
            <p:cNvPr id="170" name=""/>
            <p:cNvSpPr/>
            <p:nvPr/>
          </p:nvSpPr>
          <p:spPr>
            <a:xfrm>
              <a:off x="7091640" y="5516640"/>
              <a:ext cx="936360" cy="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3640" y="5373720"/>
              <a:ext cx="64800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1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07280" y="5300640"/>
              <a:ext cx="503280" cy="432000"/>
            </a:xfrm>
            <a:prstGeom prst="hexagon">
              <a:avLst>
                <a:gd name="adj" fmla="val 2912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5373720"/>
              <a:ext cx="64764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W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6CB6-6629-48AA-A451-238675FB34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 neces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0% of the development time in a DW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-house development, ad-hoc solu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relat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ront end of the DW has monopolized the research on the conceptual part of DW modeling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us, the design, development and deployment of ETL processes, need modeling and </a:t>
            </a:r>
            <a:r>
              <a:rPr b="1" i="1" lang="en-US" sz="2800" spc="-1" strike="noStrike">
                <a:solidFill>
                  <a:srgbClr val="5a84d8"/>
                </a:solidFill>
                <a:latin typeface="Times New Roman"/>
              </a:rPr>
              <a:t>methodological foundations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0F3E-02EC-40CC-B223-A963F145E3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tribu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aper we build upon a previously published conceptual model for ETL proc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OLAP’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ntribution is a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, a set of design steps, in order to tr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interrelationship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ttributes and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cessary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ransforma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need to take place during the loading of the D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Design alternati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population of the D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9EA3-EC24-466F-BB23-4895FAD7B5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D332-9FDE-442B-9512-AE84FA1CC5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of our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-Of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ial Composition of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r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TL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didate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19A2-760B-4A3C-9E12-7006A5CAB8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8:59:21Z</dcterms:created>
  <dc:creator>Alkis Simitsis</dc:creator>
  <dc:description>asimi@dbnet.ece.ntua.gr</dc:description>
  <dc:language>en-US</dc:language>
  <cp:lastModifiedBy>Alkis Simitsis</cp:lastModifiedBy>
  <cp:lastPrinted>2003-06-02T23:28:50Z</cp:lastPrinted>
  <dcterms:modified xsi:type="dcterms:W3CDTF">2003-06-15T23:38:03Z</dcterms:modified>
  <cp:revision>95</cp:revision>
  <dc:subject>Presentation - DSE'03</dc:subject>
  <dc:title>A Methodology for the Conceptual Modeling of ETL Processes</dc:title>
</cp:coreProperties>
</file>