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F4D8-B4FB-481D-B904-C0CA001F4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EE5A-D4C2-4B4A-9E06-616E46C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8E1C-EEC6-4CB7-AC98-ED7328C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188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972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188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972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6DDF-E347-46AC-A1F6-4D05856A37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BFC0-BC88-4C23-847A-BE428483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AE841-ED7A-4EDC-9FF6-C208F9B9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7C78E-31AA-424A-BF6C-952DE28B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3E343-3677-4EFD-9B3D-B7F1075E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0F479-4B7C-4EF2-8F04-611097D5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9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F351D-1499-4855-8E10-A8C2323E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61420-AABA-43AA-9127-40C675A7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5EDD-5C53-48F2-817F-16AC3DAD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81084-EE3E-4EF1-AC33-4915DD5A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3C488-D486-4A94-8303-0C3BC4D5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5DACE-B835-469F-B7B2-F150547A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DCDC7-7165-4E0B-9AA0-F3E8EF89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188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09720" y="159984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188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09720" y="4059360"/>
            <a:ext cx="256896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A9B00-FC54-4C19-8180-48E413A8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626E-9600-4B60-9836-05EA6DDE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F02A3-9F11-40BC-8EDB-116DA55A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3F39-191C-4777-BA7F-C62B92C6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77560"/>
            <a:ext cx="797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7011-80E1-43A2-82BD-1E6D68E4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6AAE0-34B1-4F65-932F-D599B523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2560" y="405936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4907-36D1-4BD9-A2BA-DF6580B1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2560" y="1599840"/>
            <a:ext cx="38934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059360"/>
            <a:ext cx="797868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4455F-2C5B-4650-94E1-81D5B3E2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630864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0880" y="1413000"/>
            <a:ext cx="8305920" cy="236160"/>
            <a:chOff x="380880" y="1413000"/>
            <a:chExt cx="8305920" cy="236160"/>
          </a:xfrm>
        </p:grpSpPr>
        <p:sp>
          <p:nvSpPr>
            <p:cNvPr id="2" name=""/>
            <p:cNvSpPr/>
            <p:nvPr/>
          </p:nvSpPr>
          <p:spPr>
            <a:xfrm>
              <a:off x="6858000" y="1413000"/>
              <a:ext cx="1828800" cy="2361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0880" y="1511640"/>
              <a:ext cx="830592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78920" y="6453000"/>
            <a:ext cx="6480360" cy="25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92720" y="6453000"/>
            <a:ext cx="1904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694F-59DD-4B30-87A2-BF59AC52B2F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08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763120" cy="6236640"/>
            <a:chOff x="0" y="0"/>
            <a:chExt cx="8763120" cy="623664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752480" cy="511776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0" y="3678480"/>
              <a:ext cx="8763120" cy="2558160"/>
              <a:chOff x="0" y="3678480"/>
              <a:chExt cx="8763120" cy="2558160"/>
            </a:xfrm>
          </p:grpSpPr>
          <p:sp>
            <p:nvSpPr>
              <p:cNvPr id="48" name=""/>
              <p:cNvSpPr/>
              <p:nvPr/>
            </p:nvSpPr>
            <p:spPr>
              <a:xfrm>
                <a:off x="990720" y="3678480"/>
                <a:ext cx="7772400" cy="25581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038240" y="3918240"/>
                <a:ext cx="7648560" cy="2243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511740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35040" y="559800"/>
              <a:ext cx="8077320" cy="318960"/>
              <a:chOff x="635040" y="559800"/>
              <a:chExt cx="8077320" cy="318960"/>
            </a:xfrm>
          </p:grpSpPr>
          <p:sp>
            <p:nvSpPr>
              <p:cNvPr id="52" name=""/>
              <p:cNvSpPr/>
              <p:nvPr/>
            </p:nvSpPr>
            <p:spPr>
              <a:xfrm>
                <a:off x="6273720" y="559800"/>
                <a:ext cx="2438640" cy="3189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35040" y="71928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B34-47F0-4A6F-8D8D-24EF9E949F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5a3d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5280" y="1196640"/>
            <a:ext cx="691344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 Framework for the Design of ETL Scenarios 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4720" y="4005360"/>
            <a:ext cx="7704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os Vassiliadi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kis Simitsi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anos Georganta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Manolis Terroviti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vassil@cs.uoi.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versity of Ioannina, Dept. of Computer Sci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asimi,pgeor,mter}@dbnet.ece.ntua.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Technical University of Athe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t. of Electrical and Computer Eng. , KDBS Laborat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Preliminar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95760" y="3716280"/>
            <a:ext cx="1066680" cy="5572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6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4365720"/>
            <a:ext cx="114300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67120" y="2467080"/>
            <a:ext cx="53352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043080"/>
            <a:ext cx="1105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5013360"/>
            <a:ext cx="11430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88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$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543480" y="1773360"/>
            <a:ext cx="1180800" cy="533160"/>
            <a:chOff x="3543480" y="1773360"/>
            <a:chExt cx="1180800" cy="533160"/>
          </a:xfrm>
        </p:grpSpPr>
        <p:sp>
          <p:nvSpPr>
            <p:cNvPr id="184" name=""/>
            <p:cNvSpPr/>
            <p:nvPr/>
          </p:nvSpPr>
          <p:spPr>
            <a:xfrm>
              <a:off x="3543480" y="1773360"/>
              <a:ext cx="1180800" cy="533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38520" y="18334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nte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9D95-B55C-4DD6-A41C-68190D3032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Relationship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53640" y="1599840"/>
            <a:ext cx="78994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-Of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-Of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Provi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715000" y="2438280"/>
            <a:ext cx="1750680" cy="303840"/>
            <a:chOff x="5715000" y="2438280"/>
            <a:chExt cx="1750680" cy="303840"/>
          </a:xfrm>
        </p:grpSpPr>
        <p:sp>
          <p:nvSpPr>
            <p:cNvPr id="189" name=""/>
            <p:cNvSpPr/>
            <p:nvPr/>
          </p:nvSpPr>
          <p:spPr>
            <a:xfrm>
              <a:off x="5715000" y="2438280"/>
              <a:ext cx="569160" cy="3038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"/>
            <p:cNvCxnSpPr>
              <a:stCxn id="189" idx="3"/>
            </p:cNvCxnSpPr>
            <p:nvPr/>
          </p:nvCxnSpPr>
          <p:spPr>
            <a:xfrm>
              <a:off x="6283800" y="2589840"/>
              <a:ext cx="1182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91" name=""/>
          <p:cNvSpPr/>
          <p:nvPr/>
        </p:nvSpPr>
        <p:spPr>
          <a:xfrm>
            <a:off x="5791320" y="373392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15000" y="3200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5720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19810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71D3-848D-4E3F-98B1-893C2E37E2C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53640" y="1599840"/>
            <a:ext cx="78994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Sche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Operational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2556000"/>
            <a:ext cx="1292400" cy="1143000"/>
          </a:xfrm>
          <a:custGeom>
            <a:avLst/>
            <a:gdLst/>
            <a:ahLst/>
            <a:rect l="l" t="t" r="r" b="b"/>
            <a:pathLst>
              <a:path w="912" h="861">
                <a:moveTo>
                  <a:pt x="912" y="430"/>
                </a:moveTo>
                <a:lnTo>
                  <a:pt x="1" y="0"/>
                </a:lnTo>
                <a:lnTo>
                  <a:pt x="0" y="861"/>
                </a:lnTo>
                <a:lnTo>
                  <a:pt x="912" y="430"/>
                </a:lnTo>
                <a:close/>
              </a:path>
            </a:pathLst>
          </a:custGeom>
          <a:solidFill>
            <a:srgbClr val="ffff99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35440" y="2801880"/>
            <a:ext cx="1197000" cy="276120"/>
          </a:xfrm>
          <a:prstGeom prst="line">
            <a:avLst/>
          </a:prstGeom>
          <a:ln w="14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735080" y="3314880"/>
            <a:ext cx="1197000" cy="512640"/>
          </a:xfrm>
          <a:prstGeom prst="line">
            <a:avLst/>
          </a:prstGeom>
          <a:ln w="14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18000" y="2119320"/>
            <a:ext cx="460440" cy="63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11840" y="2697120"/>
            <a:ext cx="120600" cy="136440"/>
          </a:xfrm>
          <a:custGeom>
            <a:avLst/>
            <a:gdLst/>
            <a:ahLst/>
            <a:rect l="l" t="t" r="r" b="b"/>
            <a:pathLst>
              <a:path w="76" h="86">
                <a:moveTo>
                  <a:pt x="76" y="86"/>
                </a:moveTo>
                <a:lnTo>
                  <a:pt x="0" y="46"/>
                </a:lnTo>
                <a:lnTo>
                  <a:pt x="4" y="44"/>
                </a:lnTo>
                <a:lnTo>
                  <a:pt x="9" y="43"/>
                </a:lnTo>
                <a:lnTo>
                  <a:pt x="13" y="42"/>
                </a:lnTo>
                <a:lnTo>
                  <a:pt x="17" y="40"/>
                </a:lnTo>
                <a:lnTo>
                  <a:pt x="21" y="39"/>
                </a:lnTo>
                <a:lnTo>
                  <a:pt x="26" y="36"/>
                </a:lnTo>
                <a:lnTo>
                  <a:pt x="30" y="34"/>
                </a:lnTo>
                <a:lnTo>
                  <a:pt x="34" y="32"/>
                </a:lnTo>
                <a:lnTo>
                  <a:pt x="39" y="29"/>
                </a:lnTo>
                <a:lnTo>
                  <a:pt x="42" y="26"/>
                </a:lnTo>
                <a:lnTo>
                  <a:pt x="46" y="23"/>
                </a:lnTo>
                <a:lnTo>
                  <a:pt x="49" y="19"/>
                </a:lnTo>
                <a:lnTo>
                  <a:pt x="52" y="16"/>
                </a:lnTo>
                <a:lnTo>
                  <a:pt x="54" y="11"/>
                </a:lnTo>
                <a:lnTo>
                  <a:pt x="57" y="9"/>
                </a:lnTo>
                <a:lnTo>
                  <a:pt x="60" y="4"/>
                </a:lnTo>
                <a:lnTo>
                  <a:pt x="63" y="0"/>
                </a:lnTo>
                <a:lnTo>
                  <a:pt x="76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451640" y="2644920"/>
            <a:ext cx="1066680" cy="761760"/>
            <a:chOff x="7451640" y="2644920"/>
            <a:chExt cx="1066680" cy="761760"/>
          </a:xfrm>
        </p:grpSpPr>
        <p:sp>
          <p:nvSpPr>
            <p:cNvPr id="203" name=""/>
            <p:cNvSpPr/>
            <p:nvPr/>
          </p:nvSpPr>
          <p:spPr>
            <a:xfrm>
              <a:off x="7451640" y="2644920"/>
              <a:ext cx="1066680" cy="7617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08320" y="2919240"/>
              <a:ext cx="55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001200" y="2835360"/>
            <a:ext cx="60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73640" y="1844640"/>
            <a:ext cx="11876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23040" y="3127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479840" y="2505240"/>
            <a:ext cx="1066680" cy="761760"/>
            <a:chOff x="4479840" y="2505240"/>
            <a:chExt cx="1066680" cy="761760"/>
          </a:xfrm>
        </p:grpSpPr>
        <p:sp>
          <p:nvSpPr>
            <p:cNvPr id="209" name=""/>
            <p:cNvSpPr/>
            <p:nvPr/>
          </p:nvSpPr>
          <p:spPr>
            <a:xfrm>
              <a:off x="4479840" y="2505240"/>
              <a:ext cx="1066680" cy="76176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36520" y="277956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479840" y="3343320"/>
            <a:ext cx="1066680" cy="762120"/>
            <a:chOff x="4479840" y="3343320"/>
            <a:chExt cx="1066680" cy="762120"/>
          </a:xfrm>
        </p:grpSpPr>
        <p:sp>
          <p:nvSpPr>
            <p:cNvPr id="212" name=""/>
            <p:cNvSpPr/>
            <p:nvPr/>
          </p:nvSpPr>
          <p:spPr>
            <a:xfrm>
              <a:off x="4479840" y="3343320"/>
              <a:ext cx="1066680" cy="762120"/>
            </a:xfrm>
            <a:prstGeom prst="can">
              <a:avLst>
                <a:gd name="adj" fmla="val 25000"/>
              </a:avLst>
            </a:prstGeom>
            <a:solidFill>
              <a:srgbClr val="ffcc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36520" y="361800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1"/>
          <a:srcRect l="23339" t="23622" r="23339" b="23055"/>
          <a:stretch/>
        </p:blipFill>
        <p:spPr>
          <a:xfrm>
            <a:off x="6004080" y="30639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3B70-52EB-4C47-A1C6-6721148128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907920" y="1844640"/>
            <a:ext cx="7696080" cy="4419360"/>
            <a:chOff x="907920" y="1844640"/>
            <a:chExt cx="7696080" cy="4419360"/>
          </a:xfrm>
        </p:grpSpPr>
        <p:sp>
          <p:nvSpPr>
            <p:cNvPr id="216" name=""/>
            <p:cNvSpPr/>
            <p:nvPr/>
          </p:nvSpPr>
          <p:spPr>
            <a:xfrm>
              <a:off x="7403760" y="1844640"/>
              <a:ext cx="1200240" cy="2793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34240" y="1845720"/>
              <a:ext cx="3812760" cy="2793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49040" y="3151800"/>
              <a:ext cx="705960" cy="574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037600" y="2413440"/>
              <a:ext cx="917640" cy="1969560"/>
              <a:chOff x="2037600" y="2413440"/>
              <a:chExt cx="917640" cy="1969560"/>
            </a:xfrm>
          </p:grpSpPr>
          <p:sp>
            <p:nvSpPr>
              <p:cNvPr id="220" name=""/>
              <p:cNvSpPr/>
              <p:nvPr/>
            </p:nvSpPr>
            <p:spPr>
              <a:xfrm>
                <a:off x="2037600" y="2413440"/>
                <a:ext cx="917640" cy="19695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49280" y="257724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49280" y="301500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49280" y="345240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49280" y="389052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1755000" y="339768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403760" y="2421360"/>
              <a:ext cx="917640" cy="1969560"/>
              <a:chOff x="7403760" y="2421360"/>
              <a:chExt cx="917640" cy="1969560"/>
            </a:xfrm>
          </p:grpSpPr>
          <p:sp>
            <p:nvSpPr>
              <p:cNvPr id="227" name=""/>
              <p:cNvSpPr/>
              <p:nvPr/>
            </p:nvSpPr>
            <p:spPr>
              <a:xfrm>
                <a:off x="7403760" y="2421360"/>
                <a:ext cx="917640" cy="196956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15440" y="258516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15440" y="302292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15440" y="346032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5440" y="3898440"/>
                <a:ext cx="493920" cy="328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4469760" y="2046600"/>
              <a:ext cx="808560" cy="491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360" y="2128320"/>
              <a:ext cx="56448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.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59680" y="4464720"/>
              <a:ext cx="0" cy="65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34240" y="2413440"/>
              <a:ext cx="705960" cy="196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05160" y="2576520"/>
              <a:ext cx="49392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05160" y="3014280"/>
              <a:ext cx="49392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5160" y="3452040"/>
              <a:ext cx="493920" cy="329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05160" y="3891240"/>
              <a:ext cx="493920" cy="326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41040" y="2421360"/>
              <a:ext cx="705960" cy="1969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82160" y="258552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82160" y="302328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82160" y="3461040"/>
              <a:ext cx="494280" cy="327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82160" y="3898800"/>
              <a:ext cx="494280" cy="328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375360" y="225648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11600" y="225648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57840" y="1873080"/>
              <a:ext cx="17474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PULATED_FIE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560" y="2741040"/>
              <a:ext cx="561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3560" y="4055760"/>
              <a:ext cx="561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43560" y="3151800"/>
              <a:ext cx="561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0320" y="3645360"/>
              <a:ext cx="5644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99080" y="2748600"/>
              <a:ext cx="26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99080" y="3159360"/>
              <a:ext cx="26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652920"/>
              <a:ext cx="26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9080" y="4063320"/>
              <a:ext cx="268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47000" y="2748600"/>
              <a:ext cx="561600" cy="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47000" y="4063320"/>
              <a:ext cx="56160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7000" y="3159360"/>
              <a:ext cx="56160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43760" y="3652920"/>
              <a:ext cx="56448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1400" y="3350880"/>
              <a:ext cx="141120" cy="8280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82760" y="2256480"/>
              <a:ext cx="423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00400" y="1845720"/>
              <a:ext cx="0" cy="2792160"/>
            </a:xfrm>
            <a:prstGeom prst="line">
              <a:avLst/>
            </a:prstGeom>
            <a:ln w="255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77080" y="5121720"/>
              <a:ext cx="3318120" cy="11422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5360" indent="-22536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ELECT IN.A1 AS OUT.A1, IN.A2 AS OUT.A2,IN.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AS OUT.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,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IN.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 AS OUT.A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FROM NOTNULL_A1.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WHERE IN.A1 NOT NU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33960" y="1873080"/>
              <a:ext cx="988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NotNull_A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395800">
              <a:off x="1966320" y="5277240"/>
              <a:ext cx="723960" cy="57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2080" y="5367240"/>
              <a:ext cx="705600" cy="41040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58600" y="5029560"/>
              <a:ext cx="98820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NotNull_A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88040" y="5577120"/>
              <a:ext cx="35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395800">
              <a:off x="2923200" y="5267880"/>
              <a:ext cx="724320" cy="5752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44920" y="5568480"/>
              <a:ext cx="3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59440" y="4464720"/>
              <a:ext cx="16239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UT OPERA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MAN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8080" y="5039640"/>
              <a:ext cx="98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K_A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83800" y="5568480"/>
              <a:ext cx="352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98200" y="5468760"/>
              <a:ext cx="988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07920" y="4956840"/>
              <a:ext cx="3742200" cy="123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8480" y="4744080"/>
              <a:ext cx="9882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0F51-4FFC-4C37-ACD6-D8CFEA51E96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Logical Model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55640" y="1881360"/>
            <a:ext cx="7920000" cy="38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7BFE0-66D3-4F4A-9163-8DD1F59DD03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C90E-E94F-4032-8658-766295AD76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835280" y="1763640"/>
          <a:ext cx="6049800" cy="44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63640"/>
                    <a:ext cx="6049800" cy="44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D43F-EEAD-4385-87F1-30C714B1200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ical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Unary oper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nary oper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trans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ransfer oper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le opera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r-Defined patter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7FCF-E228-4443-AD2F-AD0AC8ECE6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emplate A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formally defin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Na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Parameter 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Expressio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Mapp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model supports LDL as the formalism for the expression of this 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BF09-CB0E-4B3A-8DDE-E2D603D234B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Template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 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substitution mechanis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ased on macr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acilitates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automatic cre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LDL co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imple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no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instantiation mechan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ermits the easy and fast registration of LDL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3868-A059-4DA3-BA50-9508A2789E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General Idea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eed for a generic metamodel for the definition of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data-centric 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ETL activ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declarative specification of the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data semantic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activ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alette of frequently-used ETL activities (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templ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uniform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extensibili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mechanism for the library of built-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too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for the design of ETL scenari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687DD-F483-458F-8ED4-0E021BCF97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template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imple language featuring four main mechanisms for dynamic production of LD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are replaced by their values at instantiati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ityOf(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that returns the arity of an input, output or parameter sch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loo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where the loop body is repeated at instantiation time as many times as the iterator constraint def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keywo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simplify the creation of unique predicate and attribut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86E39-94A0-476E-8349-938969397F0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tiation Mechan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instantiation order is as follow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95a3d1"/>
                </a:solidFill>
                <a:latin typeface="Courier New"/>
              </a:rPr>
              <a:t>arityOf()</a:t>
            </a: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 function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parameter variabl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ppearing in loop boundaries are calculated fir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loop production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done by instantiating the appearances of the iterato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rest of the </a:t>
            </a: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parameter variables</a:t>
            </a:r>
            <a:r>
              <a:rPr b="1" lang="en-US" sz="23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re instantiated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5a3d1"/>
                </a:solidFill>
                <a:latin typeface="Times New Roman"/>
              </a:rPr>
              <a:t>keyword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recognized and renam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antiation order is important, since, different orders can lead to different resul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1FF3-4100-4258-83D8-A6D6CD49BC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nstantiation mechanism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Temp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“function applicatio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_out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[i&lt;arityOf(a_in)+1]{A_OUT_$i$,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OUTFIELD) &lt;-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_in(</a:t>
            </a: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[i&lt;arityOf(a_in)]{A_IN_$i$,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Courier New"/>
              </a:rPr>
              <a:t>[i= arityOf(a_in)]{A_IN_$i$})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@FUNCTION([i&lt; arityOf(@PARAM[$i$])+1]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{@PARAM[$i$],} OUTFIELD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Courier New"/>
              </a:rPr>
              <a:t>[i&lt;arityOf(a_in)] {A_OUT_$i$=A_IN_$i$,}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 [i=arityOf(a_in)] {A_OUT_$i$=A_IN_$i$}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mean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all the attributes of the output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are p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from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all the attributes of the input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with a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ra function applied (using its parameters), and a standard return valu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FIEL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func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99"/>
                </a:solidFill>
                <a:latin typeface="Times New Roman"/>
              </a:rPr>
              <a:t>and </a:t>
            </a: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the input attributes are mapped to the output attribu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82BD6-92CB-40F7-8DB3-83B60CD9924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nstantiation mechanism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Temp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[i&lt;arityOf(a_in)+1]{A_OUT_$i$,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UTFIELD) &lt;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a_in(</a:t>
            </a:r>
            <a:r>
              <a:rPr b="1" lang="en-US" sz="1900" spc="-1" strike="noStrike">
                <a:solidFill>
                  <a:srgbClr val="000099"/>
                </a:solidFill>
                <a:latin typeface="Courier New"/>
              </a:rPr>
              <a:t>[i&lt;arityOf(a_in)]{A_IN_$i$,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99"/>
                </a:solidFill>
                <a:latin typeface="Courier New"/>
              </a:rPr>
              <a:t>[i= arityOf(a_in)]{A_IN_$i$})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886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@FUNCTION([i&lt; arityOf(@PARAM[$i$])+1]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{@PARAM[$i$],} OUTFIELD),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[i&lt;arityOf(a_in)] {A_OUT_$i$=A_IN_$i$,}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[i=arityOf(a_in)] {A_OUT_$i$=A_IN_$i$}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Loop produ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A_OUT_1, A_OUT_2, A_OUT_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OUTFIELD) &lt;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a_in(A_IN_1, A_IN_2, A_IN_3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FUNCTION(@PARAM[1],@PARAM[2],OUTFIEL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A_OUT_1=A_IN_1,A_OUT_2=A_IN_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_OUT_3=A_IN_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5248-A23C-4E87-9BCF-9F302ED2EC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nstantiation mechanism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Loop produ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(A_OUT_1, A_OUT_2, A_OUT_3, OUTFIELD) &lt;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in(A_IN_1, A_IN_2, A_IN_3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@FUNCTION(@PARAM[1],@PARAM[2]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FIEL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_1=A_IN_1,A_OUT_2=A_IN_2,A_OUT_3=A_IN_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Variable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(A_OUT_1, A_OUT_2, A_OUT_3, OUTFIELD)&lt;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in(A_IN_1, A_IN_2, A_IN_3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f1(A_IN_2, A_IN_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OUTFIEL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_OUT_1=A_IN_1, A_OUT_2=A_IN_2, A_OUT_3=A_IN_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3645000"/>
            <a:ext cx="2880000" cy="1191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@FUNCTION =f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@PARAM[1]=A_IN_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@PARAM[2]=A_IN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3B62-6AE9-4FCD-AB2B-C4E3233AA67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nstantiation mechanism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2803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Variable Insta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_out(A_OUT_1, A_OUT_2, A_OUT_3, OUTFIELD)&lt;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_in(A_IN_1, A_IN_2, A_IN_3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(A_IN_2, A_IN_3,OUTFIEL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_OUT_1=A_IN_1, A_OUT_2=A_IN_2, A_OUT_3=A_IN_3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6699"/>
                </a:solidFill>
                <a:latin typeface="Times New Roman"/>
              </a:rPr>
              <a:t>Keyword Renam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12_out(FA12_OUT_1, FA12_OUT_2, FA12_OUT_3, OUTFIELD)&lt;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fa12_in(FA12_IN_1, FA12_IN_2, FA12_IN_3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(FA12_IN_2, FA12_IN_3,OUTFIELD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12_OUT_1=FA12_IN_1, FA12_OUT_2=FA12_IN_2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12_OUT_3= FA12_IN_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862B-D976-4DE3-8F00-8B1EF7EBAF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Taxono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e separate template activities in two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Simple Templ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cover single-predicate templ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a84d8"/>
                </a:solidFill>
                <a:latin typeface="Times New Roman"/>
              </a:rPr>
              <a:t>Program-Based Templat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where many predicates are used in the template defini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C90B-85BD-477F-9D00-9C8A75BF8AE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53D79-BF35-4A36-9FC9-CE56B6AEFF9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mplementation – A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RKTOS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 II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4d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5a84d8"/>
                </a:solidFill>
                <a:latin typeface="Times New Roman"/>
              </a:rPr>
              <a:t>RKTOS</a:t>
            </a:r>
            <a:r>
              <a:rPr b="1" lang="en-US" sz="2400" spc="-1" strike="noStrike">
                <a:solidFill>
                  <a:srgbClr val="5a84d8"/>
                </a:solidFill>
                <a:latin typeface="Times New Roman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tool for the design of ETL sce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84d8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5a84d8"/>
                </a:solidFill>
                <a:latin typeface="Times New Roman"/>
              </a:rPr>
              <a:t>RKTOS</a:t>
            </a:r>
            <a:r>
              <a:rPr b="1" lang="en-US" sz="2400" spc="-1" strike="noStrike">
                <a:solidFill>
                  <a:srgbClr val="5a84d8"/>
                </a:solidFill>
                <a:latin typeface="Times New Roman"/>
              </a:rPr>
              <a:t> 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function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friendly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GU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t of reusable, customizable and extensible ‘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templat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metadata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reposito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storing, retrieving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ing scenar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zoom-in/zoom-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pabilit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matic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consistency check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 the completeness and integrity of the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mputation of the scenario's design quality by employing a set of </a:t>
            </a:r>
            <a:r>
              <a:rPr b="0" lang="en-US" sz="2200" spc="-1" strike="noStrike">
                <a:solidFill>
                  <a:srgbClr val="5a84d8"/>
                </a:solidFill>
                <a:latin typeface="Times New Roman"/>
              </a:rPr>
              <a:t>metr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DMDW’02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ither for the whole scenario or for each activity of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2382-BE4F-4CF0-9773-16CE827281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mplementation – A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RKTOS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 II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55640" y="1881360"/>
            <a:ext cx="7920000" cy="38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131AD-E5AD-4B69-B577-B318D961586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0AF3-7FE9-4CA8-9097-FF2AF7017A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Implementation – A</a:t>
            </a:r>
            <a:r>
              <a:rPr b="0" lang="en-US" sz="3800" spc="-1" strike="noStrike">
                <a:solidFill>
                  <a:srgbClr val="660033"/>
                </a:solidFill>
                <a:latin typeface="Times New Roman"/>
              </a:rPr>
              <a:t>RKTOS</a:t>
            </a: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 II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973080" y="1744560"/>
            <a:ext cx="7775640" cy="45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9EF4-EB38-4B4B-9333-020BACBE3E7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4E12-046C-4BAD-A811-EE2C5CCC5DE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lusion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a </a:t>
            </a: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framewor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design of ETL scenarios, that comprise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ormal logical Metamodel as a logical abstraction of ETL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usability framework that complements the genericity of the Meta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raphical tool, 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K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I, that facilitates the design of ETL scenarios, based on our mode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D72B-573E-425F-ADAC-1D33F65013E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n-going/Future Work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900" spc="-1" strike="noStrike">
                <a:solidFill>
                  <a:srgbClr val="5a84d8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5a84d8"/>
                </a:solidFill>
                <a:latin typeface="Times New Roman"/>
              </a:rPr>
              <a:t>RKTOS</a:t>
            </a:r>
            <a:r>
              <a:rPr b="1" lang="en-US" sz="2900" spc="-1" strike="noStrike">
                <a:solidFill>
                  <a:srgbClr val="5a84d8"/>
                </a:solidFill>
                <a:latin typeface="Times New Roman"/>
              </a:rPr>
              <a:t> II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project 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s aimed toward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ceptual mode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gical model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What-if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84d8"/>
                </a:solidFill>
                <a:latin typeface="Times New Roman"/>
              </a:rPr>
              <a:t>Practical evaluation (?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f ETL scenario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http://www.dbnet.ece.ntua.g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5a84d8"/>
                </a:solidFill>
                <a:latin typeface="Times New Roman"/>
              </a:rPr>
              <a:t>~pvassil/projects/arktos_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72360" y="5013360"/>
            <a:ext cx="2251080" cy="99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60AC-9ADF-429A-AD87-3FAE29EAA7C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55640" y="2573280"/>
            <a:ext cx="81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hank yo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FE40-1C64-49E5-9D18-2DD572134515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069080" y="321948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-up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8AD5-1956-4DCC-BEF0-7C7BC1022E08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Templates for ETL activiti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9146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t null (N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ary key violation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eign key violation (F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ique value (U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main mismatch D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ry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gregation (γ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j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applica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rrogate key assignment(S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uple normalization (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uple denormalization (D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ion (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oin (</a:t>
            </a:r>
            <a:r>
              <a:rPr b="0" lang="en-US" sz="1400" spc="-1" strike="noStrike">
                <a:solidFill>
                  <a:srgbClr val="000000"/>
                </a:solidFill>
                <a:latin typeface="MT Extra"/>
                <a:ea typeface="MT Extra"/>
              </a:rPr>
              <a:t>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pdate Det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Δ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UP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8440" y="1599840"/>
            <a:ext cx="39146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transform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owly changing dimension (Type 1,2,3) (SDC-1/2/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mat mismatch (F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type conversion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TC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 (σ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ed union (U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BCDIC to ASCII conversion (EB2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rt file (Sor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 (FT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ress/Decompress (Z/d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crypt/Decrypt (Cr/dC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EDB0F-E3E9-463C-A12A-980AB9501A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754200" y="1700280"/>
            <a:ext cx="8210520" cy="2655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976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2280" y="3943440"/>
            <a:ext cx="361800" cy="28404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41880" y="3943440"/>
            <a:ext cx="362160" cy="28404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390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0400" y="2687760"/>
            <a:ext cx="361800" cy="28548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4502160"/>
            <a:ext cx="3859200" cy="1728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4200" y="4575240"/>
            <a:ext cx="1123920" cy="169056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4153320" y="2046960"/>
            <a:ext cx="512640" cy="654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25880" y="2346480"/>
            <a:ext cx="65088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938760" y="1938240"/>
            <a:ext cx="94104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PPKEY=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>
            <a:stCxn id="337" idx="2"/>
            <a:endCxn id="335" idx="1"/>
          </p:cNvCxnSpPr>
          <p:nvPr/>
        </p:nvCxnSpPr>
        <p:spPr>
          <a:xfrm flipH="1">
            <a:off x="4408200" y="2025720"/>
            <a:ext cx="216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rot="5400000">
            <a:off x="5022000" y="204876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2340000"/>
            <a:ext cx="43524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07080" y="1766880"/>
            <a:ext cx="942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41" idx="2"/>
            <a:endCxn id="339" idx="1"/>
          </p:cNvCxnSpPr>
          <p:nvPr/>
        </p:nvCxnSpPr>
        <p:spPr>
          <a:xfrm>
            <a:off x="5279760" y="2055600"/>
            <a:ext cx="108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 rot="5400000">
            <a:off x="5963760" y="2049480"/>
            <a:ext cx="512640" cy="649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96080" y="2340000"/>
            <a:ext cx="43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2€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749920" y="1946160"/>
            <a:ext cx="9414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"/>
          <p:cNvCxnSpPr>
            <a:stCxn id="345" idx="2"/>
            <a:endCxn id="343" idx="1"/>
          </p:cNvCxnSpPr>
          <p:nvPr/>
        </p:nvCxnSpPr>
        <p:spPr>
          <a:xfrm>
            <a:off x="6221160" y="2031840"/>
            <a:ext cx="10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 rot="5400000">
            <a:off x="6904800" y="204876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92760" y="1946160"/>
            <a:ext cx="9432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48" idx="2"/>
            <a:endCxn id="347" idx="1"/>
          </p:cNvCxnSpPr>
          <p:nvPr/>
        </p:nvCxnSpPr>
        <p:spPr>
          <a:xfrm flipH="1">
            <a:off x="7162560" y="2031840"/>
            <a:ext cx="36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3073320" y="3371760"/>
            <a:ext cx="72396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4156560" y="3301200"/>
            <a:ext cx="513000" cy="6537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043520" y="3592440"/>
            <a:ext cx="650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43440" y="3200400"/>
            <a:ext cx="93960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UPPKEY=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2"/>
            <a:endCxn id="351" idx="1"/>
          </p:cNvCxnSpPr>
          <p:nvPr/>
        </p:nvCxnSpPr>
        <p:spPr>
          <a:xfrm flipH="1">
            <a:off x="4411440" y="3287880"/>
            <a:ext cx="360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 rot="5400000">
            <a:off x="502488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4680" y="3592440"/>
            <a:ext cx="43344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21120" y="3059280"/>
            <a:ext cx="943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7" idx="2"/>
            <a:endCxn id="355" idx="1"/>
          </p:cNvCxnSpPr>
          <p:nvPr/>
        </p:nvCxnSpPr>
        <p:spPr>
          <a:xfrm flipH="1">
            <a:off x="5283000" y="3366720"/>
            <a:ext cx="10080" cy="13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 rot="5400000">
            <a:off x="5967000" y="3303720"/>
            <a:ext cx="513000" cy="649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753160" y="3200400"/>
            <a:ext cx="93960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"/>
          <p:cNvCxnSpPr>
            <a:stCxn id="360" idx="2"/>
            <a:endCxn id="359" idx="1"/>
          </p:cNvCxnSpPr>
          <p:nvPr/>
        </p:nvCxnSpPr>
        <p:spPr>
          <a:xfrm>
            <a:off x="6224400" y="3287520"/>
            <a:ext cx="10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 rot="5400000">
            <a:off x="690768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24720" y="3200400"/>
            <a:ext cx="108432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TE=SYS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63" idx="2"/>
            <a:endCxn id="362" idx="1"/>
          </p:cNvCxnSpPr>
          <p:nvPr/>
        </p:nvCxnSpPr>
        <p:spPr>
          <a:xfrm flipH="1">
            <a:off x="7165080" y="3287520"/>
            <a:ext cx="252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789600" y="3592440"/>
            <a:ext cx="63180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ddDat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7839720" y="3302640"/>
            <a:ext cx="51300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737480" y="3592440"/>
            <a:ext cx="736560" cy="1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CheckQT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62880" y="3200400"/>
            <a:ext cx="106056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QTY&gt;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8" idx="2"/>
            <a:endCxn id="366" idx="1"/>
          </p:cNvCxnSpPr>
          <p:nvPr/>
        </p:nvCxnSpPr>
        <p:spPr>
          <a:xfrm>
            <a:off x="8092800" y="3287520"/>
            <a:ext cx="396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 rot="5400000">
            <a:off x="8091000" y="2168280"/>
            <a:ext cx="512640" cy="6526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20080" y="2467080"/>
            <a:ext cx="43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"/>
          <p:cNvCxnSpPr>
            <a:stCxn id="335" idx="0"/>
            <a:endCxn id="339" idx="3"/>
          </p:cNvCxnSpPr>
          <p:nvPr/>
        </p:nvCxnSpPr>
        <p:spPr>
          <a:xfrm>
            <a:off x="4735440" y="237312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339" idx="0"/>
            <a:endCxn id="343" idx="3"/>
          </p:cNvCxnSpPr>
          <p:nvPr/>
        </p:nvCxnSpPr>
        <p:spPr>
          <a:xfrm>
            <a:off x="5601960" y="2373120"/>
            <a:ext cx="292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43" idx="0"/>
            <a:endCxn id="347" idx="3"/>
          </p:cNvCxnSpPr>
          <p:nvPr/>
        </p:nvCxnSpPr>
        <p:spPr>
          <a:xfrm>
            <a:off x="6544800" y="237312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51" idx="0"/>
            <a:endCxn id="355" idx="3"/>
          </p:cNvCxnSpPr>
          <p:nvPr/>
        </p:nvCxnSpPr>
        <p:spPr>
          <a:xfrm>
            <a:off x="4738680" y="362700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55" idx="0"/>
            <a:endCxn id="359" idx="3"/>
          </p:cNvCxnSpPr>
          <p:nvPr/>
        </p:nvCxnSpPr>
        <p:spPr>
          <a:xfrm>
            <a:off x="5605200" y="362700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59" idx="0"/>
            <a:endCxn id="362" idx="3"/>
          </p:cNvCxnSpPr>
          <p:nvPr/>
        </p:nvCxnSpPr>
        <p:spPr>
          <a:xfrm>
            <a:off x="6548040" y="362700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62" idx="0"/>
            <a:endCxn id="366" idx="3"/>
          </p:cNvCxnSpPr>
          <p:nvPr/>
        </p:nvCxnSpPr>
        <p:spPr>
          <a:xfrm>
            <a:off x="7488360" y="3627000"/>
            <a:ext cx="28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50" idx="4"/>
            <a:endCxn id="351" idx="3"/>
          </p:cNvCxnSpPr>
          <p:nvPr/>
        </p:nvCxnSpPr>
        <p:spPr>
          <a:xfrm flipV="1">
            <a:off x="3797280" y="3626640"/>
            <a:ext cx="28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3070080" y="2117880"/>
            <a:ext cx="72396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"/>
          <p:cNvCxnSpPr>
            <a:stCxn id="380" idx="4"/>
            <a:endCxn id="335" idx="3"/>
          </p:cNvCxnSpPr>
          <p:nvPr/>
        </p:nvCxnSpPr>
        <p:spPr>
          <a:xfrm flipV="1">
            <a:off x="3794040" y="2373120"/>
            <a:ext cx="288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5097600" y="2789280"/>
            <a:ext cx="652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40160" y="254016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419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00480" y="404496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246640" y="379404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46640" y="37720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2338560"/>
            <a:ext cx="649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2ED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57920" y="3592440"/>
            <a:ext cx="6508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NotNUL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41880" y="4044960"/>
            <a:ext cx="652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88040" y="3794040"/>
            <a:ext cx="652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86600" y="37720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37200" y="2789280"/>
            <a:ext cx="654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83360" y="2540160"/>
            <a:ext cx="654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833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980400" y="2789280"/>
            <a:ext cx="65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122960" y="254016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124760" y="251604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252880" y="2049480"/>
            <a:ext cx="51408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84480" y="2335320"/>
            <a:ext cx="5126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928880" y="1827360"/>
            <a:ext cx="11588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>
            <a:stCxn id="401" idx="2"/>
            <a:endCxn id="399" idx="1"/>
          </p:cNvCxnSpPr>
          <p:nvPr/>
        </p:nvCxnSpPr>
        <p:spPr>
          <a:xfrm>
            <a:off x="2507760" y="2034720"/>
            <a:ext cx="2520" cy="21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1095480" y="1827360"/>
            <a:ext cx="725400" cy="5140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"/>
          <p:cNvCxnSpPr>
            <a:stCxn id="403" idx="4"/>
            <a:endCxn id="399" idx="3"/>
          </p:cNvCxnSpPr>
          <p:nvPr/>
        </p:nvCxnSpPr>
        <p:spPr>
          <a:xfrm>
            <a:off x="1820880" y="2084040"/>
            <a:ext cx="3643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1095480" y="2398680"/>
            <a:ext cx="72540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407" idx="0"/>
            <a:endCxn id="403" idx="2"/>
          </p:cNvCxnSpPr>
          <p:nvPr/>
        </p:nvCxnSpPr>
        <p:spPr>
          <a:xfrm flipH="1" flipV="1">
            <a:off x="1094760" y="2084040"/>
            <a:ext cx="1765800" cy="2870640"/>
          </a:xfrm>
          <a:prstGeom prst="bentConnector5">
            <a:avLst>
              <a:gd name="adj1" fmla="val -12520"/>
              <a:gd name="adj2" fmla="val 16254"/>
              <a:gd name="adj3" fmla="val 11435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5" idx="4"/>
            <a:endCxn id="399" idx="3"/>
          </p:cNvCxnSpPr>
          <p:nvPr/>
        </p:nvCxnSpPr>
        <p:spPr>
          <a:xfrm flipV="1">
            <a:off x="1820880" y="2374560"/>
            <a:ext cx="364320" cy="28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9" name=""/>
          <p:cNvSpPr/>
          <p:nvPr/>
        </p:nvSpPr>
        <p:spPr>
          <a:xfrm>
            <a:off x="5433840" y="4675320"/>
            <a:ext cx="725760" cy="5112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W.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7589520" y="4608360"/>
            <a:ext cx="51300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450200" y="4898880"/>
            <a:ext cx="79380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373880" y="4538520"/>
            <a:ext cx="9432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KEY, 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MIN(CO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"/>
          <p:cNvCxnSpPr>
            <a:stCxn id="412" idx="2"/>
            <a:endCxn id="410" idx="1"/>
          </p:cNvCxnSpPr>
          <p:nvPr/>
        </p:nvCxnSpPr>
        <p:spPr>
          <a:xfrm>
            <a:off x="7845120" y="4683240"/>
            <a:ext cx="3960" cy="12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4" name=""/>
          <p:cNvSpPr/>
          <p:nvPr/>
        </p:nvSpPr>
        <p:spPr>
          <a:xfrm rot="5400000">
            <a:off x="7588800" y="5453640"/>
            <a:ext cx="51444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50200" y="5745240"/>
            <a:ext cx="7538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73880" y="5270400"/>
            <a:ext cx="943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KEY, MONT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AVG(COST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16" idx="2"/>
            <a:endCxn id="414" idx="1"/>
          </p:cNvCxnSpPr>
          <p:nvPr/>
        </p:nvCxnSpPr>
        <p:spPr>
          <a:xfrm>
            <a:off x="7846560" y="54403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09" idx="4"/>
            <a:endCxn id="410" idx="3"/>
          </p:cNvCxnSpPr>
          <p:nvPr/>
        </p:nvCxnSpPr>
        <p:spPr>
          <a:xfrm>
            <a:off x="6159600" y="4930920"/>
            <a:ext cx="13593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9" name=""/>
          <p:cNvSpPr/>
          <p:nvPr/>
        </p:nvSpPr>
        <p:spPr>
          <a:xfrm>
            <a:off x="8461440" y="5580000"/>
            <a:ext cx="361800" cy="398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>
            <a:stCxn id="414" idx="0"/>
            <a:endCxn id="419" idx="2"/>
          </p:cNvCxnSpPr>
          <p:nvPr/>
        </p:nvCxnSpPr>
        <p:spPr>
          <a:xfrm>
            <a:off x="8170560" y="5780160"/>
            <a:ext cx="291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8461440" y="4735440"/>
            <a:ext cx="361800" cy="398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>
            <a:stCxn id="410" idx="0"/>
            <a:endCxn id="421" idx="2"/>
          </p:cNvCxnSpPr>
          <p:nvPr/>
        </p:nvCxnSpPr>
        <p:spPr>
          <a:xfrm>
            <a:off x="8170560" y="4933440"/>
            <a:ext cx="291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5429160" y="5518080"/>
            <a:ext cx="723960" cy="5144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5400000">
            <a:off x="6662160" y="5455440"/>
            <a:ext cx="5126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93040" y="5745240"/>
            <a:ext cx="433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Wingdings 3"/>
                <a:ea typeface="Wingdings 3"/>
              </a:rPr>
              <a:t>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86400" y="5278320"/>
            <a:ext cx="106056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W.PARTSUPP.DATE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6" idx="2"/>
            <a:endCxn id="424" idx="1"/>
          </p:cNvCxnSpPr>
          <p:nvPr/>
        </p:nvCxnSpPr>
        <p:spPr>
          <a:xfrm>
            <a:off x="6916320" y="5450040"/>
            <a:ext cx="540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9" idx="4"/>
            <a:endCxn id="424" idx="3"/>
          </p:cNvCxnSpPr>
          <p:nvPr/>
        </p:nvCxnSpPr>
        <p:spPr>
          <a:xfrm>
            <a:off x="6159600" y="4930560"/>
            <a:ext cx="4370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3" idx="4"/>
            <a:endCxn id="424" idx="3"/>
          </p:cNvCxnSpPr>
          <p:nvPr/>
        </p:nvCxnSpPr>
        <p:spPr>
          <a:xfrm>
            <a:off x="6152760" y="5775120"/>
            <a:ext cx="4374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4" idx="0"/>
            <a:endCxn id="414" idx="3"/>
          </p:cNvCxnSpPr>
          <p:nvPr/>
        </p:nvCxnSpPr>
        <p:spPr>
          <a:xfrm>
            <a:off x="7242120" y="5779800"/>
            <a:ext cx="278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 rot="5400000">
            <a:off x="2276640" y="4629240"/>
            <a:ext cx="51264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208240" y="4916520"/>
            <a:ext cx="4348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2840" y="4699080"/>
            <a:ext cx="72396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"/>
          <p:cNvCxnSpPr>
            <a:stCxn id="432" idx="4"/>
            <a:endCxn id="407" idx="3"/>
          </p:cNvCxnSpPr>
          <p:nvPr/>
        </p:nvCxnSpPr>
        <p:spPr>
          <a:xfrm flipV="1">
            <a:off x="1666800" y="4954320"/>
            <a:ext cx="5421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942840" y="5526000"/>
            <a:ext cx="72396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5400000">
            <a:off x="2276280" y="5456160"/>
            <a:ext cx="513000" cy="6523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08240" y="5746680"/>
            <a:ext cx="4348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"/>
          <p:cNvCxnSpPr>
            <a:stCxn id="434" idx="4"/>
            <a:endCxn id="435" idx="3"/>
          </p:cNvCxnSpPr>
          <p:nvPr/>
        </p:nvCxnSpPr>
        <p:spPr>
          <a:xfrm flipV="1">
            <a:off x="1666800" y="5780880"/>
            <a:ext cx="5421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1095480" y="3092400"/>
            <a:ext cx="725400" cy="51264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5400000">
            <a:off x="2252520" y="3306600"/>
            <a:ext cx="514440" cy="6508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184480" y="3598920"/>
            <a:ext cx="512640" cy="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8" idx="4"/>
            <a:endCxn id="439" idx="3"/>
          </p:cNvCxnSpPr>
          <p:nvPr/>
        </p:nvCxnSpPr>
        <p:spPr>
          <a:xfrm>
            <a:off x="1820880" y="3349800"/>
            <a:ext cx="364320" cy="28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1095480" y="3662280"/>
            <a:ext cx="725400" cy="51300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35" idx="0"/>
            <a:endCxn id="438" idx="2"/>
          </p:cNvCxnSpPr>
          <p:nvPr/>
        </p:nvCxnSpPr>
        <p:spPr>
          <a:xfrm flipH="1" flipV="1">
            <a:off x="1094760" y="3349080"/>
            <a:ext cx="1765800" cy="2432520"/>
          </a:xfrm>
          <a:prstGeom prst="bentConnector5">
            <a:avLst>
              <a:gd name="adj1" fmla="val -16027"/>
              <a:gd name="adj2" fmla="val 56261"/>
              <a:gd name="adj3" fmla="val 10972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2" idx="4"/>
            <a:endCxn id="439" idx="3"/>
          </p:cNvCxnSpPr>
          <p:nvPr/>
        </p:nvCxnSpPr>
        <p:spPr>
          <a:xfrm flipV="1">
            <a:off x="1820880" y="3631320"/>
            <a:ext cx="364320" cy="28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1928880" y="3092400"/>
            <a:ext cx="1158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7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45" idx="2"/>
            <a:endCxn id="439" idx="1"/>
          </p:cNvCxnSpPr>
          <p:nvPr/>
        </p:nvCxnSpPr>
        <p:spPr>
          <a:xfrm>
            <a:off x="2507760" y="3319200"/>
            <a:ext cx="2520" cy="18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399" idx="0"/>
            <a:endCxn id="380" idx="2"/>
          </p:cNvCxnSpPr>
          <p:nvPr/>
        </p:nvCxnSpPr>
        <p:spPr>
          <a:xfrm>
            <a:off x="2835360" y="2374560"/>
            <a:ext cx="23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347" idx="0"/>
            <a:endCxn id="370" idx="3"/>
          </p:cNvCxnSpPr>
          <p:nvPr/>
        </p:nvCxnSpPr>
        <p:spPr>
          <a:xfrm>
            <a:off x="7486560" y="2374560"/>
            <a:ext cx="535680" cy="11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366" idx="0"/>
            <a:endCxn id="370" idx="3"/>
          </p:cNvCxnSpPr>
          <p:nvPr/>
        </p:nvCxnSpPr>
        <p:spPr>
          <a:xfrm flipH="1" flipV="1">
            <a:off x="8021160" y="2493360"/>
            <a:ext cx="401040" cy="1135800"/>
          </a:xfrm>
          <a:prstGeom prst="bentConnector5">
            <a:avLst>
              <a:gd name="adj1" fmla="val -53908"/>
              <a:gd name="adj2" fmla="val 50000"/>
              <a:gd name="adj3" fmla="val 153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370" idx="0"/>
            <a:endCxn id="409" idx="2"/>
          </p:cNvCxnSpPr>
          <p:nvPr/>
        </p:nvCxnSpPr>
        <p:spPr>
          <a:xfrm flipH="1">
            <a:off x="5433120" y="2493720"/>
            <a:ext cx="3242520" cy="2437560"/>
          </a:xfrm>
          <a:prstGeom prst="bentConnector5">
            <a:avLst>
              <a:gd name="adj1" fmla="val -6817"/>
              <a:gd name="adj2" fmla="val 78596"/>
              <a:gd name="adj3" fmla="val 10687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1" name=""/>
          <p:cNvSpPr/>
          <p:nvPr/>
        </p:nvSpPr>
        <p:spPr>
          <a:xfrm>
            <a:off x="754200" y="6004080"/>
            <a:ext cx="112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05520" y="6004080"/>
            <a:ext cx="37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4200" y="4089240"/>
            <a:ext cx="785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Logical Model </a:t>
            </a:r>
            <a:r>
              <a:rPr b="0" lang="en-US" sz="2100" spc="-1" strike="noStrike">
                <a:solidFill>
                  <a:srgbClr val="660033"/>
                </a:solidFill>
                <a:latin typeface="Times New Roman"/>
              </a:rPr>
              <a:t>[DMDW’02, CAiSE’03]</a:t>
            </a:r>
            <a:endParaRPr b="0" lang="en-US" sz="2100" spc="-1" strike="noStrike">
              <a:solidFill>
                <a:srgbClr val="660033"/>
              </a:solidFill>
              <a:latin typeface="Times New Roman"/>
            </a:endParaRPr>
          </a:p>
        </p:txBody>
      </p:sp>
      <p:cxnSp>
        <p:nvCxnSpPr>
          <p:cNvPr id="455" name=""/>
          <p:cNvCxnSpPr/>
          <p:nvPr/>
        </p:nvCxnSpPr>
        <p:spPr>
          <a:xfrm>
            <a:off x="2843280" y="3633480"/>
            <a:ext cx="235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E659-BEC8-40D2-9E33-2460736E3910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ceptual Model </a:t>
            </a:r>
            <a:r>
              <a:rPr b="0" lang="en-US" sz="2100" spc="-1" strike="noStrike">
                <a:solidFill>
                  <a:srgbClr val="660033"/>
                </a:solidFill>
                <a:latin typeface="Times New Roman"/>
              </a:rPr>
              <a:t>[DOLAP’02, DSE’03]</a:t>
            </a:r>
            <a:endParaRPr b="0" lang="en-US" sz="21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116000" y="1771560"/>
          <a:ext cx="75596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1560"/>
                    <a:ext cx="75596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70FB-5CCE-4DD8-9F19-E299ED38F7E0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Motiv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53AF-28B9-4E8A-BE34-7AFE0A2B0E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Extract-Transform-Load (ETL)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58920" y="2046240"/>
            <a:ext cx="6697440" cy="3830400"/>
            <a:chOff x="1258920" y="2046240"/>
            <a:chExt cx="6697440" cy="3830400"/>
          </a:xfrm>
        </p:grpSpPr>
        <p:sp>
          <p:nvSpPr>
            <p:cNvPr id="105" name=""/>
            <p:cNvSpPr/>
            <p:nvPr/>
          </p:nvSpPr>
          <p:spPr>
            <a:xfrm>
              <a:off x="1258920" y="4651200"/>
              <a:ext cx="6697440" cy="1225440"/>
            </a:xfrm>
            <a:prstGeom prst="parallelogram">
              <a:avLst>
                <a:gd name="adj" fmla="val 5774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52400" y="549432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228840" y="4651200"/>
              <a:ext cx="55080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68760" y="5263920"/>
              <a:ext cx="4716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099040" y="4651200"/>
              <a:ext cx="55224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72160" y="5033880"/>
              <a:ext cx="707760" cy="4604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73760" y="5109840"/>
              <a:ext cx="473040" cy="306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22960" y="549432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79920" y="4727520"/>
              <a:ext cx="4734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986080" y="3119400"/>
              <a:ext cx="709560" cy="1914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696000" y="2261880"/>
              <a:ext cx="324000" cy="246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211640" y="3262320"/>
              <a:ext cx="2038320" cy="2095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427280" y="3262320"/>
              <a:ext cx="1559160" cy="1519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975200" y="3261960"/>
              <a:ext cx="1536480" cy="20890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805280" y="3262320"/>
              <a:ext cx="393840" cy="1935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87840" y="3262320"/>
              <a:ext cx="328320" cy="20826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282560" y="3270240"/>
              <a:ext cx="460440" cy="14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1731960" y="3271680"/>
              <a:ext cx="156960" cy="2222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020320" y="3261960"/>
              <a:ext cx="174600" cy="1879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2243160" y="3262320"/>
              <a:ext cx="512640" cy="2154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622600" y="3262320"/>
              <a:ext cx="212400" cy="1465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031560" y="3262320"/>
              <a:ext cx="282600" cy="1782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58920" y="2046240"/>
              <a:ext cx="6697440" cy="1225440"/>
            </a:xfrm>
            <a:prstGeom prst="parallelogram">
              <a:avLst>
                <a:gd name="adj" fmla="val 57740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149640" y="2046240"/>
              <a:ext cx="55224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796000" y="2046240"/>
              <a:ext cx="550800" cy="1225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74640" y="3041640"/>
              <a:ext cx="314280" cy="153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6240" y="2889000"/>
              <a:ext cx="315720" cy="1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9720" y="2658960"/>
              <a:ext cx="315720" cy="1540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500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6600" y="2352600"/>
              <a:ext cx="315720" cy="153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65360" y="288900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0188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38400" y="219996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32240" y="288900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68760" y="250632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62600" y="2199960"/>
              <a:ext cx="314280" cy="1526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19560" y="2965320"/>
              <a:ext cx="316080" cy="1540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38680" y="2965320"/>
              <a:ext cx="314640" cy="15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75280" y="2122200"/>
              <a:ext cx="316080" cy="15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071880" y="2275920"/>
              <a:ext cx="787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441520" y="2352600"/>
              <a:ext cx="13381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8480" y="2582640"/>
              <a:ext cx="10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888920" y="2965320"/>
              <a:ext cx="149724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5000" y="2734920"/>
              <a:ext cx="118116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16160" y="2582640"/>
              <a:ext cx="31608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16160" y="2582640"/>
              <a:ext cx="55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52680" y="2276280"/>
              <a:ext cx="6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5720" y="2965320"/>
              <a:ext cx="3938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83040" y="2582640"/>
              <a:ext cx="23652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25840" y="56451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93960" y="564516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0080" y="56451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12760" y="204624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3920" y="2046240"/>
              <a:ext cx="83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ns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 Cl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78920" y="204624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55640" y="5286240"/>
              <a:ext cx="47160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00360" y="4709880"/>
              <a:ext cx="39348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1880" y="4957560"/>
              <a:ext cx="39348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79640" y="5109840"/>
              <a:ext cx="473040" cy="3067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2960" y="5340240"/>
              <a:ext cx="473040" cy="3063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0000" y="4727520"/>
              <a:ext cx="393840" cy="3063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691D-4D9F-4CBE-9FDF-326F0BE5442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192400" y="1755720"/>
          <a:ext cx="576900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0" y="1755720"/>
                    <a:ext cx="5769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059A-FA95-4BCB-8C6B-EE40264B4B5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ETL case due to the data centric nature of the process, the designer must deal with the relationship of the involved activities with the underly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nd that research has not dealt with the definition of data-centric workflows to the entirety of its ex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41FF-D139-46D2-A034-3599220024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ontributio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is paper we build upon a previously published logical model for ETL proce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DMDW’0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contribution is a framework for the design of ETL scenarios, that comprise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formal logical Metamodel as a logical abstraction of ETL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usability framework that complements the genericity of the Meta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raphical tool, 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K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I, that facilitates the design of ETL scenarios, based on our mode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B12B1-9E27-46C8-8CDB-DFA0B736E5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Outlin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4d8"/>
                </a:solidFill>
                <a:latin typeface="Times New Roman"/>
              </a:rPr>
              <a:t>Log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 for ET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18188-1105-476A-9653-5C8E440FF2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 P., Simitsis A., Georgantas P., Terrovitis M. - CAiSE'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8:59:21Z</dcterms:created>
  <dc:creator>Alkis Simitsis</dc:creator>
  <dc:description>asimi@dbnet.ece.ntua.gr</dc:description>
  <dc:language>en-US</dc:language>
  <cp:lastModifiedBy>Alkis Simitsis</cp:lastModifiedBy>
  <cp:lastPrinted>2003-06-02T23:28:50Z</cp:lastPrinted>
  <dcterms:modified xsi:type="dcterms:W3CDTF">2003-06-23T15:25:22Z</dcterms:modified>
  <cp:revision>113</cp:revision>
  <dc:subject>Presentation - CAiSE'03</dc:subject>
  <dc:title>A Framework for the Design of ETL Scenarios</dc:title>
</cp:coreProperties>
</file>