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1B731-5DFC-45B4-89D6-9793EB9A4D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650F-C273-4B22-962A-CECB6032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17AD-7E75-445F-B859-23441D3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88ABD-FD37-4916-8FD1-C1AE1FCD4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15D45-133E-469B-87AD-F65825D8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43CC6F-4B91-4760-95B4-56F70F2A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492A2-8714-4F50-91DB-F2F12F15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C3915-38DF-40EF-A3C6-0888227B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064A3-A9AB-4A66-ACAA-79008E2B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226B1-2E28-404C-8241-A39DE3152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945189-140F-4765-90A8-63B529F5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8538-649A-4846-8E35-537F89E1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15B2E2-ECC2-4D2C-80BD-02CE2A17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4A58E6-1DA8-4960-AA16-3CA3CB51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A3FBA-B62A-4063-9892-AB11F743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DD888-3F26-40F1-B444-7E103649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5D6FF-1BCB-4188-9DA0-BB766AB8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34F3-05DB-4590-9541-FD253334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3085-BF97-4324-9DB2-43FF8EC0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304E3-5D14-4D33-80F5-565873AA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913BE-C9A7-4929-A502-11FD6E90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623BA-6113-4BF9-B046-B2661F0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D29FD-0514-47C9-B95B-D574034C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A4B7B-B29F-4419-84E5-6DC46C86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59864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53000"/>
            <a:ext cx="21337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F607-EBA4-4CA8-B899-CF7A07A0548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E5F6-63DF-40CE-BD76-3BECCA0FDFA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9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onceptual Modeling </a:t>
            </a:r>
            <a:br>
              <a:rPr sz="5800"/>
            </a:b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for ETL processe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378936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nos Vassiliadis, Alkis Simitsis, Spiros Skiadopou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pvassi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sim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piros}@dblab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tua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92360" y="546732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826920" y="5446800"/>
            <a:ext cx="8317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Technical University of Ath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KDBS Laborator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://www.dbnet.ece.ntua.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83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rt-of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phasize the fact that a concept is composed of a set of attribut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16720" y="2249640"/>
          <a:ext cx="151128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249640"/>
                    <a:ext cx="1511280" cy="80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775D-CC41-4B34-B485-B14A55922AF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urce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PARTSUPP {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Wareho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W.PARTSUPP {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SUPPKEY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Courier New"/>
              </a:rPr>
              <a:t>DATE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, QTY, C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0E447-B72C-4136-8E5B-48B13A634C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15BCD-ED13-41FB-B0D6-8079B309FED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8316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nsform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input/output attributes, a symb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stractions that represent parts, or full modules of code, executing a single tas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6516720" y="2189160"/>
          <a:ext cx="1512720" cy="66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189160"/>
                    <a:ext cx="15127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7200" y="4076640"/>
            <a:ext cx="64911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ing or data cleaning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.g., foreign key viol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ormation ope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e.g., aggre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2A3F9-2980-42E2-9C7C-9610EF54445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r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input/output attributes, an appropriate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p a set of input attributes to a set of output attributes through a relevant transformat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580000" y="4295880"/>
          <a:ext cx="1584360" cy="129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4295880"/>
                    <a:ext cx="1584360" cy="12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692360" y="4290840"/>
          <a:ext cx="2160360" cy="12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92360" y="4290840"/>
                    <a:ext cx="2160360" cy="12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8360" y="5661000"/>
            <a:ext cx="8351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If the attributes are semantically and physically compatible, no transformation is required</a:t>
            </a:r>
            <a:r>
              <a:rPr b="0" i="1" lang="el-G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EDDEC-EBE6-440C-A76A-4E8C55E2865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A41DD-41B8-4F43-AC52-717762E9262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l tags, exactly as in UML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for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e comments explaining design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anation of the semantics of the applied trans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cing of runtime constra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6659640" y="2154240"/>
          <a:ext cx="171108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154240"/>
                    <a:ext cx="171108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CA75-0969-43DA-B6CB-4F386EE351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A479C-300B-4D36-8C48-670A709581D3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22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TL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nite set of attributes, a single trans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ress the fact that the data of a certain concept fulfill several requir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6659640" y="2205000"/>
          <a:ext cx="1584360" cy="10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205000"/>
                    <a:ext cx="158436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F351C-7B4C-4010-9B32-A6DF88268BA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1616040" y="1600200"/>
          <a:ext cx="5910120" cy="470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6040" y="1600200"/>
                    <a:ext cx="591012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E95B-0438-456A-AC3A-03DC9C55F98F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eneral Ide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blem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ceptual part of the definition of ETL proces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arly stages of a DW projec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ey ide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pp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attributes of the data sources to the attributes of the DW tabl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69CD-0373-42ED-9970-EE683107C8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didate Relationshi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ingle candidate concept, a single targe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ed when a certain DW concept is populated by a finite set of more than one candidate source conce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Active Candidate Relation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ertain candidate that has been selected for the population of the target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pecialization of candidate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148360" y="4797360"/>
          <a:ext cx="3311280" cy="156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4797360"/>
                    <a:ext cx="331128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F34C9-3699-48B1-9A4D-443E5827FED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127160" y="2147760"/>
          <a:ext cx="7034040" cy="30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147760"/>
                    <a:ext cx="7034040" cy="30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1335-00BC-47F3-9CE1-B033DB011A9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55640" y="1557360"/>
          <a:ext cx="755964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557360"/>
                    <a:ext cx="755964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23B4-4758-4CB7-BD83-5DF7BA8F97E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52D21-2702-4BAA-8A7B-E10FB1DA04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key issue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ec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ication of a small set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generic construc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capture all c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truction of a ‘palette’ of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requently used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2A93-08DA-4B70-9E94-599BD3D537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tamodel l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generic entities, able to represent any ETL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olves classes: Concept, Attribute, Transformation, ETL Constraint and Relationshi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late lay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et of ‘built-in’ specializations of the entities of the Metamodel layer, specifically tailored for the most frequent elements of ETL scen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ma lay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pecific ETL scenar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he entities of the Schema layer are instances of the classes of the Metamodel la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5CB38-8031-4965-B56B-25F414AB74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826920" y="1844640"/>
          <a:ext cx="763452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76345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51E0B-884A-421F-A532-E0D21309CBD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mplate layer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 groups of logical 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ary transform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inary transform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osite transform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groups of physical 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fer 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 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A4FA-1534-4D8A-9302-64C3A844CEF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Instantiation </a:t>
            </a: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&amp;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 Specialization Layer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t null (N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mary key violation (P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eign key violation (F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que value (U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main mismatch D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ry transfor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s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gregation (γ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j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π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 applica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rrogate key assignment(SK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normalization (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uple denormalization (D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ary transfor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nion (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Join (</a:t>
            </a:r>
            <a:r>
              <a:rPr b="0" lang="en-US" sz="1400" spc="-1" strike="noStrike">
                <a:solidFill>
                  <a:srgbClr val="000000"/>
                </a:solidFill>
                <a:latin typeface="MT Extra"/>
                <a:ea typeface="MT Extra"/>
              </a:rPr>
              <a:t>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pdate Detection (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Δ</a:t>
            </a:r>
            <a:r>
              <a:rPr b="0" lang="en-US" sz="1400" spc="-1" strike="noStrike" baseline="-30000">
                <a:solidFill>
                  <a:srgbClr val="000000"/>
                </a:solidFill>
                <a:latin typeface="Courier New"/>
                <a:ea typeface="Times New Roman"/>
              </a:rPr>
              <a:t>UP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e transform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lowly changing dimension (Type 1,2,3) (SDC-1/2/3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mat mismatch (FM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ata type conversion 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TC</a:t>
            </a:r>
            <a:r>
              <a:rPr b="0" lang="el-GR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witch (σ*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tended union (U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BCDIC to ASCII conversion (EB2A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rt file (Sor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fer 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tp (FT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mpress/Decompress (Z/dZ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crypt/Decrypt (Cr/dC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14040-A7AA-4029-B47D-43AB6F6F24D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D3FF-ADFD-4233-BA61-67546CB39A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ED047-FDD0-40F4-8223-AC25B209475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ethodology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dentification of the proper data stor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didates and active candidates for the involved data store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 mapping between the providers and the consumer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notating the diagram with runtime constraints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0FBC8-B666-420C-8F8A-4CC33632CABB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1D37-3388-4E1A-8A0F-0350BC68CCB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lusi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contributions lies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posal of a novel conceptual model which is customized for the tracing of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inter-attribu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relationship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the respective ETL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 customiza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extensib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nstr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troduction of a '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palett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 of a set of frequently used ETL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DDCB-8F87-42BE-8792-EEE8317AA73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n-going/Future 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500" spc="-1" strike="noStrike">
                <a:solidFill>
                  <a:srgbClr val="000099"/>
                </a:solidFill>
                <a:latin typeface="Verdana"/>
              </a:rPr>
              <a:t>Arktos II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project </a:t>
            </a:r>
            <a:r>
              <a:rPr b="0" lang="en-GB" sz="2500" spc="-1" strike="noStrike">
                <a:solidFill>
                  <a:srgbClr val="000000"/>
                </a:solidFill>
                <a:latin typeface="Verdana"/>
              </a:rPr>
              <a:t>is aimed towards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th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ual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gical mod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What-if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of ETL scenario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9999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http://www.dblab.ece.ntua.gr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cc9900"/>
                </a:solidFill>
                <a:latin typeface="Verdana"/>
              </a:rPr>
              <a:t>~pvassil/projects/arktos_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921280" y="4724280"/>
            <a:ext cx="2251080" cy="9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6310F-5CA9-4535-A722-D8F1F72D53B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257292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ank you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37211-6305-4E2A-9651-654533DD4AEF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715560" y="324648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ack-up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2A291-4425-4577-813C-D84C416D5701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727200" y="1665360"/>
          <a:ext cx="7665840" cy="443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665360"/>
                    <a:ext cx="7665840" cy="44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1F984-892D-4B9C-A94B-27617E3F9EB1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547640" y="1378080"/>
          <a:ext cx="6264360" cy="52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378080"/>
                    <a:ext cx="6264360" cy="52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B28A7-96BD-453C-8A18-C5C70A0C69B0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he lifecycle of a Data Warehouse and its ETL processes</a:t>
            </a:r>
            <a:r>
              <a:rPr b="0" lang="el-GR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1916280"/>
          <a:ext cx="7056360" cy="38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916280"/>
                    <a:ext cx="7056360" cy="38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56FF6-7A56-4BB5-A62D-D2278BF69795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95280" y="1557360"/>
            <a:ext cx="8424720" cy="2808360"/>
          </a:xfrm>
          <a:prstGeom prst="rect">
            <a:avLst/>
          </a:prstGeom>
          <a:solidFill>
            <a:srgbClr val="99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851360" y="25430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56040" y="39146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821200" y="39146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18320" y="25430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83480" y="2543040"/>
            <a:ext cx="371520" cy="311400"/>
          </a:xfrm>
          <a:prstGeom prst="flowChartMultidocumen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59280" y="4508640"/>
            <a:ext cx="3960720" cy="1944720"/>
          </a:xfrm>
          <a:prstGeom prst="rect">
            <a:avLst/>
          </a:prstGeom>
          <a:solidFill>
            <a:srgbClr val="ffcc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5280" y="4508640"/>
            <a:ext cx="1152360" cy="1944720"/>
          </a:xfrm>
          <a:prstGeom prst="rect">
            <a:avLst/>
          </a:prstGeom>
          <a:solidFill>
            <a:srgbClr val="cccc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ogical Model </a:t>
            </a: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[DMDW’02]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3866760" y="1865160"/>
            <a:ext cx="55872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753000" y="2170080"/>
            <a:ext cx="6667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662280" y="1724040"/>
            <a:ext cx="9669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"/>
          <p:cNvCxnSpPr>
            <a:stCxn id="288" idx="2"/>
            <a:endCxn id="286" idx="1"/>
          </p:cNvCxnSpPr>
          <p:nvPr/>
        </p:nvCxnSpPr>
        <p:spPr>
          <a:xfrm flipH="1">
            <a:off x="4144680" y="1819080"/>
            <a:ext cx="2160" cy="240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0" name=""/>
          <p:cNvSpPr/>
          <p:nvPr/>
        </p:nvSpPr>
        <p:spPr>
          <a:xfrm rot="5400000">
            <a:off x="4758120" y="1865880"/>
            <a:ext cx="5587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03760" y="2162160"/>
            <a:ext cx="44604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54360" y="1536840"/>
            <a:ext cx="9669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2"/>
            <a:endCxn id="290" idx="1"/>
          </p:cNvCxnSpPr>
          <p:nvPr/>
        </p:nvCxnSpPr>
        <p:spPr>
          <a:xfrm>
            <a:off x="5038200" y="1852560"/>
            <a:ext cx="1080" cy="20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 rot="5400000">
            <a:off x="5724720" y="1866960"/>
            <a:ext cx="558720" cy="66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70720" y="2162160"/>
            <a:ext cx="44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2€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21320" y="1731960"/>
            <a:ext cx="9651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2"/>
            <a:endCxn id="294" idx="1"/>
          </p:cNvCxnSpPr>
          <p:nvPr/>
        </p:nvCxnSpPr>
        <p:spPr>
          <a:xfrm>
            <a:off x="6005160" y="182736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8" name=""/>
          <p:cNvSpPr/>
          <p:nvPr/>
        </p:nvSpPr>
        <p:spPr>
          <a:xfrm rot="5400000">
            <a:off x="6690600" y="1866240"/>
            <a:ext cx="55872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89720" y="1731960"/>
            <a:ext cx="96660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99" idx="2"/>
            <a:endCxn id="298" idx="1"/>
          </p:cNvCxnSpPr>
          <p:nvPr/>
        </p:nvCxnSpPr>
        <p:spPr>
          <a:xfrm flipH="1">
            <a:off x="6969960" y="1827360"/>
            <a:ext cx="396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2774880" y="3290760"/>
            <a:ext cx="74304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3869280" y="3236040"/>
            <a:ext cx="560520" cy="66960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70280" y="3532320"/>
            <a:ext cx="668520" cy="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_SP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66960" y="3103560"/>
            <a:ext cx="96552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UPPKEY=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2"/>
            <a:endCxn id="302" idx="1"/>
          </p:cNvCxnSpPr>
          <p:nvPr/>
        </p:nvCxnSpPr>
        <p:spPr>
          <a:xfrm flipH="1">
            <a:off x="4147920" y="3198600"/>
            <a:ext cx="3600" cy="232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 rot="5400000">
            <a:off x="4760640" y="3236760"/>
            <a:ext cx="56052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07000" y="3532320"/>
            <a:ext cx="44460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K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68760" y="2948040"/>
            <a:ext cx="966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 LOOKUP_PS.SKEY, SUP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8" idx="2"/>
            <a:endCxn id="306" idx="1"/>
          </p:cNvCxnSpPr>
          <p:nvPr/>
        </p:nvCxnSpPr>
        <p:spPr>
          <a:xfrm flipH="1">
            <a:off x="5041080" y="3284640"/>
            <a:ext cx="11880" cy="14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 rot="5400000">
            <a:off x="5726520" y="3237480"/>
            <a:ext cx="560520" cy="6667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24560" y="3103560"/>
            <a:ext cx="9651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O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11" idx="2"/>
            <a:endCxn id="310" idx="1"/>
          </p:cNvCxnSpPr>
          <p:nvPr/>
        </p:nvCxnSpPr>
        <p:spPr>
          <a:xfrm>
            <a:off x="6008400" y="319896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 rot="5400000">
            <a:off x="6692400" y="3236760"/>
            <a:ext cx="5605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18440" y="3103560"/>
            <a:ext cx="11127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TE=SYS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"/>
          <p:cNvCxnSpPr>
            <a:stCxn id="314" idx="2"/>
            <a:endCxn id="313" idx="1"/>
          </p:cNvCxnSpPr>
          <p:nvPr/>
        </p:nvCxnSpPr>
        <p:spPr>
          <a:xfrm flipH="1">
            <a:off x="6973560" y="3198960"/>
            <a:ext cx="216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6" name=""/>
          <p:cNvSpPr/>
          <p:nvPr/>
        </p:nvSpPr>
        <p:spPr>
          <a:xfrm>
            <a:off x="6588000" y="3530520"/>
            <a:ext cx="64800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ddDa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7648200" y="3236760"/>
            <a:ext cx="5605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561440" y="3532320"/>
            <a:ext cx="75564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heckQTY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1800" y="3103560"/>
            <a:ext cx="1087560" cy="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QTY&gt;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"/>
          <p:cNvCxnSpPr>
            <a:stCxn id="319" idx="2"/>
            <a:endCxn id="317" idx="1"/>
          </p:cNvCxnSpPr>
          <p:nvPr/>
        </p:nvCxnSpPr>
        <p:spPr>
          <a:xfrm>
            <a:off x="7926120" y="3198960"/>
            <a:ext cx="396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1" name=""/>
          <p:cNvSpPr/>
          <p:nvPr/>
        </p:nvSpPr>
        <p:spPr>
          <a:xfrm rot="5400000">
            <a:off x="7905960" y="1996200"/>
            <a:ext cx="56052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51600" y="2301840"/>
            <a:ext cx="446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286" idx="0"/>
            <a:endCxn id="290" idx="3"/>
          </p:cNvCxnSpPr>
          <p:nvPr/>
        </p:nvCxnSpPr>
        <p:spPr>
          <a:xfrm>
            <a:off x="4479840" y="2198160"/>
            <a:ext cx="223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0" idx="0"/>
            <a:endCxn id="294" idx="3"/>
          </p:cNvCxnSpPr>
          <p:nvPr/>
        </p:nvCxnSpPr>
        <p:spPr>
          <a:xfrm>
            <a:off x="5370120" y="219816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4" idx="0"/>
            <a:endCxn id="298" idx="3"/>
          </p:cNvCxnSpPr>
          <p:nvPr/>
        </p:nvCxnSpPr>
        <p:spPr>
          <a:xfrm>
            <a:off x="6337440" y="2198160"/>
            <a:ext cx="297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2" idx="0"/>
            <a:endCxn id="306" idx="3"/>
          </p:cNvCxnSpPr>
          <p:nvPr/>
        </p:nvCxnSpPr>
        <p:spPr>
          <a:xfrm>
            <a:off x="4482720" y="356976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6" idx="0"/>
            <a:endCxn id="310" idx="3"/>
          </p:cNvCxnSpPr>
          <p:nvPr/>
        </p:nvCxnSpPr>
        <p:spPr>
          <a:xfrm>
            <a:off x="5373360" y="35697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0" idx="0"/>
            <a:endCxn id="313" idx="3"/>
          </p:cNvCxnSpPr>
          <p:nvPr/>
        </p:nvCxnSpPr>
        <p:spPr>
          <a:xfrm>
            <a:off x="6339960" y="3569760"/>
            <a:ext cx="297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13" idx="0"/>
            <a:endCxn id="317" idx="3"/>
          </p:cNvCxnSpPr>
          <p:nvPr/>
        </p:nvCxnSpPr>
        <p:spPr>
          <a:xfrm>
            <a:off x="7305840" y="3569760"/>
            <a:ext cx="288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01" idx="4"/>
            <a:endCxn id="302" idx="3"/>
          </p:cNvCxnSpPr>
          <p:nvPr/>
        </p:nvCxnSpPr>
        <p:spPr>
          <a:xfrm flipV="1">
            <a:off x="3517920" y="356940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771640" y="1920960"/>
            <a:ext cx="743040" cy="558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1" idx="4"/>
            <a:endCxn id="286" idx="3"/>
          </p:cNvCxnSpPr>
          <p:nvPr/>
        </p:nvCxnSpPr>
        <p:spPr>
          <a:xfrm flipV="1">
            <a:off x="3514680" y="2197800"/>
            <a:ext cx="2955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4851360" y="26542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98960" y="2381400"/>
            <a:ext cx="671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000760" y="2355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854600" y="40258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05440" y="375120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5440" y="3727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35880" y="215892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2E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32560" y="3530520"/>
            <a:ext cx="666720" cy="1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NotN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821200" y="40258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970600" y="375120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969160" y="37274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16520" y="265428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67360" y="2381400"/>
            <a:ext cx="668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965920" y="2355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83480" y="2654280"/>
            <a:ext cx="668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931080" y="2381400"/>
            <a:ext cx="66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jec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932520" y="23558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5400000">
            <a:off x="1915200" y="1861200"/>
            <a:ext cx="56196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862280" y="2157480"/>
            <a:ext cx="52704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1603440"/>
            <a:ext cx="11890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50" idx="1"/>
          </p:cNvCxnSpPr>
          <p:nvPr/>
        </p:nvCxnSpPr>
        <p:spPr>
          <a:xfrm>
            <a:off x="2193480" y="1790640"/>
            <a:ext cx="252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746280" y="1603440"/>
            <a:ext cx="744480" cy="5601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54" idx="4"/>
            <a:endCxn id="350" idx="3"/>
          </p:cNvCxnSpPr>
          <p:nvPr/>
        </p:nvCxnSpPr>
        <p:spPr>
          <a:xfrm>
            <a:off x="1490400" y="1883880"/>
            <a:ext cx="3704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746280" y="2227320"/>
            <a:ext cx="744480" cy="5601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"/>
          <p:cNvCxnSpPr>
            <a:stCxn id="358" idx="0"/>
            <a:endCxn id="354" idx="2"/>
          </p:cNvCxnSpPr>
          <p:nvPr/>
        </p:nvCxnSpPr>
        <p:spPr>
          <a:xfrm flipH="1" flipV="1">
            <a:off x="745560" y="1883880"/>
            <a:ext cx="1811880" cy="3136320"/>
          </a:xfrm>
          <a:prstGeom prst="bentConnector5">
            <a:avLst>
              <a:gd name="adj1" fmla="val -12519"/>
              <a:gd name="adj2" fmla="val 14269"/>
              <a:gd name="adj3" fmla="val 114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56" idx="4"/>
            <a:endCxn id="350" idx="3"/>
          </p:cNvCxnSpPr>
          <p:nvPr/>
        </p:nvCxnSpPr>
        <p:spPr>
          <a:xfrm flipV="1">
            <a:off x="1490400" y="2195280"/>
            <a:ext cx="3704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5197320" y="4714920"/>
            <a:ext cx="744840" cy="5587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7391880" y="4663080"/>
            <a:ext cx="56016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265880" y="4959360"/>
            <a:ext cx="77328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188120" y="4473720"/>
            <a:ext cx="9669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MIN(CO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63" idx="2"/>
            <a:endCxn id="361" idx="1"/>
          </p:cNvCxnSpPr>
          <p:nvPr/>
        </p:nvCxnSpPr>
        <p:spPr>
          <a:xfrm flipH="1">
            <a:off x="7670520" y="4660560"/>
            <a:ext cx="2160" cy="19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 rot="5400000">
            <a:off x="7391160" y="5586480"/>
            <a:ext cx="56196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265880" y="5883120"/>
            <a:ext cx="773280" cy="1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ggregate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88120" y="5364000"/>
            <a:ext cx="96696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PKEY, MON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AVG(CO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67" idx="2"/>
            <a:endCxn id="365" idx="1"/>
          </p:cNvCxnSpPr>
          <p:nvPr/>
        </p:nvCxnSpPr>
        <p:spPr>
          <a:xfrm>
            <a:off x="7671960" y="5549760"/>
            <a:ext cx="1080" cy="23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0" idx="4"/>
            <a:endCxn id="361" idx="3"/>
          </p:cNvCxnSpPr>
          <p:nvPr/>
        </p:nvCxnSpPr>
        <p:spPr>
          <a:xfrm>
            <a:off x="5941800" y="4993920"/>
            <a:ext cx="13942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8304120" y="5703840"/>
            <a:ext cx="371520" cy="43488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"/>
          <p:cNvCxnSpPr>
            <a:stCxn id="365" idx="0"/>
            <a:endCxn id="370" idx="2"/>
          </p:cNvCxnSpPr>
          <p:nvPr/>
        </p:nvCxnSpPr>
        <p:spPr>
          <a:xfrm>
            <a:off x="8005320" y="592092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8304120" y="4780080"/>
            <a:ext cx="371520" cy="4363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08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1" idx="0"/>
            <a:endCxn id="372" idx="2"/>
          </p:cNvCxnSpPr>
          <p:nvPr/>
        </p:nvCxnSpPr>
        <p:spPr>
          <a:xfrm>
            <a:off x="8005320" y="4997520"/>
            <a:ext cx="299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4" name=""/>
          <p:cNvSpPr/>
          <p:nvPr/>
        </p:nvSpPr>
        <p:spPr>
          <a:xfrm>
            <a:off x="5192640" y="5635800"/>
            <a:ext cx="743040" cy="5619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TI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6440040" y="5587920"/>
            <a:ext cx="560520" cy="66852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86400" y="5883120"/>
            <a:ext cx="444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Wingdings 3"/>
                <a:ea typeface="Wingdings 3"/>
              </a:rPr>
              <a:t>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3640" y="5373720"/>
            <a:ext cx="1089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W.PARTSUPP.DAT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2"/>
            <a:endCxn id="375" idx="1"/>
          </p:cNvCxnSpPr>
          <p:nvPr/>
        </p:nvCxnSpPr>
        <p:spPr>
          <a:xfrm>
            <a:off x="6717960" y="5560920"/>
            <a:ext cx="540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9" name=""/>
          <p:cNvCxnSpPr>
            <a:stCxn id="360" idx="4"/>
            <a:endCxn id="375" idx="3"/>
          </p:cNvCxnSpPr>
          <p:nvPr/>
        </p:nvCxnSpPr>
        <p:spPr>
          <a:xfrm>
            <a:off x="5941800" y="4994280"/>
            <a:ext cx="448200" cy="9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4" idx="4"/>
            <a:endCxn id="375" idx="3"/>
          </p:cNvCxnSpPr>
          <p:nvPr/>
        </p:nvCxnSpPr>
        <p:spPr>
          <a:xfrm>
            <a:off x="5935320" y="5916240"/>
            <a:ext cx="4482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65" idx="3"/>
          </p:cNvCxnSpPr>
          <p:nvPr/>
        </p:nvCxnSpPr>
        <p:spPr>
          <a:xfrm>
            <a:off x="7053120" y="5920920"/>
            <a:ext cx="2851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8" name=""/>
          <p:cNvSpPr/>
          <p:nvPr/>
        </p:nvSpPr>
        <p:spPr>
          <a:xfrm rot="5400000">
            <a:off x="1940400" y="4685400"/>
            <a:ext cx="56052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886040" y="4979880"/>
            <a:ext cx="44604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8960" y="4740120"/>
            <a:ext cx="74304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3" idx="4"/>
            <a:endCxn id="358" idx="3"/>
          </p:cNvCxnSpPr>
          <p:nvPr/>
        </p:nvCxnSpPr>
        <p:spPr>
          <a:xfrm flipV="1">
            <a:off x="1331640" y="5019480"/>
            <a:ext cx="55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5" name=""/>
          <p:cNvSpPr/>
          <p:nvPr/>
        </p:nvSpPr>
        <p:spPr>
          <a:xfrm>
            <a:off x="588960" y="5643720"/>
            <a:ext cx="743040" cy="56016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_PARTSU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rot="5400000">
            <a:off x="1940400" y="5588640"/>
            <a:ext cx="560160" cy="6699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86040" y="5884920"/>
            <a:ext cx="446040" cy="1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FTP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"/>
          <p:cNvCxnSpPr>
            <a:stCxn id="385" idx="4"/>
            <a:endCxn id="386" idx="3"/>
          </p:cNvCxnSpPr>
          <p:nvPr/>
        </p:nvCxnSpPr>
        <p:spPr>
          <a:xfrm flipV="1">
            <a:off x="1331640" y="5922720"/>
            <a:ext cx="55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9" name=""/>
          <p:cNvSpPr/>
          <p:nvPr/>
        </p:nvSpPr>
        <p:spPr>
          <a:xfrm>
            <a:off x="746280" y="2984400"/>
            <a:ext cx="74448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5400000">
            <a:off x="1915200" y="3242520"/>
            <a:ext cx="561960" cy="6681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62280" y="3538440"/>
            <a:ext cx="527040" cy="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IFF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>
            <a:stCxn id="389" idx="4"/>
            <a:endCxn id="390" idx="3"/>
          </p:cNvCxnSpPr>
          <p:nvPr/>
        </p:nvCxnSpPr>
        <p:spPr>
          <a:xfrm>
            <a:off x="1490400" y="3263400"/>
            <a:ext cx="370440" cy="3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3" name=""/>
          <p:cNvSpPr/>
          <p:nvPr/>
        </p:nvSpPr>
        <p:spPr>
          <a:xfrm>
            <a:off x="746280" y="3608280"/>
            <a:ext cx="744480" cy="5605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180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>
            <a:stCxn id="386" idx="0"/>
            <a:endCxn id="389" idx="2"/>
          </p:cNvCxnSpPr>
          <p:nvPr/>
        </p:nvCxnSpPr>
        <p:spPr>
          <a:xfrm flipH="1" flipV="1">
            <a:off x="745560" y="3265560"/>
            <a:ext cx="1811880" cy="2657880"/>
          </a:xfrm>
          <a:prstGeom prst="bentConnector5">
            <a:avLst>
              <a:gd name="adj1" fmla="val -16037"/>
              <a:gd name="adj2" fmla="val 52871"/>
              <a:gd name="adj3" fmla="val 1097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93" idx="4"/>
            <a:endCxn id="390" idx="3"/>
          </p:cNvCxnSpPr>
          <p:nvPr/>
        </p:nvCxnSpPr>
        <p:spPr>
          <a:xfrm flipV="1">
            <a:off x="1490400" y="3574800"/>
            <a:ext cx="370440" cy="31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6" name=""/>
          <p:cNvSpPr/>
          <p:nvPr/>
        </p:nvSpPr>
        <p:spPr>
          <a:xfrm>
            <a:off x="1600200" y="2984400"/>
            <a:ext cx="118908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NEW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DS.PS_OLD</a:t>
            </a:r>
            <a:r>
              <a:rPr b="1" lang="en-US" sz="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.PKE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7" name=""/>
          <p:cNvCxnSpPr>
            <a:stCxn id="396" idx="2"/>
            <a:endCxn id="390" idx="1"/>
          </p:cNvCxnSpPr>
          <p:nvPr/>
        </p:nvCxnSpPr>
        <p:spPr>
          <a:xfrm>
            <a:off x="2193480" y="3171960"/>
            <a:ext cx="54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0"/>
            <a:endCxn id="301" idx="2"/>
          </p:cNvCxnSpPr>
          <p:nvPr/>
        </p:nvCxnSpPr>
        <p:spPr>
          <a:xfrm flipV="1">
            <a:off x="2532240" y="3571200"/>
            <a:ext cx="243360" cy="5400"/>
          </a:xfrm>
          <a:prstGeom prst="bentConnector3">
            <a:avLst>
              <a:gd name="adj1" fmla="val 493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50" idx="0"/>
            <a:endCxn id="331" idx="2"/>
          </p:cNvCxnSpPr>
          <p:nvPr/>
        </p:nvCxnSpPr>
        <p:spPr>
          <a:xfrm>
            <a:off x="2531880" y="2196720"/>
            <a:ext cx="240120" cy="3960"/>
          </a:xfrm>
          <a:prstGeom prst="bentConnector3">
            <a:avLst>
              <a:gd name="adj1" fmla="val 4924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298" idx="0"/>
            <a:endCxn id="321" idx="3"/>
          </p:cNvCxnSpPr>
          <p:nvPr/>
        </p:nvCxnSpPr>
        <p:spPr>
          <a:xfrm>
            <a:off x="7303680" y="2199960"/>
            <a:ext cx="548280" cy="13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1" name=""/>
          <p:cNvCxnSpPr>
            <a:stCxn id="317" idx="0"/>
            <a:endCxn id="321" idx="3"/>
          </p:cNvCxnSpPr>
          <p:nvPr/>
        </p:nvCxnSpPr>
        <p:spPr>
          <a:xfrm flipH="1" flipV="1">
            <a:off x="7850880" y="2329920"/>
            <a:ext cx="412200" cy="1242000"/>
          </a:xfrm>
          <a:prstGeom prst="bentConnector5">
            <a:avLst>
              <a:gd name="adj1" fmla="val -53846"/>
              <a:gd name="adj2" fmla="val 49985"/>
              <a:gd name="adj3" fmla="val 15384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21" idx="0"/>
            <a:endCxn id="360" idx="2"/>
          </p:cNvCxnSpPr>
          <p:nvPr/>
        </p:nvCxnSpPr>
        <p:spPr>
          <a:xfrm flipH="1">
            <a:off x="5196600" y="2330280"/>
            <a:ext cx="3326760" cy="2664720"/>
          </a:xfrm>
          <a:prstGeom prst="bentConnector5">
            <a:avLst>
              <a:gd name="adj1" fmla="val -6818"/>
              <a:gd name="adj2" fmla="val 78597"/>
              <a:gd name="adj3" fmla="val 10687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395280" y="616572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859280" y="6165720"/>
            <a:ext cx="40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4076640"/>
            <a:ext cx="806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E9F4-4F01-40B0-B38C-3E78254173DA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tract-Transform-Load (ETL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65280" y="1844280"/>
            <a:ext cx="7867440" cy="4191120"/>
            <a:chOff x="665280" y="1844280"/>
            <a:chExt cx="7867440" cy="4191120"/>
          </a:xfrm>
        </p:grpSpPr>
        <p:sp>
          <p:nvSpPr>
            <p:cNvPr id="99" name=""/>
            <p:cNvSpPr/>
            <p:nvPr/>
          </p:nvSpPr>
          <p:spPr>
            <a:xfrm>
              <a:off x="665280" y="4694400"/>
              <a:ext cx="7867440" cy="1341000"/>
            </a:xfrm>
            <a:prstGeom prst="parallelogram">
              <a:avLst>
                <a:gd name="adj" fmla="val -59831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27880" y="56167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90840" y="51973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53440" y="553284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38840" y="4778280"/>
              <a:ext cx="462600" cy="3351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2979000" y="4694040"/>
              <a:ext cx="64800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93960" y="5029920"/>
              <a:ext cx="462600" cy="3351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27000" y="544896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52560" y="536508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89960" y="4778280"/>
              <a:ext cx="462600" cy="335160"/>
            </a:xfrm>
            <a:prstGeom prst="flowChartMultidocumen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5108040" y="4694040"/>
              <a:ext cx="64764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48560" y="5113800"/>
              <a:ext cx="832680" cy="50292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44560" y="51973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96560" y="561672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681600" y="4778280"/>
              <a:ext cx="555120" cy="335160"/>
            </a:xfrm>
            <a:prstGeom prst="can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6218640" y="3018240"/>
              <a:ext cx="833040" cy="20955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7051680" y="2095920"/>
              <a:ext cx="647640" cy="2682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089960" y="3174480"/>
              <a:ext cx="2437200" cy="22744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4552560" y="3174120"/>
              <a:ext cx="1666080" cy="1603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031000" y="3174120"/>
              <a:ext cx="18046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4830120" y="3174480"/>
              <a:ext cx="462600" cy="2117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19000" y="3174480"/>
              <a:ext cx="385560" cy="2279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367160" y="3174480"/>
              <a:ext cx="539640" cy="16149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1220400" y="3185640"/>
              <a:ext cx="185040" cy="24307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1560600" y="3174120"/>
              <a:ext cx="307440" cy="2022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822320" y="3174120"/>
              <a:ext cx="601200" cy="235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267280" y="3174120"/>
              <a:ext cx="249120" cy="1603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2747160" y="3174120"/>
              <a:ext cx="333000" cy="19501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280" y="1844640"/>
              <a:ext cx="7867440" cy="1341000"/>
            </a:xfrm>
            <a:prstGeom prst="parallelogram">
              <a:avLst>
                <a:gd name="adj" fmla="val -59831"/>
              </a:avLst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886480" y="1844280"/>
              <a:ext cx="64764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848560" y="1844280"/>
              <a:ext cx="647640" cy="1341000"/>
            </a:xfrm>
            <a:prstGeom prst="line">
              <a:avLst/>
            </a:prstGeom>
            <a:ln w="1260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35360" y="29343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90840" y="27666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2920" y="251532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75880" y="23475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1360" y="21798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56920" y="27666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4480" y="23475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12400" y="201204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75000" y="276660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52560" y="234756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5520" y="201204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00560" y="285048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66640" y="285048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14640" y="1928520"/>
              <a:ext cx="370080" cy="1674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793960" y="2095560"/>
              <a:ext cx="92556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053440" y="2179800"/>
              <a:ext cx="1573560" cy="67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38840" y="2431440"/>
              <a:ext cx="120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405800" y="2850120"/>
              <a:ext cx="175860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775880" y="2598840"/>
              <a:ext cx="138816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04920" y="2431440"/>
              <a:ext cx="37008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4920" y="243144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82480" y="2095920"/>
              <a:ext cx="7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37960" y="2850480"/>
              <a:ext cx="462600" cy="8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23000" y="2431440"/>
              <a:ext cx="2775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30640" y="578160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82800" y="5781600"/>
              <a:ext cx="35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S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338600" y="578160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07840" y="1844640"/>
              <a:ext cx="57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rac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76680" y="1844640"/>
              <a:ext cx="834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rans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amp; Cle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11760" y="1844640"/>
              <a:ext cx="39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7D04B-FB2B-4A7D-874C-DE1410485D1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al neces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, 80% of the development time in a DW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-house development, ad-hoc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ck of related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ront end of the DW has monopolized the research on the conceptual part of DW modeling</a:t>
            </a:r>
            <a:r>
              <a:rPr b="0" lang="el-G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us, the design, development and deployment of ETL processes, needs modeling, design and methodological foundations</a:t>
            </a:r>
            <a:r>
              <a:rPr b="0" i="1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8B4F5-E7C3-46B2-A332-68595D59765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tiv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485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arly stages of the DW desig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Concepts</a:t>
            </a: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are still fuzz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changing frequentl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ts of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nterview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ith peo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No tim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a full, clean-cut definition of the DW and the ETL work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ill, we c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 the </a:t>
            </a:r>
            <a:r>
              <a:rPr b="0" lang="en-US" sz="2400" spc="-1" strike="noStrike">
                <a:solidFill>
                  <a:srgbClr val="cc9900"/>
                </a:solidFill>
                <a:latin typeface="Verdana"/>
              </a:rPr>
              <a:t>mappin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attributes of the data sources to the attributes of the DW t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 </a:t>
            </a: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necessary constraints and transformation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for the ETL pro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370640" y="3357720"/>
            <a:ext cx="1773360" cy="1377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270920" y="1700280"/>
            <a:ext cx="187308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6588000" y="5445000"/>
            <a:ext cx="2232000" cy="432000"/>
            <a:chOff x="6588000" y="5445000"/>
            <a:chExt cx="2232000" cy="432000"/>
          </a:xfrm>
        </p:grpSpPr>
        <p:sp>
          <p:nvSpPr>
            <p:cNvPr id="167" name=""/>
            <p:cNvSpPr/>
            <p:nvPr/>
          </p:nvSpPr>
          <p:spPr>
            <a:xfrm>
              <a:off x="7236000" y="566100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588000" y="5518080"/>
              <a:ext cx="64800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1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51640" y="5445000"/>
              <a:ext cx="503280" cy="432000"/>
            </a:xfrm>
            <a:prstGeom prst="hexagon">
              <a:avLst>
                <a:gd name="adj" fmla="val 2912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P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72360" y="5518080"/>
              <a:ext cx="647640" cy="35892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DW.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28A70-97C1-40BD-90AF-F92AEE6CB8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Verdana"/>
              </a:rPr>
              <a:t>Conceptu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antiation and Specialization Lay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thodology for the usage of the conceptual model</a:t>
            </a:r>
            <a:r>
              <a:rPr b="0" lang="el-G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lusions and Future 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C9AA-AA33-482D-B86F-9B84C56D35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ities of our model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-of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al Composition of Transform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T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didate Relationshi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BAE1F-A176-4CC2-8C5A-52D37E07DAA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eptual Mode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60595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name, finite set of attrib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resent an entity in the source database or in the D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rib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e role as in ER/dimensional mode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granular module of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77080" y="3933720"/>
          <a:ext cx="1727280" cy="69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77080" y="3933720"/>
                    <a:ext cx="17272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77080" y="2205000"/>
          <a:ext cx="1727280" cy="10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2205000"/>
                    <a:ext cx="1727280" cy="10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504720" y="5584680"/>
            <a:ext cx="860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We do not employ standard UML notation for concepts and attributes, for the reason that we need to treat attributes as first class citizens of our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117C-79D6-457C-84B8-5FBF52B76F6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assiliadis,Simitsis,Skiadopoulos - DOLAP'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2:47:07Z</dcterms:created>
  <dc:creator>Alkis Simitsis</dc:creator>
  <dc:description>asimi@dblab.ntua.gr</dc:description>
  <dc:language>en-US</dc:language>
  <cp:lastModifiedBy>Alkis Simitsis</cp:lastModifiedBy>
  <cp:lastPrinted>2002-11-06T21:01:28Z</cp:lastPrinted>
  <dcterms:modified xsi:type="dcterms:W3CDTF">2002-11-19T12:17:41Z</dcterms:modified>
  <cp:revision>260</cp:revision>
  <dc:subject>Presentation - DOLAP'02</dc:subject>
  <dc:title>Conceptual Modeling  for ETL processes</dc:title>
</cp:coreProperties>
</file>