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26D8-2BA7-4B1C-AB61-D7CD0697C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8AA23-1C0E-4E82-9B42-9EC1BA014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00BB-0A59-4919-88A2-55EE03485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6E9E1-28B3-4A6D-BFE9-B2F16BDEF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95D12-85AE-4AC8-B7BF-937E6084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059E7-5231-4BC9-A34F-B0A8D91E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30530-C6AC-4924-8596-E7999F6B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44518-8470-4BF0-96D1-EA6ECDBD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12103-3086-42E1-9AE8-9F826982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BCB5A-9EF5-46DE-8989-B7054CEF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EC01A-2E91-4260-8233-61307EF6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302C-A754-42FA-AA03-1B564593B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94028-EF2F-43FD-8277-6E39C289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7EDB9-CFBA-41F9-8D7C-0E6C4068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42182-C2AA-4668-92E6-CD36DE1B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E7B76-80BA-42A5-A252-E75C44AA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740BE-F643-4594-9F93-6080C7E0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1975A-DFDA-40AE-81EE-403260580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1542-A0BE-4988-AF1B-D37935634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B5D2-BAAB-42EF-9AD5-EE6E35D55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2CC6-0236-4E8D-83B3-BD3EAA5D7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4C02-04B9-4AC0-A30F-42882233E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8AD5-59A0-4787-B6E6-2CDBF8EA7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835A-E8BA-4BEF-A7FE-EF75BB889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12600"/>
            <a:ext cx="5778360" cy="2276280"/>
          </a:xfrm>
          <a:custGeom>
            <a:avLst/>
            <a:gdLst/>
            <a:ahLst/>
            <a:rect l="l" t="t" r="r" b="b"/>
            <a:pathLst>
              <a:path w="3640" h="1434">
                <a:moveTo>
                  <a:pt x="0" y="1152"/>
                </a:moveTo>
                <a:cubicBezTo>
                  <a:pt x="112" y="1192"/>
                  <a:pt x="204" y="1434"/>
                  <a:pt x="672" y="1392"/>
                </a:cubicBezTo>
                <a:cubicBezTo>
                  <a:pt x="824" y="1392"/>
                  <a:pt x="880" y="1248"/>
                  <a:pt x="912" y="1152"/>
                </a:cubicBezTo>
                <a:cubicBezTo>
                  <a:pt x="944" y="1056"/>
                  <a:pt x="821" y="910"/>
                  <a:pt x="864" y="816"/>
                </a:cubicBezTo>
                <a:cubicBezTo>
                  <a:pt x="864" y="552"/>
                  <a:pt x="1044" y="582"/>
                  <a:pt x="1170" y="588"/>
                </a:cubicBezTo>
                <a:cubicBezTo>
                  <a:pt x="1386" y="666"/>
                  <a:pt x="1535" y="548"/>
                  <a:pt x="1692" y="546"/>
                </a:cubicBezTo>
                <a:cubicBezTo>
                  <a:pt x="1849" y="544"/>
                  <a:pt x="1944" y="648"/>
                  <a:pt x="2112" y="576"/>
                </a:cubicBezTo>
                <a:cubicBezTo>
                  <a:pt x="2250" y="510"/>
                  <a:pt x="2200" y="448"/>
                  <a:pt x="2208" y="384"/>
                </a:cubicBezTo>
                <a:cubicBezTo>
                  <a:pt x="2220" y="311"/>
                  <a:pt x="2040" y="198"/>
                  <a:pt x="2184" y="138"/>
                </a:cubicBezTo>
                <a:cubicBezTo>
                  <a:pt x="2346" y="60"/>
                  <a:pt x="2500" y="95"/>
                  <a:pt x="2640" y="144"/>
                </a:cubicBezTo>
                <a:cubicBezTo>
                  <a:pt x="2780" y="193"/>
                  <a:pt x="2872" y="424"/>
                  <a:pt x="3024" y="432"/>
                </a:cubicBezTo>
                <a:cubicBezTo>
                  <a:pt x="3176" y="440"/>
                  <a:pt x="3464" y="264"/>
                  <a:pt x="3552" y="192"/>
                </a:cubicBezTo>
                <a:cubicBezTo>
                  <a:pt x="3640" y="120"/>
                  <a:pt x="3552" y="40"/>
                  <a:pt x="3552" y="0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-12600"/>
            <a:ext cx="3168720" cy="1968480"/>
          </a:xfrm>
          <a:custGeom>
            <a:avLst/>
            <a:gdLst/>
            <a:ahLst/>
            <a:rect l="l" t="t" r="r" b="b"/>
            <a:pathLst>
              <a:path w="1996" h="1240">
                <a:moveTo>
                  <a:pt x="0" y="960"/>
                </a:moveTo>
                <a:cubicBezTo>
                  <a:pt x="56" y="1000"/>
                  <a:pt x="240" y="1160"/>
                  <a:pt x="336" y="1200"/>
                </a:cubicBezTo>
                <a:cubicBezTo>
                  <a:pt x="432" y="1240"/>
                  <a:pt x="516" y="1238"/>
                  <a:pt x="576" y="1200"/>
                </a:cubicBezTo>
                <a:cubicBezTo>
                  <a:pt x="636" y="1162"/>
                  <a:pt x="686" y="1095"/>
                  <a:pt x="696" y="972"/>
                </a:cubicBezTo>
                <a:cubicBezTo>
                  <a:pt x="706" y="849"/>
                  <a:pt x="616" y="578"/>
                  <a:pt x="636" y="462"/>
                </a:cubicBezTo>
                <a:cubicBezTo>
                  <a:pt x="656" y="346"/>
                  <a:pt x="690" y="281"/>
                  <a:pt x="816" y="276"/>
                </a:cubicBezTo>
                <a:cubicBezTo>
                  <a:pt x="942" y="271"/>
                  <a:pt x="1238" y="413"/>
                  <a:pt x="1392" y="432"/>
                </a:cubicBezTo>
                <a:cubicBezTo>
                  <a:pt x="1546" y="451"/>
                  <a:pt x="1643" y="404"/>
                  <a:pt x="1740" y="390"/>
                </a:cubicBezTo>
                <a:cubicBezTo>
                  <a:pt x="1837" y="376"/>
                  <a:pt x="1952" y="413"/>
                  <a:pt x="1974" y="348"/>
                </a:cubicBezTo>
                <a:cubicBezTo>
                  <a:pt x="1996" y="283"/>
                  <a:pt x="1986" y="84"/>
                  <a:pt x="1872" y="0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2600"/>
            <a:ext cx="2514600" cy="1600200"/>
          </a:xfrm>
          <a:custGeom>
            <a:avLst/>
            <a:gdLst/>
            <a:ahLst/>
            <a:rect l="l" t="t" r="r" b="b"/>
            <a:pathLst>
              <a:path w="1584" h="1008">
                <a:moveTo>
                  <a:pt x="0" y="576"/>
                </a:moveTo>
                <a:cubicBezTo>
                  <a:pt x="56" y="640"/>
                  <a:pt x="256" y="912"/>
                  <a:pt x="336" y="960"/>
                </a:cubicBezTo>
                <a:cubicBezTo>
                  <a:pt x="416" y="1008"/>
                  <a:pt x="483" y="955"/>
                  <a:pt x="480" y="864"/>
                </a:cubicBezTo>
                <a:cubicBezTo>
                  <a:pt x="477" y="773"/>
                  <a:pt x="384" y="618"/>
                  <a:pt x="318" y="414"/>
                </a:cubicBezTo>
                <a:cubicBezTo>
                  <a:pt x="156" y="12"/>
                  <a:pt x="528" y="6"/>
                  <a:pt x="780" y="36"/>
                </a:cubicBezTo>
                <a:cubicBezTo>
                  <a:pt x="1002" y="66"/>
                  <a:pt x="1306" y="198"/>
                  <a:pt x="1440" y="192"/>
                </a:cubicBezTo>
                <a:cubicBezTo>
                  <a:pt x="1574" y="186"/>
                  <a:pt x="1554" y="40"/>
                  <a:pt x="1584" y="0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59000" y="228600"/>
            <a:ext cx="5956200" cy="2882880"/>
          </a:xfrm>
          <a:custGeom>
            <a:avLst/>
            <a:gdLst/>
            <a:ahLst/>
            <a:rect l="l" t="t" r="r" b="b"/>
            <a:pathLst>
              <a:path w="3752" h="1816">
                <a:moveTo>
                  <a:pt x="248" y="1000"/>
                </a:moveTo>
                <a:cubicBezTo>
                  <a:pt x="280" y="888"/>
                  <a:pt x="200" y="816"/>
                  <a:pt x="200" y="760"/>
                </a:cubicBezTo>
                <a:cubicBezTo>
                  <a:pt x="200" y="704"/>
                  <a:pt x="184" y="688"/>
                  <a:pt x="248" y="664"/>
                </a:cubicBezTo>
                <a:cubicBezTo>
                  <a:pt x="312" y="640"/>
                  <a:pt x="408" y="616"/>
                  <a:pt x="584" y="616"/>
                </a:cubicBezTo>
                <a:cubicBezTo>
                  <a:pt x="760" y="616"/>
                  <a:pt x="1128" y="696"/>
                  <a:pt x="1304" y="664"/>
                </a:cubicBezTo>
                <a:cubicBezTo>
                  <a:pt x="1480" y="632"/>
                  <a:pt x="1528" y="456"/>
                  <a:pt x="1640" y="424"/>
                </a:cubicBezTo>
                <a:cubicBezTo>
                  <a:pt x="1752" y="392"/>
                  <a:pt x="1816" y="472"/>
                  <a:pt x="1976" y="472"/>
                </a:cubicBezTo>
                <a:cubicBezTo>
                  <a:pt x="2136" y="472"/>
                  <a:pt x="2408" y="488"/>
                  <a:pt x="2600" y="424"/>
                </a:cubicBezTo>
                <a:cubicBezTo>
                  <a:pt x="2792" y="360"/>
                  <a:pt x="2968" y="152"/>
                  <a:pt x="3128" y="88"/>
                </a:cubicBezTo>
                <a:cubicBezTo>
                  <a:pt x="3288" y="24"/>
                  <a:pt x="3472" y="0"/>
                  <a:pt x="3560" y="40"/>
                </a:cubicBezTo>
                <a:cubicBezTo>
                  <a:pt x="3648" y="80"/>
                  <a:pt x="3752" y="208"/>
                  <a:pt x="3656" y="328"/>
                </a:cubicBezTo>
                <a:cubicBezTo>
                  <a:pt x="3560" y="448"/>
                  <a:pt x="3184" y="656"/>
                  <a:pt x="2984" y="760"/>
                </a:cubicBezTo>
                <a:cubicBezTo>
                  <a:pt x="2784" y="864"/>
                  <a:pt x="2624" y="840"/>
                  <a:pt x="2456" y="952"/>
                </a:cubicBezTo>
                <a:cubicBezTo>
                  <a:pt x="2288" y="1064"/>
                  <a:pt x="2152" y="1296"/>
                  <a:pt x="1976" y="1432"/>
                </a:cubicBezTo>
                <a:cubicBezTo>
                  <a:pt x="1800" y="1568"/>
                  <a:pt x="1568" y="1720"/>
                  <a:pt x="1400" y="1768"/>
                </a:cubicBezTo>
                <a:cubicBezTo>
                  <a:pt x="1232" y="1816"/>
                  <a:pt x="1152" y="1720"/>
                  <a:pt x="968" y="1720"/>
                </a:cubicBezTo>
                <a:cubicBezTo>
                  <a:pt x="784" y="1720"/>
                  <a:pt x="456" y="1816"/>
                  <a:pt x="296" y="1768"/>
                </a:cubicBezTo>
                <a:cubicBezTo>
                  <a:pt x="136" y="1720"/>
                  <a:pt x="16" y="1560"/>
                  <a:pt x="8" y="1432"/>
                </a:cubicBezTo>
                <a:cubicBezTo>
                  <a:pt x="0" y="1304"/>
                  <a:pt x="216" y="1112"/>
                  <a:pt x="248" y="1000"/>
                </a:cubicBezTo>
                <a:close/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42960" y="1092240"/>
            <a:ext cx="4095720" cy="1809720"/>
          </a:xfrm>
          <a:custGeom>
            <a:avLst/>
            <a:gdLst/>
            <a:ahLst/>
            <a:rect l="l" t="t" r="r" b="b"/>
            <a:pathLst>
              <a:path w="2580" h="1140">
                <a:moveTo>
                  <a:pt x="36" y="792"/>
                </a:moveTo>
                <a:cubicBezTo>
                  <a:pt x="66" y="666"/>
                  <a:pt x="180" y="544"/>
                  <a:pt x="228" y="456"/>
                </a:cubicBezTo>
                <a:cubicBezTo>
                  <a:pt x="276" y="368"/>
                  <a:pt x="260" y="304"/>
                  <a:pt x="324" y="264"/>
                </a:cubicBezTo>
                <a:cubicBezTo>
                  <a:pt x="388" y="224"/>
                  <a:pt x="484" y="208"/>
                  <a:pt x="612" y="216"/>
                </a:cubicBezTo>
                <a:cubicBezTo>
                  <a:pt x="740" y="224"/>
                  <a:pt x="828" y="330"/>
                  <a:pt x="1092" y="312"/>
                </a:cubicBezTo>
                <a:cubicBezTo>
                  <a:pt x="1422" y="270"/>
                  <a:pt x="1416" y="0"/>
                  <a:pt x="1536" y="60"/>
                </a:cubicBezTo>
                <a:cubicBezTo>
                  <a:pt x="1782" y="204"/>
                  <a:pt x="2256" y="82"/>
                  <a:pt x="2388" y="120"/>
                </a:cubicBezTo>
                <a:cubicBezTo>
                  <a:pt x="2520" y="158"/>
                  <a:pt x="2580" y="198"/>
                  <a:pt x="2328" y="288"/>
                </a:cubicBezTo>
                <a:cubicBezTo>
                  <a:pt x="2094" y="378"/>
                  <a:pt x="2178" y="488"/>
                  <a:pt x="2028" y="612"/>
                </a:cubicBezTo>
                <a:cubicBezTo>
                  <a:pt x="1878" y="736"/>
                  <a:pt x="1576" y="954"/>
                  <a:pt x="1428" y="1032"/>
                </a:cubicBezTo>
                <a:cubicBezTo>
                  <a:pt x="1292" y="1112"/>
                  <a:pt x="1218" y="1140"/>
                  <a:pt x="1140" y="1080"/>
                </a:cubicBezTo>
                <a:cubicBezTo>
                  <a:pt x="918" y="960"/>
                  <a:pt x="508" y="1080"/>
                  <a:pt x="324" y="1032"/>
                </a:cubicBezTo>
                <a:cubicBezTo>
                  <a:pt x="140" y="984"/>
                  <a:pt x="0" y="918"/>
                  <a:pt x="36" y="792"/>
                </a:cubicBezTo>
                <a:close/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857240" y="1444680"/>
            <a:ext cx="2791080" cy="1104840"/>
          </a:xfrm>
          <a:custGeom>
            <a:avLst/>
            <a:gdLst/>
            <a:ahLst/>
            <a:rect l="l" t="t" r="r" b="b"/>
            <a:pathLst>
              <a:path w="1758" h="696">
                <a:moveTo>
                  <a:pt x="60" y="594"/>
                </a:moveTo>
                <a:cubicBezTo>
                  <a:pt x="0" y="462"/>
                  <a:pt x="48" y="306"/>
                  <a:pt x="126" y="234"/>
                </a:cubicBezTo>
                <a:cubicBezTo>
                  <a:pt x="390" y="30"/>
                  <a:pt x="654" y="378"/>
                  <a:pt x="1182" y="234"/>
                </a:cubicBezTo>
                <a:cubicBezTo>
                  <a:pt x="1414" y="210"/>
                  <a:pt x="1284" y="132"/>
                  <a:pt x="1518" y="90"/>
                </a:cubicBezTo>
                <a:cubicBezTo>
                  <a:pt x="1680" y="0"/>
                  <a:pt x="1758" y="66"/>
                  <a:pt x="1710" y="138"/>
                </a:cubicBezTo>
                <a:cubicBezTo>
                  <a:pt x="1662" y="210"/>
                  <a:pt x="1290" y="372"/>
                  <a:pt x="1230" y="522"/>
                </a:cubicBezTo>
                <a:cubicBezTo>
                  <a:pt x="1134" y="696"/>
                  <a:pt x="945" y="654"/>
                  <a:pt x="750" y="666"/>
                </a:cubicBezTo>
                <a:cubicBezTo>
                  <a:pt x="555" y="678"/>
                  <a:pt x="164" y="666"/>
                  <a:pt x="60" y="594"/>
                </a:cubicBezTo>
                <a:close/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21300600">
            <a:off x="2057400" y="1968480"/>
            <a:ext cx="1473120" cy="304920"/>
          </a:xfrm>
          <a:custGeom>
            <a:avLst/>
            <a:gdLst/>
            <a:ahLst/>
            <a:rect l="l" t="t" r="r" b="b"/>
            <a:pathLst>
              <a:path w="928" h="192">
                <a:moveTo>
                  <a:pt x="104" y="96"/>
                </a:moveTo>
                <a:cubicBezTo>
                  <a:pt x="0" y="64"/>
                  <a:pt x="48" y="0"/>
                  <a:pt x="152" y="0"/>
                </a:cubicBezTo>
                <a:cubicBezTo>
                  <a:pt x="256" y="0"/>
                  <a:pt x="600" y="80"/>
                  <a:pt x="728" y="96"/>
                </a:cubicBezTo>
                <a:cubicBezTo>
                  <a:pt x="856" y="112"/>
                  <a:pt x="912" y="80"/>
                  <a:pt x="920" y="96"/>
                </a:cubicBezTo>
                <a:cubicBezTo>
                  <a:pt x="928" y="112"/>
                  <a:pt x="912" y="192"/>
                  <a:pt x="776" y="192"/>
                </a:cubicBezTo>
                <a:cubicBezTo>
                  <a:pt x="640" y="192"/>
                  <a:pt x="208" y="128"/>
                  <a:pt x="104" y="96"/>
                </a:cubicBezTo>
                <a:close/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2514600"/>
            <a:ext cx="9134640" cy="3619440"/>
          </a:xfrm>
          <a:custGeom>
            <a:avLst/>
            <a:gdLst/>
            <a:ahLst/>
            <a:rect l="l" t="t" r="r" b="b"/>
            <a:pathLst>
              <a:path w="5754" h="2280">
                <a:moveTo>
                  <a:pt x="0" y="40"/>
                </a:moveTo>
                <a:cubicBezTo>
                  <a:pt x="56" y="40"/>
                  <a:pt x="216" y="0"/>
                  <a:pt x="336" y="40"/>
                </a:cubicBezTo>
                <a:cubicBezTo>
                  <a:pt x="456" y="80"/>
                  <a:pt x="624" y="168"/>
                  <a:pt x="720" y="280"/>
                </a:cubicBezTo>
                <a:cubicBezTo>
                  <a:pt x="816" y="392"/>
                  <a:pt x="888" y="552"/>
                  <a:pt x="912" y="712"/>
                </a:cubicBezTo>
                <a:cubicBezTo>
                  <a:pt x="936" y="872"/>
                  <a:pt x="856" y="1064"/>
                  <a:pt x="864" y="1240"/>
                </a:cubicBezTo>
                <a:cubicBezTo>
                  <a:pt x="872" y="1416"/>
                  <a:pt x="864" y="1616"/>
                  <a:pt x="960" y="1768"/>
                </a:cubicBezTo>
                <a:cubicBezTo>
                  <a:pt x="1056" y="1920"/>
                  <a:pt x="1240" y="2072"/>
                  <a:pt x="1440" y="2152"/>
                </a:cubicBezTo>
                <a:cubicBezTo>
                  <a:pt x="1640" y="2232"/>
                  <a:pt x="1952" y="2280"/>
                  <a:pt x="2160" y="2248"/>
                </a:cubicBezTo>
                <a:cubicBezTo>
                  <a:pt x="2368" y="2216"/>
                  <a:pt x="2597" y="2256"/>
                  <a:pt x="2688" y="1960"/>
                </a:cubicBezTo>
                <a:cubicBezTo>
                  <a:pt x="2779" y="1664"/>
                  <a:pt x="2578" y="728"/>
                  <a:pt x="2706" y="472"/>
                </a:cubicBezTo>
                <a:cubicBezTo>
                  <a:pt x="2834" y="216"/>
                  <a:pt x="3171" y="384"/>
                  <a:pt x="3456" y="424"/>
                </a:cubicBezTo>
                <a:cubicBezTo>
                  <a:pt x="3741" y="464"/>
                  <a:pt x="4256" y="544"/>
                  <a:pt x="4416" y="712"/>
                </a:cubicBezTo>
                <a:cubicBezTo>
                  <a:pt x="4576" y="880"/>
                  <a:pt x="4364" y="1247"/>
                  <a:pt x="4416" y="1432"/>
                </a:cubicBezTo>
                <a:cubicBezTo>
                  <a:pt x="4468" y="1617"/>
                  <a:pt x="4577" y="1693"/>
                  <a:pt x="4728" y="1822"/>
                </a:cubicBezTo>
                <a:cubicBezTo>
                  <a:pt x="4879" y="1951"/>
                  <a:pt x="5151" y="2258"/>
                  <a:pt x="5322" y="2206"/>
                </a:cubicBezTo>
                <a:cubicBezTo>
                  <a:pt x="5493" y="2154"/>
                  <a:pt x="5664" y="1655"/>
                  <a:pt x="5754" y="1510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676520" y="3187800"/>
            <a:ext cx="2374920" cy="2324160"/>
          </a:xfrm>
          <a:custGeom>
            <a:avLst/>
            <a:gdLst/>
            <a:ahLst/>
            <a:rect l="l" t="t" r="r" b="b"/>
            <a:pathLst>
              <a:path w="1496" h="1464">
                <a:moveTo>
                  <a:pt x="408" y="16"/>
                </a:moveTo>
                <a:cubicBezTo>
                  <a:pt x="200" y="32"/>
                  <a:pt x="128" y="144"/>
                  <a:pt x="72" y="304"/>
                </a:cubicBezTo>
                <a:cubicBezTo>
                  <a:pt x="16" y="464"/>
                  <a:pt x="0" y="800"/>
                  <a:pt x="72" y="976"/>
                </a:cubicBezTo>
                <a:cubicBezTo>
                  <a:pt x="144" y="1152"/>
                  <a:pt x="328" y="1288"/>
                  <a:pt x="504" y="1360"/>
                </a:cubicBezTo>
                <a:cubicBezTo>
                  <a:pt x="680" y="1432"/>
                  <a:pt x="968" y="1464"/>
                  <a:pt x="1128" y="1408"/>
                </a:cubicBezTo>
                <a:cubicBezTo>
                  <a:pt x="1288" y="1352"/>
                  <a:pt x="1432" y="1224"/>
                  <a:pt x="1464" y="1024"/>
                </a:cubicBezTo>
                <a:cubicBezTo>
                  <a:pt x="1496" y="824"/>
                  <a:pt x="1496" y="376"/>
                  <a:pt x="1320" y="208"/>
                </a:cubicBezTo>
                <a:cubicBezTo>
                  <a:pt x="1144" y="40"/>
                  <a:pt x="616" y="0"/>
                  <a:pt x="408" y="16"/>
                </a:cubicBezTo>
                <a:close/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158600">
            <a:off x="2057400" y="3416400"/>
            <a:ext cx="1787400" cy="1158840"/>
          </a:xfrm>
          <a:custGeom>
            <a:avLst/>
            <a:gdLst/>
            <a:ahLst/>
            <a:rect l="l" t="t" r="r" b="b"/>
            <a:pathLst>
              <a:path w="1126" h="730">
                <a:moveTo>
                  <a:pt x="940" y="196"/>
                </a:moveTo>
                <a:cubicBezTo>
                  <a:pt x="700" y="100"/>
                  <a:pt x="701" y="40"/>
                  <a:pt x="576" y="20"/>
                </a:cubicBezTo>
                <a:cubicBezTo>
                  <a:pt x="451" y="0"/>
                  <a:pt x="284" y="17"/>
                  <a:pt x="192" y="76"/>
                </a:cubicBezTo>
                <a:cubicBezTo>
                  <a:pt x="100" y="135"/>
                  <a:pt x="56" y="132"/>
                  <a:pt x="24" y="372"/>
                </a:cubicBezTo>
                <a:cubicBezTo>
                  <a:pt x="0" y="730"/>
                  <a:pt x="350" y="637"/>
                  <a:pt x="520" y="670"/>
                </a:cubicBezTo>
                <a:cubicBezTo>
                  <a:pt x="690" y="703"/>
                  <a:pt x="978" y="647"/>
                  <a:pt x="1048" y="568"/>
                </a:cubicBezTo>
                <a:cubicBezTo>
                  <a:pt x="1118" y="489"/>
                  <a:pt x="1126" y="280"/>
                  <a:pt x="940" y="196"/>
                </a:cubicBezTo>
                <a:close/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940280" y="-12600"/>
            <a:ext cx="4203720" cy="5387760"/>
          </a:xfrm>
          <a:custGeom>
            <a:avLst/>
            <a:gdLst/>
            <a:ahLst/>
            <a:rect l="l" t="t" r="r" b="b"/>
            <a:pathLst>
              <a:path w="2648" h="3394">
                <a:moveTo>
                  <a:pt x="1496" y="0"/>
                </a:moveTo>
                <a:cubicBezTo>
                  <a:pt x="1520" y="64"/>
                  <a:pt x="1656" y="240"/>
                  <a:pt x="1640" y="384"/>
                </a:cubicBezTo>
                <a:cubicBezTo>
                  <a:pt x="1624" y="528"/>
                  <a:pt x="1584" y="728"/>
                  <a:pt x="1400" y="864"/>
                </a:cubicBezTo>
                <a:cubicBezTo>
                  <a:pt x="1216" y="1000"/>
                  <a:pt x="760" y="1080"/>
                  <a:pt x="536" y="1200"/>
                </a:cubicBezTo>
                <a:cubicBezTo>
                  <a:pt x="312" y="1320"/>
                  <a:pt x="112" y="1472"/>
                  <a:pt x="56" y="1584"/>
                </a:cubicBezTo>
                <a:cubicBezTo>
                  <a:pt x="0" y="1696"/>
                  <a:pt x="32" y="1800"/>
                  <a:pt x="200" y="1872"/>
                </a:cubicBezTo>
                <a:cubicBezTo>
                  <a:pt x="368" y="1944"/>
                  <a:pt x="832" y="1944"/>
                  <a:pt x="1064" y="2016"/>
                </a:cubicBezTo>
                <a:cubicBezTo>
                  <a:pt x="1296" y="2088"/>
                  <a:pt x="1509" y="2150"/>
                  <a:pt x="1592" y="2304"/>
                </a:cubicBezTo>
                <a:cubicBezTo>
                  <a:pt x="1675" y="2458"/>
                  <a:pt x="1474" y="2760"/>
                  <a:pt x="1562" y="2940"/>
                </a:cubicBezTo>
                <a:cubicBezTo>
                  <a:pt x="1650" y="3120"/>
                  <a:pt x="1939" y="3394"/>
                  <a:pt x="2120" y="3384"/>
                </a:cubicBezTo>
                <a:cubicBezTo>
                  <a:pt x="2301" y="3374"/>
                  <a:pt x="2538" y="2985"/>
                  <a:pt x="2648" y="2880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562720" y="-12600"/>
            <a:ext cx="3581280" cy="5016240"/>
          </a:xfrm>
          <a:custGeom>
            <a:avLst/>
            <a:gdLst/>
            <a:ahLst/>
            <a:rect l="l" t="t" r="r" b="b"/>
            <a:pathLst>
              <a:path w="2256" h="3160">
                <a:moveTo>
                  <a:pt x="1488" y="0"/>
                </a:moveTo>
                <a:cubicBezTo>
                  <a:pt x="1488" y="88"/>
                  <a:pt x="1552" y="360"/>
                  <a:pt x="1488" y="528"/>
                </a:cubicBezTo>
                <a:cubicBezTo>
                  <a:pt x="1424" y="696"/>
                  <a:pt x="1328" y="848"/>
                  <a:pt x="1104" y="1008"/>
                </a:cubicBezTo>
                <a:cubicBezTo>
                  <a:pt x="880" y="1168"/>
                  <a:pt x="288" y="1360"/>
                  <a:pt x="144" y="1488"/>
                </a:cubicBezTo>
                <a:cubicBezTo>
                  <a:pt x="0" y="1616"/>
                  <a:pt x="88" y="1712"/>
                  <a:pt x="240" y="1776"/>
                </a:cubicBezTo>
                <a:cubicBezTo>
                  <a:pt x="392" y="1840"/>
                  <a:pt x="840" y="1824"/>
                  <a:pt x="1056" y="1872"/>
                </a:cubicBezTo>
                <a:cubicBezTo>
                  <a:pt x="1272" y="1920"/>
                  <a:pt x="1456" y="1968"/>
                  <a:pt x="1536" y="2064"/>
                </a:cubicBezTo>
                <a:cubicBezTo>
                  <a:pt x="1616" y="2160"/>
                  <a:pt x="1568" y="2328"/>
                  <a:pt x="1536" y="2448"/>
                </a:cubicBezTo>
                <a:cubicBezTo>
                  <a:pt x="1504" y="2568"/>
                  <a:pt x="1328" y="2672"/>
                  <a:pt x="1344" y="2784"/>
                </a:cubicBezTo>
                <a:cubicBezTo>
                  <a:pt x="1360" y="2896"/>
                  <a:pt x="1528" y="3080"/>
                  <a:pt x="1632" y="3120"/>
                </a:cubicBezTo>
                <a:cubicBezTo>
                  <a:pt x="1736" y="3160"/>
                  <a:pt x="1872" y="3128"/>
                  <a:pt x="1968" y="3024"/>
                </a:cubicBezTo>
                <a:cubicBezTo>
                  <a:pt x="2064" y="2920"/>
                  <a:pt x="2184" y="2672"/>
                  <a:pt x="2208" y="2496"/>
                </a:cubicBezTo>
                <a:cubicBezTo>
                  <a:pt x="2232" y="2320"/>
                  <a:pt x="2184" y="2120"/>
                  <a:pt x="2112" y="1968"/>
                </a:cubicBezTo>
                <a:cubicBezTo>
                  <a:pt x="2040" y="1816"/>
                  <a:pt x="1824" y="1720"/>
                  <a:pt x="1776" y="1584"/>
                </a:cubicBezTo>
                <a:cubicBezTo>
                  <a:pt x="1728" y="1448"/>
                  <a:pt x="1744" y="1304"/>
                  <a:pt x="1824" y="1152"/>
                </a:cubicBezTo>
                <a:cubicBezTo>
                  <a:pt x="1904" y="1000"/>
                  <a:pt x="2166" y="772"/>
                  <a:pt x="2256" y="672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6362640" y="1714680"/>
            <a:ext cx="1663920" cy="1104840"/>
          </a:xfrm>
          <a:custGeom>
            <a:avLst/>
            <a:gdLst/>
            <a:ahLst/>
            <a:rect l="l" t="t" r="r" b="b"/>
            <a:pathLst>
              <a:path w="1048" h="696">
                <a:moveTo>
                  <a:pt x="984" y="256"/>
                </a:moveTo>
                <a:cubicBezTo>
                  <a:pt x="960" y="152"/>
                  <a:pt x="992" y="32"/>
                  <a:pt x="840" y="16"/>
                </a:cubicBezTo>
                <a:cubicBezTo>
                  <a:pt x="736" y="0"/>
                  <a:pt x="624" y="104"/>
                  <a:pt x="552" y="160"/>
                </a:cubicBezTo>
                <a:cubicBezTo>
                  <a:pt x="465" y="208"/>
                  <a:pt x="480" y="240"/>
                  <a:pt x="320" y="304"/>
                </a:cubicBezTo>
                <a:cubicBezTo>
                  <a:pt x="168" y="368"/>
                  <a:pt x="0" y="512"/>
                  <a:pt x="600" y="592"/>
                </a:cubicBezTo>
                <a:cubicBezTo>
                  <a:pt x="696" y="640"/>
                  <a:pt x="920" y="696"/>
                  <a:pt x="984" y="640"/>
                </a:cubicBezTo>
                <a:cubicBezTo>
                  <a:pt x="1048" y="584"/>
                  <a:pt x="984" y="336"/>
                  <a:pt x="984" y="256"/>
                </a:cubicBezTo>
                <a:close/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123400" y="-12600"/>
            <a:ext cx="868320" cy="1104840"/>
          </a:xfrm>
          <a:custGeom>
            <a:avLst/>
            <a:gdLst/>
            <a:ahLst/>
            <a:rect l="l" t="t" r="r" b="b"/>
            <a:pathLst>
              <a:path w="547" h="696">
                <a:moveTo>
                  <a:pt x="19" y="0"/>
                </a:moveTo>
                <a:cubicBezTo>
                  <a:pt x="19" y="88"/>
                  <a:pt x="0" y="415"/>
                  <a:pt x="19" y="528"/>
                </a:cubicBezTo>
                <a:cubicBezTo>
                  <a:pt x="38" y="641"/>
                  <a:pt x="75" y="664"/>
                  <a:pt x="131" y="680"/>
                </a:cubicBezTo>
                <a:cubicBezTo>
                  <a:pt x="187" y="696"/>
                  <a:pt x="294" y="673"/>
                  <a:pt x="355" y="624"/>
                </a:cubicBezTo>
                <a:cubicBezTo>
                  <a:pt x="416" y="575"/>
                  <a:pt x="467" y="488"/>
                  <a:pt x="499" y="384"/>
                </a:cubicBezTo>
                <a:cubicBezTo>
                  <a:pt x="531" y="280"/>
                  <a:pt x="537" y="80"/>
                  <a:pt x="547" y="0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3213000"/>
            <a:ext cx="3149640" cy="3645000"/>
          </a:xfrm>
          <a:custGeom>
            <a:avLst/>
            <a:gdLst/>
            <a:ahLst/>
            <a:rect l="l" t="t" r="r" b="b"/>
            <a:pathLst>
              <a:path w="1984" h="2296">
                <a:moveTo>
                  <a:pt x="0" y="32"/>
                </a:moveTo>
                <a:cubicBezTo>
                  <a:pt x="56" y="32"/>
                  <a:pt x="237" y="0"/>
                  <a:pt x="336" y="32"/>
                </a:cubicBezTo>
                <a:cubicBezTo>
                  <a:pt x="435" y="64"/>
                  <a:pt x="532" y="119"/>
                  <a:pt x="592" y="224"/>
                </a:cubicBezTo>
                <a:cubicBezTo>
                  <a:pt x="652" y="329"/>
                  <a:pt x="684" y="497"/>
                  <a:pt x="696" y="664"/>
                </a:cubicBezTo>
                <a:cubicBezTo>
                  <a:pt x="708" y="831"/>
                  <a:pt x="644" y="1037"/>
                  <a:pt x="664" y="1224"/>
                </a:cubicBezTo>
                <a:cubicBezTo>
                  <a:pt x="684" y="1411"/>
                  <a:pt x="739" y="1633"/>
                  <a:pt x="816" y="1784"/>
                </a:cubicBezTo>
                <a:cubicBezTo>
                  <a:pt x="893" y="1935"/>
                  <a:pt x="933" y="2043"/>
                  <a:pt x="1128" y="2128"/>
                </a:cubicBezTo>
                <a:cubicBezTo>
                  <a:pt x="1323" y="2213"/>
                  <a:pt x="1806" y="2261"/>
                  <a:pt x="1984" y="2296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3809880"/>
            <a:ext cx="1295280" cy="3035520"/>
          </a:xfrm>
          <a:custGeom>
            <a:avLst/>
            <a:gdLst/>
            <a:ahLst/>
            <a:rect l="l" t="t" r="r" b="b"/>
            <a:pathLst>
              <a:path w="816" h="1912">
                <a:moveTo>
                  <a:pt x="0" y="280"/>
                </a:moveTo>
                <a:cubicBezTo>
                  <a:pt x="144" y="0"/>
                  <a:pt x="323" y="177"/>
                  <a:pt x="384" y="280"/>
                </a:cubicBezTo>
                <a:cubicBezTo>
                  <a:pt x="488" y="440"/>
                  <a:pt x="344" y="688"/>
                  <a:pt x="368" y="896"/>
                </a:cubicBezTo>
                <a:cubicBezTo>
                  <a:pt x="392" y="1104"/>
                  <a:pt x="453" y="1359"/>
                  <a:pt x="528" y="1528"/>
                </a:cubicBezTo>
                <a:cubicBezTo>
                  <a:pt x="603" y="1697"/>
                  <a:pt x="756" y="1832"/>
                  <a:pt x="816" y="1912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267080" y="5124600"/>
            <a:ext cx="4889520" cy="1720800"/>
          </a:xfrm>
          <a:custGeom>
            <a:avLst/>
            <a:gdLst/>
            <a:ahLst/>
            <a:rect l="l" t="t" r="r" b="b"/>
            <a:pathLst>
              <a:path w="3080" h="1084">
                <a:moveTo>
                  <a:pt x="0" y="1084"/>
                </a:moveTo>
                <a:cubicBezTo>
                  <a:pt x="71" y="1059"/>
                  <a:pt x="317" y="1064"/>
                  <a:pt x="424" y="932"/>
                </a:cubicBezTo>
                <a:cubicBezTo>
                  <a:pt x="531" y="800"/>
                  <a:pt x="539" y="444"/>
                  <a:pt x="640" y="292"/>
                </a:cubicBezTo>
                <a:cubicBezTo>
                  <a:pt x="741" y="140"/>
                  <a:pt x="883" y="40"/>
                  <a:pt x="1032" y="20"/>
                </a:cubicBezTo>
                <a:cubicBezTo>
                  <a:pt x="1181" y="0"/>
                  <a:pt x="1364" y="75"/>
                  <a:pt x="1536" y="172"/>
                </a:cubicBezTo>
                <a:cubicBezTo>
                  <a:pt x="1708" y="269"/>
                  <a:pt x="1920" y="476"/>
                  <a:pt x="2064" y="604"/>
                </a:cubicBezTo>
                <a:cubicBezTo>
                  <a:pt x="2208" y="732"/>
                  <a:pt x="2231" y="860"/>
                  <a:pt x="2400" y="940"/>
                </a:cubicBezTo>
                <a:cubicBezTo>
                  <a:pt x="2569" y="1020"/>
                  <a:pt x="2939" y="1054"/>
                  <a:pt x="3080" y="1084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pic>
        <p:nvPicPr>
          <p:cNvPr id="19" name="Topbanx" descr=""/>
          <p:cNvPicPr/>
          <p:nvPr/>
        </p:nvPicPr>
        <p:blipFill>
          <a:blip r:embed="rId2"/>
          <a:srcRect l="31927" t="5317" r="0" b="4258"/>
          <a:stretch/>
        </p:blipFill>
        <p:spPr>
          <a:xfrm>
            <a:off x="0" y="0"/>
            <a:ext cx="515880" cy="6858000"/>
          </a:xfrm>
          <a:prstGeom prst="rect">
            <a:avLst/>
          </a:prstGeom>
          <a:ln w="0">
            <a:noFill/>
          </a:ln>
        </p:spPr>
      </p:pic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172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172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ftr" idx="1"/>
          </p:nvPr>
        </p:nvSpPr>
        <p:spPr>
          <a:xfrm>
            <a:off x="609480" y="636588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172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172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sldNum" idx="2"/>
          </p:nvPr>
        </p:nvSpPr>
        <p:spPr>
          <a:xfrm>
            <a:off x="7162560" y="636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172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E753-B6B8-4E83-A5EC-E58F278CD907}" type="slidenum">
              <a:rPr b="0" lang="el-GR" sz="1400" spc="-1" strike="noStrike">
                <a:solidFill>
                  <a:srgbClr val="00172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pic>
          <p:nvPicPr>
            <p:cNvPr id="80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00172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4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00172e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172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172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172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172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172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2B45-B03D-450A-BC2D-B72052089635}" type="slidenum">
              <a:rPr b="0" lang="el-GR" sz="1400" spc="-1" strike="noStrike">
                <a:solidFill>
                  <a:srgbClr val="00172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172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172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1294920"/>
            <a:ext cx="6248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odeling ETL Activities as Graphs</a:t>
            </a:r>
            <a:r>
              <a:rPr b="0" lang="en-GB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4038480"/>
            <a:ext cx="8077320" cy="1981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nos Vassiliadis, Alkis Simitsis, Spiros Skiadopo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National Technical University of Ath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{pvassi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asimi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piros}@dbn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ec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ntua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33640" y="5181480"/>
            <a:ext cx="7714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6960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Input Sche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Output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Rejections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Parameter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Output/Rejection Operationa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724280" y="685800"/>
            <a:ext cx="4038480" cy="2527200"/>
            <a:chOff x="4724280" y="685800"/>
            <a:chExt cx="4038480" cy="2527200"/>
          </a:xfrm>
        </p:grpSpPr>
        <p:sp>
          <p:nvSpPr>
            <p:cNvPr id="345" name=""/>
            <p:cNvSpPr/>
            <p:nvPr/>
          </p:nvSpPr>
          <p:spPr>
            <a:xfrm>
              <a:off x="6188040" y="1397160"/>
              <a:ext cx="1292400" cy="1143000"/>
            </a:xfrm>
            <a:custGeom>
              <a:avLst/>
              <a:gdLst/>
              <a:ahLst/>
              <a:rect l="l" t="t" r="r" b="b"/>
              <a:pathLst>
                <a:path w="912" h="861">
                  <a:moveTo>
                    <a:pt x="912" y="430"/>
                  </a:moveTo>
                  <a:lnTo>
                    <a:pt x="1" y="0"/>
                  </a:lnTo>
                  <a:lnTo>
                    <a:pt x="0" y="861"/>
                  </a:lnTo>
                  <a:lnTo>
                    <a:pt x="912" y="430"/>
                  </a:lnTo>
                  <a:close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79880" y="1643040"/>
              <a:ext cx="1197000" cy="27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979520" y="2155680"/>
              <a:ext cx="1197000" cy="51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859080" y="2260440"/>
              <a:ext cx="1800" cy="304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62440" y="960480"/>
              <a:ext cx="460440" cy="63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56280" y="1538280"/>
              <a:ext cx="120600" cy="13644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76" y="86"/>
                  </a:moveTo>
                  <a:lnTo>
                    <a:pt x="0" y="46"/>
                  </a:lnTo>
                  <a:lnTo>
                    <a:pt x="4" y="44"/>
                  </a:lnTo>
                  <a:lnTo>
                    <a:pt x="9" y="43"/>
                  </a:lnTo>
                  <a:lnTo>
                    <a:pt x="13" y="42"/>
                  </a:lnTo>
                  <a:lnTo>
                    <a:pt x="17" y="40"/>
                  </a:lnTo>
                  <a:lnTo>
                    <a:pt x="21" y="39"/>
                  </a:lnTo>
                  <a:lnTo>
                    <a:pt x="26" y="36"/>
                  </a:lnTo>
                  <a:lnTo>
                    <a:pt x="30" y="34"/>
                  </a:lnTo>
                  <a:lnTo>
                    <a:pt x="34" y="32"/>
                  </a:lnTo>
                  <a:lnTo>
                    <a:pt x="39" y="29"/>
                  </a:lnTo>
                  <a:lnTo>
                    <a:pt x="42" y="26"/>
                  </a:lnTo>
                  <a:lnTo>
                    <a:pt x="46" y="23"/>
                  </a:lnTo>
                  <a:lnTo>
                    <a:pt x="49" y="19"/>
                  </a:lnTo>
                  <a:lnTo>
                    <a:pt x="52" y="16"/>
                  </a:lnTo>
                  <a:lnTo>
                    <a:pt x="54" y="11"/>
                  </a:lnTo>
                  <a:lnTo>
                    <a:pt x="57" y="9"/>
                  </a:lnTo>
                  <a:lnTo>
                    <a:pt x="60" y="4"/>
                  </a:lnTo>
                  <a:lnTo>
                    <a:pt x="63" y="0"/>
                  </a:lnTo>
                  <a:lnTo>
                    <a:pt x="7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7696080" y="1486080"/>
              <a:ext cx="1066680" cy="761760"/>
              <a:chOff x="7696080" y="1486080"/>
              <a:chExt cx="1066680" cy="761760"/>
            </a:xfrm>
          </p:grpSpPr>
          <p:sp>
            <p:nvSpPr>
              <p:cNvPr id="352" name=""/>
              <p:cNvSpPr/>
              <p:nvPr/>
            </p:nvSpPr>
            <p:spPr>
              <a:xfrm>
                <a:off x="7696080" y="1486080"/>
                <a:ext cx="1066680" cy="761760"/>
              </a:xfrm>
              <a:prstGeom prst="can">
                <a:avLst>
                  <a:gd name="adj" fmla="val 25000"/>
                </a:avLst>
              </a:prstGeom>
              <a:solidFill>
                <a:srgbClr val="ffcc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952760" y="176040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utput</a:t>
                </a:r>
                <a:endParaRPr b="0" lang="en-US" sz="1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6245640" y="1676520"/>
              <a:ext cx="60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ctivity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18080" y="685800"/>
              <a:ext cx="118764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67480" y="1968480"/>
              <a:ext cx="228600" cy="0"/>
            </a:xfrm>
            <a:prstGeom prst="line">
              <a:avLst/>
            </a:prstGeom>
            <a:ln w="9360">
              <a:solidFill>
                <a:srgbClr val="001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4724280" y="1346040"/>
              <a:ext cx="1066680" cy="762120"/>
              <a:chOff x="4724280" y="1346040"/>
              <a:chExt cx="1066680" cy="762120"/>
            </a:xfrm>
          </p:grpSpPr>
          <p:sp>
            <p:nvSpPr>
              <p:cNvPr id="358" name=""/>
              <p:cNvSpPr/>
              <p:nvPr/>
            </p:nvSpPr>
            <p:spPr>
              <a:xfrm>
                <a:off x="4724280" y="1346040"/>
                <a:ext cx="1066680" cy="762120"/>
              </a:xfrm>
              <a:prstGeom prst="can">
                <a:avLst>
                  <a:gd name="adj" fmla="val 25000"/>
                </a:avLst>
              </a:prstGeom>
              <a:solidFill>
                <a:srgbClr val="ffcc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80960" y="1620720"/>
                <a:ext cx="561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put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1</a:t>
                </a:r>
                <a:endParaRPr b="0" lang="en-US" sz="1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724280" y="2184480"/>
              <a:ext cx="1066680" cy="761760"/>
              <a:chOff x="4724280" y="2184480"/>
              <a:chExt cx="1066680" cy="761760"/>
            </a:xfrm>
          </p:grpSpPr>
          <p:sp>
            <p:nvSpPr>
              <p:cNvPr id="361" name=""/>
              <p:cNvSpPr/>
              <p:nvPr/>
            </p:nvSpPr>
            <p:spPr>
              <a:xfrm>
                <a:off x="4724280" y="2184480"/>
                <a:ext cx="1066680" cy="761760"/>
              </a:xfrm>
              <a:prstGeom prst="can">
                <a:avLst>
                  <a:gd name="adj" fmla="val 25000"/>
                </a:avLst>
              </a:prstGeom>
              <a:solidFill>
                <a:srgbClr val="ffcc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980960" y="2458800"/>
                <a:ext cx="561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put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2</a:t>
                </a:r>
                <a:endParaRPr b="0" lang="en-US" sz="1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6400800" y="2565360"/>
              <a:ext cx="1066680" cy="647640"/>
            </a:xfrm>
            <a:prstGeom prst="flowChartMultidocument">
              <a:avLst/>
            </a:prstGeom>
            <a:solidFill>
              <a:srgbClr val="91c6d1"/>
            </a:solidFill>
            <a:ln w="93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jected 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ows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pic>
        <p:nvPicPr>
          <p:cNvPr id="364" name="" descr=""/>
          <p:cNvPicPr/>
          <p:nvPr/>
        </p:nvPicPr>
        <p:blipFill>
          <a:blip r:embed="rId7"/>
          <a:srcRect l="23339" t="23622" r="23339" b="23055"/>
          <a:stretch/>
        </p:blipFill>
        <p:spPr>
          <a:xfrm>
            <a:off x="6248520" y="1905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F743C-F1E1-4720-A161-A2121C19E8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6960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-Of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-Of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r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d Provi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715000" y="2438280"/>
            <a:ext cx="1750680" cy="303840"/>
            <a:chOff x="5715000" y="2438280"/>
            <a:chExt cx="1750680" cy="303840"/>
          </a:xfrm>
        </p:grpSpPr>
        <p:sp>
          <p:nvSpPr>
            <p:cNvPr id="368" name=""/>
            <p:cNvSpPr/>
            <p:nvPr/>
          </p:nvSpPr>
          <p:spPr>
            <a:xfrm>
              <a:off x="5715000" y="2438280"/>
              <a:ext cx="569160" cy="3038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cxnSp>
          <p:nvCxnSpPr>
            <p:cNvPr id="369" name=""/>
            <p:cNvCxnSpPr>
              <a:stCxn id="368" idx="3"/>
            </p:cNvCxnSpPr>
            <p:nvPr/>
          </p:nvCxnSpPr>
          <p:spPr>
            <a:xfrm>
              <a:off x="6283800" y="2589840"/>
              <a:ext cx="1182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370" name=""/>
          <p:cNvSpPr/>
          <p:nvPr/>
        </p:nvSpPr>
        <p:spPr>
          <a:xfrm>
            <a:off x="5791320" y="37339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2004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1320" y="45720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913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C527-EF66-4CDE-AB93-BADBF2FF8E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t-Of Relation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90720" y="1355040"/>
            <a:ext cx="7126200" cy="5122080"/>
            <a:chOff x="990720" y="1355040"/>
            <a:chExt cx="7126200" cy="5122080"/>
          </a:xfrm>
        </p:grpSpPr>
        <p:sp>
          <p:nvSpPr>
            <p:cNvPr id="376" name=""/>
            <p:cNvSpPr/>
            <p:nvPr/>
          </p:nvSpPr>
          <p:spPr>
            <a:xfrm>
              <a:off x="6818400" y="2008080"/>
              <a:ext cx="0" cy="411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84880" y="1644480"/>
              <a:ext cx="3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22800" y="1644480"/>
              <a:ext cx="33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62640" y="1644480"/>
              <a:ext cx="0" cy="245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54160" y="1644480"/>
              <a:ext cx="0" cy="20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54160" y="164448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92560" y="1604880"/>
              <a:ext cx="25380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22800" y="1603440"/>
              <a:ext cx="255600" cy="9036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23280" y="1644480"/>
              <a:ext cx="0" cy="245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16600" y="1644480"/>
              <a:ext cx="0" cy="20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16600" y="1644480"/>
              <a:ext cx="50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54640" y="1604880"/>
              <a:ext cx="25416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84880" y="1603440"/>
              <a:ext cx="255600" cy="9036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2637000" y="1905120"/>
              <a:ext cx="715680" cy="436320"/>
              <a:chOff x="2637000" y="1905120"/>
              <a:chExt cx="715680" cy="436320"/>
            </a:xfrm>
          </p:grpSpPr>
          <p:sp>
            <p:nvSpPr>
              <p:cNvPr id="390" name=""/>
              <p:cNvSpPr/>
              <p:nvPr/>
            </p:nvSpPr>
            <p:spPr>
              <a:xfrm>
                <a:off x="2653560" y="1905120"/>
                <a:ext cx="592920" cy="43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637000" y="2059560"/>
                <a:ext cx="71568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443320" y="3219480"/>
              <a:ext cx="1100160" cy="438120"/>
              <a:chOff x="2443320" y="3219480"/>
              <a:chExt cx="1100160" cy="438120"/>
            </a:xfrm>
          </p:grpSpPr>
          <p:sp>
            <p:nvSpPr>
              <p:cNvPr id="393" name=""/>
              <p:cNvSpPr/>
              <p:nvPr/>
            </p:nvSpPr>
            <p:spPr>
              <a:xfrm>
                <a:off x="2667240" y="3219480"/>
                <a:ext cx="59256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443320" y="3336120"/>
                <a:ext cx="11001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2637000" y="2341440"/>
              <a:ext cx="715680" cy="439920"/>
              <a:chOff x="2637000" y="2341440"/>
              <a:chExt cx="715680" cy="439920"/>
            </a:xfrm>
          </p:grpSpPr>
          <p:sp>
            <p:nvSpPr>
              <p:cNvPr id="396" name=""/>
              <p:cNvSpPr/>
              <p:nvPr/>
            </p:nvSpPr>
            <p:spPr>
              <a:xfrm>
                <a:off x="2653560" y="2341440"/>
                <a:ext cx="592920" cy="43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37000" y="2497320"/>
                <a:ext cx="71568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637000" y="2781360"/>
              <a:ext cx="760320" cy="438120"/>
              <a:chOff x="2637000" y="2781360"/>
              <a:chExt cx="760320" cy="438120"/>
            </a:xfrm>
          </p:grpSpPr>
          <p:sp>
            <p:nvSpPr>
              <p:cNvPr id="399" name=""/>
              <p:cNvSpPr/>
              <p:nvPr/>
            </p:nvSpPr>
            <p:spPr>
              <a:xfrm>
                <a:off x="2653560" y="2781360"/>
                <a:ext cx="59148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637000" y="2936520"/>
                <a:ext cx="76032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4268880" y="3659040"/>
              <a:ext cx="716040" cy="436680"/>
              <a:chOff x="4268880" y="3659040"/>
              <a:chExt cx="716040" cy="436680"/>
            </a:xfrm>
          </p:grpSpPr>
          <p:sp>
            <p:nvSpPr>
              <p:cNvPr id="402" name=""/>
              <p:cNvSpPr/>
              <p:nvPr/>
            </p:nvSpPr>
            <p:spPr>
              <a:xfrm>
                <a:off x="4285440" y="3659040"/>
                <a:ext cx="59328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268880" y="3813840"/>
                <a:ext cx="7160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249800" y="1906560"/>
              <a:ext cx="714240" cy="436680"/>
              <a:chOff x="4249800" y="1906560"/>
              <a:chExt cx="714240" cy="436680"/>
            </a:xfrm>
          </p:grpSpPr>
          <p:sp>
            <p:nvSpPr>
              <p:cNvPr id="405" name=""/>
              <p:cNvSpPr/>
              <p:nvPr/>
            </p:nvSpPr>
            <p:spPr>
              <a:xfrm>
                <a:off x="4266360" y="1906560"/>
                <a:ext cx="59184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49800" y="2061000"/>
                <a:ext cx="71424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4054320" y="3220920"/>
              <a:ext cx="1100160" cy="438120"/>
              <a:chOff x="4054320" y="3220920"/>
              <a:chExt cx="1100160" cy="438120"/>
            </a:xfrm>
          </p:grpSpPr>
          <p:sp>
            <p:nvSpPr>
              <p:cNvPr id="408" name=""/>
              <p:cNvSpPr/>
              <p:nvPr/>
            </p:nvSpPr>
            <p:spPr>
              <a:xfrm>
                <a:off x="4278240" y="3220920"/>
                <a:ext cx="59256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054320" y="3337560"/>
                <a:ext cx="11001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4249800" y="2343240"/>
              <a:ext cx="714240" cy="439560"/>
              <a:chOff x="4249800" y="2343240"/>
              <a:chExt cx="714240" cy="439560"/>
            </a:xfrm>
          </p:grpSpPr>
          <p:sp>
            <p:nvSpPr>
              <p:cNvPr id="411" name=""/>
              <p:cNvSpPr/>
              <p:nvPr/>
            </p:nvSpPr>
            <p:spPr>
              <a:xfrm>
                <a:off x="4266360" y="2343240"/>
                <a:ext cx="591840" cy="43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49800" y="2498760"/>
                <a:ext cx="71424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249800" y="2782800"/>
              <a:ext cx="760320" cy="438120"/>
              <a:chOff x="4249800" y="2782800"/>
              <a:chExt cx="760320" cy="438120"/>
            </a:xfrm>
          </p:grpSpPr>
          <p:sp>
            <p:nvSpPr>
              <p:cNvPr id="414" name=""/>
              <p:cNvSpPr/>
              <p:nvPr/>
            </p:nvSpPr>
            <p:spPr>
              <a:xfrm>
                <a:off x="4266360" y="2782800"/>
                <a:ext cx="59148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49800" y="2937960"/>
                <a:ext cx="76032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5597640" y="1905120"/>
              <a:ext cx="715680" cy="436320"/>
              <a:chOff x="5597640" y="1905120"/>
              <a:chExt cx="715680" cy="436320"/>
            </a:xfrm>
          </p:grpSpPr>
          <p:sp>
            <p:nvSpPr>
              <p:cNvPr id="417" name=""/>
              <p:cNvSpPr/>
              <p:nvPr/>
            </p:nvSpPr>
            <p:spPr>
              <a:xfrm>
                <a:off x="5614200" y="1905120"/>
                <a:ext cx="592920" cy="43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597640" y="2059560"/>
                <a:ext cx="71568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5405400" y="3219480"/>
              <a:ext cx="1100160" cy="438120"/>
              <a:chOff x="5405400" y="3219480"/>
              <a:chExt cx="1100160" cy="438120"/>
            </a:xfrm>
          </p:grpSpPr>
          <p:sp>
            <p:nvSpPr>
              <p:cNvPr id="420" name=""/>
              <p:cNvSpPr/>
              <p:nvPr/>
            </p:nvSpPr>
            <p:spPr>
              <a:xfrm>
                <a:off x="5629320" y="3219480"/>
                <a:ext cx="59256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05400" y="3336120"/>
                <a:ext cx="11001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597640" y="2341440"/>
              <a:ext cx="715680" cy="439920"/>
              <a:chOff x="5597640" y="2341440"/>
              <a:chExt cx="715680" cy="439920"/>
            </a:xfrm>
          </p:grpSpPr>
          <p:sp>
            <p:nvSpPr>
              <p:cNvPr id="423" name=""/>
              <p:cNvSpPr/>
              <p:nvPr/>
            </p:nvSpPr>
            <p:spPr>
              <a:xfrm>
                <a:off x="5614200" y="2341440"/>
                <a:ext cx="592920" cy="43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597640" y="2497320"/>
                <a:ext cx="71568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597640" y="2781360"/>
              <a:ext cx="761760" cy="438120"/>
              <a:chOff x="5597640" y="2781360"/>
              <a:chExt cx="761760" cy="438120"/>
            </a:xfrm>
          </p:grpSpPr>
          <p:sp>
            <p:nvSpPr>
              <p:cNvPr id="426" name=""/>
              <p:cNvSpPr/>
              <p:nvPr/>
            </p:nvSpPr>
            <p:spPr>
              <a:xfrm>
                <a:off x="5614200" y="2781360"/>
                <a:ext cx="59256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597640" y="2936520"/>
                <a:ext cx="7617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7230960" y="3659040"/>
              <a:ext cx="716040" cy="436680"/>
              <a:chOff x="7230960" y="3659040"/>
              <a:chExt cx="716040" cy="436680"/>
            </a:xfrm>
          </p:grpSpPr>
          <p:sp>
            <p:nvSpPr>
              <p:cNvPr id="429" name=""/>
              <p:cNvSpPr/>
              <p:nvPr/>
            </p:nvSpPr>
            <p:spPr>
              <a:xfrm>
                <a:off x="7247520" y="3659040"/>
                <a:ext cx="59328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30960" y="3813840"/>
                <a:ext cx="7160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7210440" y="1906560"/>
              <a:ext cx="714240" cy="436680"/>
              <a:chOff x="7210440" y="1906560"/>
              <a:chExt cx="714240" cy="436680"/>
            </a:xfrm>
          </p:grpSpPr>
          <p:sp>
            <p:nvSpPr>
              <p:cNvPr id="432" name=""/>
              <p:cNvSpPr/>
              <p:nvPr/>
            </p:nvSpPr>
            <p:spPr>
              <a:xfrm>
                <a:off x="7227000" y="1906560"/>
                <a:ext cx="59184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210440" y="2061000"/>
                <a:ext cx="71424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7016760" y="3220920"/>
              <a:ext cx="1100160" cy="438120"/>
              <a:chOff x="7016760" y="3220920"/>
              <a:chExt cx="1100160" cy="438120"/>
            </a:xfrm>
          </p:grpSpPr>
          <p:sp>
            <p:nvSpPr>
              <p:cNvPr id="435" name=""/>
              <p:cNvSpPr/>
              <p:nvPr/>
            </p:nvSpPr>
            <p:spPr>
              <a:xfrm>
                <a:off x="7240680" y="3220920"/>
                <a:ext cx="59256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016760" y="3337560"/>
                <a:ext cx="11001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7210440" y="2343240"/>
              <a:ext cx="714240" cy="439560"/>
              <a:chOff x="7210440" y="2343240"/>
              <a:chExt cx="714240" cy="439560"/>
            </a:xfrm>
          </p:grpSpPr>
          <p:sp>
            <p:nvSpPr>
              <p:cNvPr id="438" name=""/>
              <p:cNvSpPr/>
              <p:nvPr/>
            </p:nvSpPr>
            <p:spPr>
              <a:xfrm>
                <a:off x="7227000" y="2343240"/>
                <a:ext cx="591840" cy="43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210440" y="2498760"/>
                <a:ext cx="71424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7210440" y="2782800"/>
              <a:ext cx="763560" cy="438120"/>
              <a:chOff x="7210440" y="2782800"/>
              <a:chExt cx="763560" cy="438120"/>
            </a:xfrm>
          </p:grpSpPr>
          <p:sp>
            <p:nvSpPr>
              <p:cNvPr id="441" name=""/>
              <p:cNvSpPr/>
              <p:nvPr/>
            </p:nvSpPr>
            <p:spPr>
              <a:xfrm>
                <a:off x="7227360" y="2782800"/>
                <a:ext cx="59400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210440" y="2937960"/>
                <a:ext cx="7635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624640" y="3659040"/>
              <a:ext cx="715680" cy="436680"/>
              <a:chOff x="5624640" y="3659040"/>
              <a:chExt cx="715680" cy="436680"/>
            </a:xfrm>
          </p:grpSpPr>
          <p:sp>
            <p:nvSpPr>
              <p:cNvPr id="444" name=""/>
              <p:cNvSpPr/>
              <p:nvPr/>
            </p:nvSpPr>
            <p:spPr>
              <a:xfrm>
                <a:off x="5641200" y="3659040"/>
                <a:ext cx="59292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24640" y="3813840"/>
                <a:ext cx="71568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7230960" y="4095720"/>
              <a:ext cx="716040" cy="439920"/>
              <a:chOff x="7230960" y="4095720"/>
              <a:chExt cx="716040" cy="439920"/>
            </a:xfrm>
          </p:grpSpPr>
          <p:sp>
            <p:nvSpPr>
              <p:cNvPr id="447" name=""/>
              <p:cNvSpPr/>
              <p:nvPr/>
            </p:nvSpPr>
            <p:spPr>
              <a:xfrm>
                <a:off x="7247520" y="4095720"/>
                <a:ext cx="593280" cy="43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230960" y="4251600"/>
                <a:ext cx="71604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546000" y="1366200"/>
              <a:ext cx="696600" cy="578880"/>
              <a:chOff x="3546000" y="1366200"/>
              <a:chExt cx="696600" cy="578880"/>
            </a:xfrm>
          </p:grpSpPr>
          <p:sp>
            <p:nvSpPr>
              <p:cNvPr id="450" name=""/>
              <p:cNvSpPr/>
              <p:nvPr/>
            </p:nvSpPr>
            <p:spPr>
              <a:xfrm rot="5394000">
                <a:off x="3605040" y="1307880"/>
                <a:ext cx="577800" cy="695520"/>
              </a:xfrm>
              <a:prstGeom prst="triangle">
                <a:avLst>
                  <a:gd name="adj" fmla="val 48384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546360" y="1541520"/>
                <a:ext cx="6526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AddSPK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6508440" y="1355040"/>
              <a:ext cx="698040" cy="582120"/>
              <a:chOff x="6508440" y="1355040"/>
              <a:chExt cx="698040" cy="582120"/>
            </a:xfrm>
          </p:grpSpPr>
          <p:sp>
            <p:nvSpPr>
              <p:cNvPr id="453" name=""/>
              <p:cNvSpPr/>
              <p:nvPr/>
            </p:nvSpPr>
            <p:spPr>
              <a:xfrm rot="5394000">
                <a:off x="6566760" y="1297440"/>
                <a:ext cx="581040" cy="696960"/>
              </a:xfrm>
              <a:prstGeom prst="triangle">
                <a:avLst>
                  <a:gd name="adj" fmla="val 48384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08800" y="1531440"/>
                <a:ext cx="6537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139920" y="1494000"/>
              <a:ext cx="3398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61040" y="1482840"/>
              <a:ext cx="33804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99120" y="1494000"/>
              <a:ext cx="3394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176960" y="1482840"/>
              <a:ext cx="3384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68720" y="3848040"/>
              <a:ext cx="761760" cy="4381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Add_ const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27200" y="4656240"/>
              <a:ext cx="760680" cy="261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27360" y="4656240"/>
              <a:ext cx="760320" cy="261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3203640" y="4479840"/>
              <a:ext cx="3398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3543480" y="4479840"/>
              <a:ext cx="59040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 rot="5400000">
              <a:off x="3473280" y="4325760"/>
              <a:ext cx="193680" cy="1141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95840" y="5511960"/>
              <a:ext cx="761760" cy="61416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4896000" y="5164200"/>
              <a:ext cx="715680" cy="436680"/>
              <a:chOff x="4896000" y="5164200"/>
              <a:chExt cx="715680" cy="436680"/>
            </a:xfrm>
          </p:grpSpPr>
          <p:sp>
            <p:nvSpPr>
              <p:cNvPr id="467" name=""/>
              <p:cNvSpPr/>
              <p:nvPr/>
            </p:nvSpPr>
            <p:spPr>
              <a:xfrm>
                <a:off x="4912560" y="5164200"/>
                <a:ext cx="59292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96000" y="5318640"/>
                <a:ext cx="71568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4896000" y="6040440"/>
              <a:ext cx="715680" cy="436680"/>
              <a:chOff x="4896000" y="6040440"/>
              <a:chExt cx="715680" cy="436680"/>
            </a:xfrm>
          </p:grpSpPr>
          <p:sp>
            <p:nvSpPr>
              <p:cNvPr id="470" name=""/>
              <p:cNvSpPr/>
              <p:nvPr/>
            </p:nvSpPr>
            <p:spPr>
              <a:xfrm>
                <a:off x="4912560" y="6040440"/>
                <a:ext cx="59292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96000" y="6194880"/>
                <a:ext cx="71568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4896000" y="5600880"/>
              <a:ext cx="715680" cy="439560"/>
              <a:chOff x="4896000" y="5600880"/>
              <a:chExt cx="715680" cy="439560"/>
            </a:xfrm>
          </p:grpSpPr>
          <p:sp>
            <p:nvSpPr>
              <p:cNvPr id="473" name=""/>
              <p:cNvSpPr/>
              <p:nvPr/>
            </p:nvSpPr>
            <p:spPr>
              <a:xfrm>
                <a:off x="4912560" y="5600880"/>
                <a:ext cx="592920" cy="43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896000" y="5756400"/>
                <a:ext cx="71568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OURC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3828960" y="5773680"/>
              <a:ext cx="723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OOKUP_PS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19640" y="5248440"/>
              <a:ext cx="760680" cy="26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27920" y="6040440"/>
              <a:ext cx="761760" cy="26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S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19640" y="4549680"/>
              <a:ext cx="760680" cy="262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19640" y="4897440"/>
              <a:ext cx="760680" cy="26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6200000">
              <a:off x="3709800" y="1871640"/>
              <a:ext cx="193680" cy="1141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6200000">
              <a:off x="6719040" y="1870920"/>
              <a:ext cx="193680" cy="115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09880" y="2036880"/>
              <a:ext cx="0" cy="18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81520" y="1832040"/>
              <a:ext cx="33804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A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64200" y="1832040"/>
              <a:ext cx="33984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A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27920" y="5600880"/>
              <a:ext cx="917280" cy="261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57600" y="5803920"/>
              <a:ext cx="25416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4811760" y="5511960"/>
              <a:ext cx="16992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11760" y="5862600"/>
              <a:ext cx="12204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11760" y="586260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90720" y="4022640"/>
              <a:ext cx="761760" cy="6145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76400" y="4286160"/>
              <a:ext cx="6332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DS.PS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1343160" y="1905120"/>
              <a:ext cx="714240" cy="436320"/>
              <a:chOff x="1343160" y="1905120"/>
              <a:chExt cx="714240" cy="436320"/>
            </a:xfrm>
          </p:grpSpPr>
          <p:sp>
            <p:nvSpPr>
              <p:cNvPr id="493" name=""/>
              <p:cNvSpPr/>
              <p:nvPr/>
            </p:nvSpPr>
            <p:spPr>
              <a:xfrm>
                <a:off x="1359720" y="1905120"/>
                <a:ext cx="591840" cy="43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43160" y="2059560"/>
                <a:ext cx="7142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 flipV="1">
              <a:off x="1087560" y="2252160"/>
              <a:ext cx="42372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92240" y="2606760"/>
              <a:ext cx="33804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87560" y="2604960"/>
              <a:ext cx="258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87560" y="2604960"/>
              <a:ext cx="34272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147680" y="2868480"/>
              <a:ext cx="1100160" cy="438120"/>
              <a:chOff x="1147680" y="2868480"/>
              <a:chExt cx="1100160" cy="438120"/>
            </a:xfrm>
          </p:grpSpPr>
          <p:sp>
            <p:nvSpPr>
              <p:cNvPr id="500" name=""/>
              <p:cNvSpPr/>
              <p:nvPr/>
            </p:nvSpPr>
            <p:spPr>
              <a:xfrm>
                <a:off x="1371600" y="2868480"/>
                <a:ext cx="59220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47680" y="2985120"/>
                <a:ext cx="11001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346040" y="3322800"/>
              <a:ext cx="714600" cy="436320"/>
              <a:chOff x="1346040" y="3322800"/>
              <a:chExt cx="714600" cy="436320"/>
            </a:xfrm>
          </p:grpSpPr>
          <p:sp>
            <p:nvSpPr>
              <p:cNvPr id="503" name=""/>
              <p:cNvSpPr/>
              <p:nvPr/>
            </p:nvSpPr>
            <p:spPr>
              <a:xfrm>
                <a:off x="1362600" y="3322800"/>
                <a:ext cx="591840" cy="43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46040" y="3477240"/>
                <a:ext cx="71460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1343160" y="2432160"/>
              <a:ext cx="760320" cy="436320"/>
              <a:chOff x="1343160" y="2432160"/>
              <a:chExt cx="760320" cy="436320"/>
            </a:xfrm>
          </p:grpSpPr>
          <p:sp>
            <p:nvSpPr>
              <p:cNvPr id="506" name=""/>
              <p:cNvSpPr/>
              <p:nvPr/>
            </p:nvSpPr>
            <p:spPr>
              <a:xfrm>
                <a:off x="1359720" y="2432160"/>
                <a:ext cx="591480" cy="43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43160" y="2586600"/>
                <a:ext cx="76032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1076400" y="26208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972000" y="3958200"/>
              <a:ext cx="193680" cy="1126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7D8D-86E2-489D-A8F6-96FC3F4D66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ulator Relation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90720" y="1355040"/>
            <a:ext cx="7125840" cy="5121720"/>
            <a:chOff x="990720" y="1355040"/>
            <a:chExt cx="7125840" cy="5121720"/>
          </a:xfrm>
        </p:grpSpPr>
        <p:sp>
          <p:nvSpPr>
            <p:cNvPr id="512" name=""/>
            <p:cNvSpPr/>
            <p:nvPr/>
          </p:nvSpPr>
          <p:spPr>
            <a:xfrm>
              <a:off x="6818040" y="2007360"/>
              <a:ext cx="0" cy="411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4880" y="164412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22800" y="1644120"/>
              <a:ext cx="34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3000" y="1644120"/>
              <a:ext cx="0" cy="245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54160" y="1644120"/>
              <a:ext cx="0" cy="20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54160" y="16441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92200" y="1605240"/>
              <a:ext cx="253440" cy="87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22800" y="1603800"/>
              <a:ext cx="25488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23280" y="1644120"/>
              <a:ext cx="0" cy="245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916240" y="1644120"/>
              <a:ext cx="0" cy="20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16240" y="1644120"/>
              <a:ext cx="5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55000" y="1605240"/>
              <a:ext cx="253080" cy="87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84880" y="1603800"/>
              <a:ext cx="25488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637360" y="1904760"/>
              <a:ext cx="714960" cy="436680"/>
              <a:chOff x="2637360" y="1904760"/>
              <a:chExt cx="714960" cy="436680"/>
            </a:xfrm>
          </p:grpSpPr>
          <p:sp>
            <p:nvSpPr>
              <p:cNvPr id="526" name=""/>
              <p:cNvSpPr/>
              <p:nvPr/>
            </p:nvSpPr>
            <p:spPr>
              <a:xfrm>
                <a:off x="2653920" y="190476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637360" y="20592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442600" y="3219480"/>
              <a:ext cx="1099800" cy="438480"/>
              <a:chOff x="2442600" y="3219480"/>
              <a:chExt cx="1099800" cy="438480"/>
            </a:xfrm>
          </p:grpSpPr>
          <p:sp>
            <p:nvSpPr>
              <p:cNvPr id="529" name=""/>
              <p:cNvSpPr/>
              <p:nvPr/>
            </p:nvSpPr>
            <p:spPr>
              <a:xfrm>
                <a:off x="2666520" y="321948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442600" y="333612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2637360" y="2341800"/>
              <a:ext cx="714960" cy="438480"/>
              <a:chOff x="2637360" y="2341800"/>
              <a:chExt cx="714960" cy="438480"/>
            </a:xfrm>
          </p:grpSpPr>
          <p:sp>
            <p:nvSpPr>
              <p:cNvPr id="532" name=""/>
              <p:cNvSpPr/>
              <p:nvPr/>
            </p:nvSpPr>
            <p:spPr>
              <a:xfrm>
                <a:off x="2653920" y="234180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637360" y="2496960"/>
                <a:ext cx="7149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637360" y="2780280"/>
              <a:ext cx="759960" cy="438840"/>
              <a:chOff x="2637360" y="2780280"/>
              <a:chExt cx="759960" cy="438840"/>
            </a:xfrm>
          </p:grpSpPr>
          <p:sp>
            <p:nvSpPr>
              <p:cNvPr id="535" name=""/>
              <p:cNvSpPr/>
              <p:nvPr/>
            </p:nvSpPr>
            <p:spPr>
              <a:xfrm>
                <a:off x="2653920" y="2780280"/>
                <a:ext cx="591120" cy="43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637360" y="2935800"/>
                <a:ext cx="75996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269600" y="3659040"/>
              <a:ext cx="714600" cy="437040"/>
              <a:chOff x="4269600" y="3659040"/>
              <a:chExt cx="714600" cy="437040"/>
            </a:xfrm>
          </p:grpSpPr>
          <p:sp>
            <p:nvSpPr>
              <p:cNvPr id="538" name=""/>
              <p:cNvSpPr/>
              <p:nvPr/>
            </p:nvSpPr>
            <p:spPr>
              <a:xfrm>
                <a:off x="4286160" y="36590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269600" y="38138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249440" y="1906200"/>
              <a:ext cx="714600" cy="437040"/>
              <a:chOff x="4249440" y="1906200"/>
              <a:chExt cx="714600" cy="437040"/>
            </a:xfrm>
          </p:grpSpPr>
          <p:sp>
            <p:nvSpPr>
              <p:cNvPr id="541" name=""/>
              <p:cNvSpPr/>
              <p:nvPr/>
            </p:nvSpPr>
            <p:spPr>
              <a:xfrm>
                <a:off x="4266000" y="190620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249440" y="206100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054320" y="3220560"/>
              <a:ext cx="1099800" cy="438480"/>
              <a:chOff x="4054320" y="3220560"/>
              <a:chExt cx="1099800" cy="438480"/>
            </a:xfrm>
          </p:grpSpPr>
          <p:sp>
            <p:nvSpPr>
              <p:cNvPr id="544" name=""/>
              <p:cNvSpPr/>
              <p:nvPr/>
            </p:nvSpPr>
            <p:spPr>
              <a:xfrm>
                <a:off x="4278240" y="322056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054320" y="333720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249440" y="2343600"/>
              <a:ext cx="714600" cy="439560"/>
              <a:chOff x="4249440" y="2343600"/>
              <a:chExt cx="714600" cy="439560"/>
            </a:xfrm>
          </p:grpSpPr>
          <p:sp>
            <p:nvSpPr>
              <p:cNvPr id="547" name=""/>
              <p:cNvSpPr/>
              <p:nvPr/>
            </p:nvSpPr>
            <p:spPr>
              <a:xfrm>
                <a:off x="4266000" y="2343600"/>
                <a:ext cx="591840" cy="43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249440" y="2499120"/>
                <a:ext cx="71460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249440" y="2783160"/>
              <a:ext cx="759960" cy="437040"/>
              <a:chOff x="4249440" y="2783160"/>
              <a:chExt cx="759960" cy="437040"/>
            </a:xfrm>
          </p:grpSpPr>
          <p:sp>
            <p:nvSpPr>
              <p:cNvPr id="550" name=""/>
              <p:cNvSpPr/>
              <p:nvPr/>
            </p:nvSpPr>
            <p:spPr>
              <a:xfrm>
                <a:off x="4266000" y="2783160"/>
                <a:ext cx="59112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249440" y="2937960"/>
                <a:ext cx="759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598000" y="1904760"/>
              <a:ext cx="714960" cy="436680"/>
              <a:chOff x="5598000" y="1904760"/>
              <a:chExt cx="714960" cy="436680"/>
            </a:xfrm>
          </p:grpSpPr>
          <p:sp>
            <p:nvSpPr>
              <p:cNvPr id="553" name=""/>
              <p:cNvSpPr/>
              <p:nvPr/>
            </p:nvSpPr>
            <p:spPr>
              <a:xfrm>
                <a:off x="5614560" y="190476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598000" y="20592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404680" y="3219480"/>
              <a:ext cx="1099800" cy="438480"/>
              <a:chOff x="5404680" y="3219480"/>
              <a:chExt cx="1099800" cy="438480"/>
            </a:xfrm>
          </p:grpSpPr>
          <p:sp>
            <p:nvSpPr>
              <p:cNvPr id="556" name=""/>
              <p:cNvSpPr/>
              <p:nvPr/>
            </p:nvSpPr>
            <p:spPr>
              <a:xfrm>
                <a:off x="5628600" y="321948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04680" y="333612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5598000" y="2341800"/>
              <a:ext cx="714960" cy="438480"/>
              <a:chOff x="5598000" y="2341800"/>
              <a:chExt cx="714960" cy="438480"/>
            </a:xfrm>
          </p:grpSpPr>
          <p:sp>
            <p:nvSpPr>
              <p:cNvPr id="559" name=""/>
              <p:cNvSpPr/>
              <p:nvPr/>
            </p:nvSpPr>
            <p:spPr>
              <a:xfrm>
                <a:off x="5614560" y="234180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598000" y="2496960"/>
                <a:ext cx="7149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5598000" y="2780280"/>
              <a:ext cx="761400" cy="438840"/>
              <a:chOff x="5598000" y="2780280"/>
              <a:chExt cx="761400" cy="438840"/>
            </a:xfrm>
          </p:grpSpPr>
          <p:sp>
            <p:nvSpPr>
              <p:cNvPr id="562" name=""/>
              <p:cNvSpPr/>
              <p:nvPr/>
            </p:nvSpPr>
            <p:spPr>
              <a:xfrm>
                <a:off x="5614560" y="2780280"/>
                <a:ext cx="592200" cy="43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598000" y="2935800"/>
                <a:ext cx="7614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7231680" y="3659040"/>
              <a:ext cx="714600" cy="437040"/>
              <a:chOff x="7231680" y="3659040"/>
              <a:chExt cx="714600" cy="437040"/>
            </a:xfrm>
          </p:grpSpPr>
          <p:sp>
            <p:nvSpPr>
              <p:cNvPr id="565" name=""/>
              <p:cNvSpPr/>
              <p:nvPr/>
            </p:nvSpPr>
            <p:spPr>
              <a:xfrm>
                <a:off x="7248240" y="36590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31680" y="38138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7209720" y="1906200"/>
              <a:ext cx="714960" cy="437040"/>
              <a:chOff x="7209720" y="1906200"/>
              <a:chExt cx="714960" cy="437040"/>
            </a:xfrm>
          </p:grpSpPr>
          <p:sp>
            <p:nvSpPr>
              <p:cNvPr id="568" name=""/>
              <p:cNvSpPr/>
              <p:nvPr/>
            </p:nvSpPr>
            <p:spPr>
              <a:xfrm>
                <a:off x="7226280" y="1906200"/>
                <a:ext cx="59220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09720" y="20610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7016760" y="3220560"/>
              <a:ext cx="1099800" cy="438480"/>
              <a:chOff x="7016760" y="3220560"/>
              <a:chExt cx="1099800" cy="438480"/>
            </a:xfrm>
          </p:grpSpPr>
          <p:sp>
            <p:nvSpPr>
              <p:cNvPr id="571" name=""/>
              <p:cNvSpPr/>
              <p:nvPr/>
            </p:nvSpPr>
            <p:spPr>
              <a:xfrm>
                <a:off x="7240680" y="322056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016760" y="333720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7209720" y="2343600"/>
              <a:ext cx="714960" cy="439560"/>
              <a:chOff x="7209720" y="2343600"/>
              <a:chExt cx="714960" cy="439560"/>
            </a:xfrm>
          </p:grpSpPr>
          <p:sp>
            <p:nvSpPr>
              <p:cNvPr id="574" name=""/>
              <p:cNvSpPr/>
              <p:nvPr/>
            </p:nvSpPr>
            <p:spPr>
              <a:xfrm>
                <a:off x="7226280" y="2343600"/>
                <a:ext cx="592200" cy="43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09720" y="2499120"/>
                <a:ext cx="71496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7209720" y="2783160"/>
              <a:ext cx="763560" cy="437040"/>
              <a:chOff x="7209720" y="2783160"/>
              <a:chExt cx="763560" cy="437040"/>
            </a:xfrm>
          </p:grpSpPr>
          <p:sp>
            <p:nvSpPr>
              <p:cNvPr id="577" name=""/>
              <p:cNvSpPr/>
              <p:nvPr/>
            </p:nvSpPr>
            <p:spPr>
              <a:xfrm>
                <a:off x="7226640" y="2783160"/>
                <a:ext cx="59400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09720" y="2937960"/>
                <a:ext cx="7635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5624640" y="3659040"/>
              <a:ext cx="714600" cy="437040"/>
              <a:chOff x="5624640" y="3659040"/>
              <a:chExt cx="714600" cy="437040"/>
            </a:xfrm>
          </p:grpSpPr>
          <p:sp>
            <p:nvSpPr>
              <p:cNvPr id="580" name=""/>
              <p:cNvSpPr/>
              <p:nvPr/>
            </p:nvSpPr>
            <p:spPr>
              <a:xfrm>
                <a:off x="5641200" y="36590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624640" y="38138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7231680" y="4096440"/>
              <a:ext cx="714600" cy="438480"/>
              <a:chOff x="7231680" y="4096440"/>
              <a:chExt cx="714600" cy="438480"/>
            </a:xfrm>
          </p:grpSpPr>
          <p:sp>
            <p:nvSpPr>
              <p:cNvPr id="583" name=""/>
              <p:cNvSpPr/>
              <p:nvPr/>
            </p:nvSpPr>
            <p:spPr>
              <a:xfrm>
                <a:off x="7248240" y="4096440"/>
                <a:ext cx="59184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31680" y="4251600"/>
                <a:ext cx="71460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3545280" y="1365480"/>
              <a:ext cx="696240" cy="578520"/>
              <a:chOff x="3545280" y="1365480"/>
              <a:chExt cx="696240" cy="578520"/>
            </a:xfrm>
          </p:grpSpPr>
          <p:sp>
            <p:nvSpPr>
              <p:cNvPr id="586" name=""/>
              <p:cNvSpPr/>
              <p:nvPr/>
            </p:nvSpPr>
            <p:spPr>
              <a:xfrm rot="5394000">
                <a:off x="3604320" y="1307160"/>
                <a:ext cx="577440" cy="695160"/>
              </a:xfrm>
              <a:prstGeom prst="triangle">
                <a:avLst>
                  <a:gd name="adj" fmla="val 48384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46000" y="1540800"/>
                <a:ext cx="651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AddSPK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6507360" y="1355040"/>
              <a:ext cx="697680" cy="581040"/>
              <a:chOff x="6507360" y="1355040"/>
              <a:chExt cx="697680" cy="581040"/>
            </a:xfrm>
          </p:grpSpPr>
          <p:sp>
            <p:nvSpPr>
              <p:cNvPr id="589" name=""/>
              <p:cNvSpPr/>
              <p:nvPr/>
            </p:nvSpPr>
            <p:spPr>
              <a:xfrm rot="5394000">
                <a:off x="6566040" y="1297080"/>
                <a:ext cx="579960" cy="696600"/>
              </a:xfrm>
              <a:prstGeom prst="triangle">
                <a:avLst>
                  <a:gd name="adj" fmla="val 48384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08080" y="1531080"/>
                <a:ext cx="653400" cy="2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3139200" y="1493280"/>
              <a:ext cx="3398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61400" y="1482120"/>
              <a:ext cx="3380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99480" y="1493280"/>
              <a:ext cx="3380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76600" y="1482120"/>
              <a:ext cx="3380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169080" y="3848040"/>
              <a:ext cx="761400" cy="438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Add_ const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27200" y="4656600"/>
              <a:ext cx="7599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27720" y="4656600"/>
              <a:ext cx="7599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3204000" y="4479480"/>
              <a:ext cx="33804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3542400" y="4479120"/>
              <a:ext cx="5914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 rot="5400000">
              <a:off x="3474000" y="4324680"/>
              <a:ext cx="192600" cy="1148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95840" y="5511960"/>
              <a:ext cx="761400" cy="6138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4896360" y="5163840"/>
              <a:ext cx="714600" cy="437040"/>
              <a:chOff x="4896360" y="5163840"/>
              <a:chExt cx="714600" cy="437040"/>
            </a:xfrm>
          </p:grpSpPr>
          <p:sp>
            <p:nvSpPr>
              <p:cNvPr id="603" name=""/>
              <p:cNvSpPr/>
              <p:nvPr/>
            </p:nvSpPr>
            <p:spPr>
              <a:xfrm>
                <a:off x="4912920" y="51638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96360" y="53186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4896360" y="6039720"/>
              <a:ext cx="714600" cy="437040"/>
              <a:chOff x="4896360" y="6039720"/>
              <a:chExt cx="714600" cy="437040"/>
            </a:xfrm>
          </p:grpSpPr>
          <p:sp>
            <p:nvSpPr>
              <p:cNvPr id="606" name=""/>
              <p:cNvSpPr/>
              <p:nvPr/>
            </p:nvSpPr>
            <p:spPr>
              <a:xfrm>
                <a:off x="4912920" y="603972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896360" y="619452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4896360" y="5601240"/>
              <a:ext cx="714600" cy="438480"/>
              <a:chOff x="4896360" y="5601240"/>
              <a:chExt cx="714600" cy="438480"/>
            </a:xfrm>
          </p:grpSpPr>
          <p:sp>
            <p:nvSpPr>
              <p:cNvPr id="609" name=""/>
              <p:cNvSpPr/>
              <p:nvPr/>
            </p:nvSpPr>
            <p:spPr>
              <a:xfrm>
                <a:off x="4912920" y="5601240"/>
                <a:ext cx="59184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896360" y="5756400"/>
                <a:ext cx="714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OURC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829320" y="5773680"/>
              <a:ext cx="723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OOKUP_PS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19640" y="5248800"/>
              <a:ext cx="759960" cy="26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127920" y="6039720"/>
              <a:ext cx="7617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S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19640" y="4550040"/>
              <a:ext cx="7599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119640" y="4897800"/>
              <a:ext cx="759960" cy="26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6200000">
              <a:off x="3709800" y="1870920"/>
              <a:ext cx="194040" cy="1148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6718320" y="1870560"/>
              <a:ext cx="194040" cy="1152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520" y="2037240"/>
              <a:ext cx="0" cy="18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80800" y="1831680"/>
              <a:ext cx="3380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A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64920" y="1831680"/>
              <a:ext cx="3380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A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27920" y="5601240"/>
              <a:ext cx="91692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95680" y="5163840"/>
              <a:ext cx="338040" cy="261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64160" y="4897800"/>
              <a:ext cx="0" cy="265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04840" y="2184120"/>
              <a:ext cx="0" cy="2365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91280" y="218412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11200" y="4111200"/>
              <a:ext cx="0" cy="963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5911200" y="507492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57600" y="5803560"/>
              <a:ext cx="25344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811400" y="5511960"/>
              <a:ext cx="16992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11400" y="5862960"/>
              <a:ext cx="12312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11400" y="5862960"/>
              <a:ext cx="8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87840" y="5336280"/>
              <a:ext cx="593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87840" y="5736240"/>
              <a:ext cx="676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87840" y="6212160"/>
              <a:ext cx="593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90720" y="4021920"/>
              <a:ext cx="761400" cy="61416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075680" y="4286880"/>
              <a:ext cx="6328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DS.PS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1342080" y="1904760"/>
              <a:ext cx="714960" cy="436680"/>
              <a:chOff x="1342080" y="1904760"/>
              <a:chExt cx="714960" cy="436680"/>
            </a:xfrm>
          </p:grpSpPr>
          <p:sp>
            <p:nvSpPr>
              <p:cNvPr id="638" name=""/>
              <p:cNvSpPr/>
              <p:nvPr/>
            </p:nvSpPr>
            <p:spPr>
              <a:xfrm>
                <a:off x="1358640" y="190476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2080" y="20592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 flipV="1">
              <a:off x="1086840" y="2252880"/>
              <a:ext cx="42372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92240" y="2606760"/>
              <a:ext cx="338040" cy="9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86840" y="2604960"/>
              <a:ext cx="25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86840" y="2604960"/>
              <a:ext cx="34344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1146960" y="2868120"/>
              <a:ext cx="1100160" cy="438480"/>
              <a:chOff x="1146960" y="2868120"/>
              <a:chExt cx="1100160" cy="438480"/>
            </a:xfrm>
          </p:grpSpPr>
          <p:sp>
            <p:nvSpPr>
              <p:cNvPr id="645" name=""/>
              <p:cNvSpPr/>
              <p:nvPr/>
            </p:nvSpPr>
            <p:spPr>
              <a:xfrm>
                <a:off x="1370880" y="286812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46960" y="2984760"/>
                <a:ext cx="11001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1345680" y="3321720"/>
              <a:ext cx="714960" cy="436680"/>
              <a:chOff x="1345680" y="3321720"/>
              <a:chExt cx="714960" cy="436680"/>
            </a:xfrm>
          </p:grpSpPr>
          <p:sp>
            <p:nvSpPr>
              <p:cNvPr id="648" name=""/>
              <p:cNvSpPr/>
              <p:nvPr/>
            </p:nvSpPr>
            <p:spPr>
              <a:xfrm>
                <a:off x="1362240" y="332172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5680" y="3476520"/>
                <a:ext cx="71496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1342080" y="2431080"/>
              <a:ext cx="761400" cy="437040"/>
              <a:chOff x="1342080" y="2431080"/>
              <a:chExt cx="761400" cy="437040"/>
            </a:xfrm>
          </p:grpSpPr>
          <p:sp>
            <p:nvSpPr>
              <p:cNvPr id="651" name=""/>
              <p:cNvSpPr/>
              <p:nvPr/>
            </p:nvSpPr>
            <p:spPr>
              <a:xfrm>
                <a:off x="1358640" y="2431080"/>
                <a:ext cx="59220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2080" y="2585880"/>
                <a:ext cx="7614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1075680" y="2621160"/>
              <a:ext cx="0" cy="13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972360" y="3957480"/>
              <a:ext cx="192600" cy="1134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52840" y="4111200"/>
              <a:ext cx="0" cy="963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4197600" y="5074920"/>
              <a:ext cx="254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197600" y="4897440"/>
              <a:ext cx="0" cy="176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54760" y="6126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7388280" y="4549680"/>
              <a:ext cx="0" cy="1575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15DA-A08D-4F56-9A98-32F8D49BD9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vider Relation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990720" y="1355040"/>
            <a:ext cx="7921080" cy="5121720"/>
            <a:chOff x="990720" y="1355040"/>
            <a:chExt cx="7921080" cy="5121720"/>
          </a:xfrm>
        </p:grpSpPr>
        <p:sp>
          <p:nvSpPr>
            <p:cNvPr id="662" name=""/>
            <p:cNvSpPr/>
            <p:nvPr/>
          </p:nvSpPr>
          <p:spPr>
            <a:xfrm>
              <a:off x="6818040" y="2007360"/>
              <a:ext cx="0" cy="411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84880" y="164412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22440" y="1644120"/>
              <a:ext cx="34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63000" y="1644120"/>
              <a:ext cx="0" cy="245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53800" y="1644120"/>
              <a:ext cx="0" cy="20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953800" y="16441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92200" y="1605240"/>
              <a:ext cx="253440" cy="87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2440" y="1603800"/>
              <a:ext cx="25488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23280" y="1644120"/>
              <a:ext cx="0" cy="245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16240" y="1644120"/>
              <a:ext cx="0" cy="20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16240" y="1644120"/>
              <a:ext cx="5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55000" y="1605240"/>
              <a:ext cx="253080" cy="87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84880" y="1603800"/>
              <a:ext cx="25488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2637360" y="1904760"/>
              <a:ext cx="714960" cy="436680"/>
              <a:chOff x="2637360" y="1904760"/>
              <a:chExt cx="714960" cy="436680"/>
            </a:xfrm>
          </p:grpSpPr>
          <p:sp>
            <p:nvSpPr>
              <p:cNvPr id="676" name=""/>
              <p:cNvSpPr/>
              <p:nvPr/>
            </p:nvSpPr>
            <p:spPr>
              <a:xfrm>
                <a:off x="2653920" y="190476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37360" y="20592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2442600" y="3219480"/>
              <a:ext cx="1099800" cy="438480"/>
              <a:chOff x="2442600" y="3219480"/>
              <a:chExt cx="1099800" cy="438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666520" y="321948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42600" y="333612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2637360" y="2341800"/>
              <a:ext cx="714960" cy="438480"/>
              <a:chOff x="2637360" y="2341800"/>
              <a:chExt cx="714960" cy="438480"/>
            </a:xfrm>
          </p:grpSpPr>
          <p:sp>
            <p:nvSpPr>
              <p:cNvPr id="682" name=""/>
              <p:cNvSpPr/>
              <p:nvPr/>
            </p:nvSpPr>
            <p:spPr>
              <a:xfrm>
                <a:off x="2653920" y="234180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637360" y="2496960"/>
                <a:ext cx="7149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2637360" y="2780280"/>
              <a:ext cx="759960" cy="438840"/>
              <a:chOff x="2637360" y="2780280"/>
              <a:chExt cx="759960" cy="438840"/>
            </a:xfrm>
          </p:grpSpPr>
          <p:sp>
            <p:nvSpPr>
              <p:cNvPr id="685" name=""/>
              <p:cNvSpPr/>
              <p:nvPr/>
            </p:nvSpPr>
            <p:spPr>
              <a:xfrm>
                <a:off x="2653920" y="2780280"/>
                <a:ext cx="591120" cy="43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37360" y="2935800"/>
                <a:ext cx="75996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4269600" y="3659040"/>
              <a:ext cx="714600" cy="437040"/>
              <a:chOff x="4269600" y="3659040"/>
              <a:chExt cx="714600" cy="437040"/>
            </a:xfrm>
          </p:grpSpPr>
          <p:sp>
            <p:nvSpPr>
              <p:cNvPr id="688" name=""/>
              <p:cNvSpPr/>
              <p:nvPr/>
            </p:nvSpPr>
            <p:spPr>
              <a:xfrm>
                <a:off x="4286160" y="36590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269600" y="38138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249440" y="1906200"/>
              <a:ext cx="714600" cy="437040"/>
              <a:chOff x="4249440" y="1906200"/>
              <a:chExt cx="714600" cy="437040"/>
            </a:xfrm>
          </p:grpSpPr>
          <p:sp>
            <p:nvSpPr>
              <p:cNvPr id="691" name=""/>
              <p:cNvSpPr/>
              <p:nvPr/>
            </p:nvSpPr>
            <p:spPr>
              <a:xfrm>
                <a:off x="4266000" y="190620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249440" y="206100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4054320" y="3220560"/>
              <a:ext cx="1099800" cy="438480"/>
              <a:chOff x="4054320" y="3220560"/>
              <a:chExt cx="1099800" cy="438480"/>
            </a:xfrm>
          </p:grpSpPr>
          <p:sp>
            <p:nvSpPr>
              <p:cNvPr id="694" name=""/>
              <p:cNvSpPr/>
              <p:nvPr/>
            </p:nvSpPr>
            <p:spPr>
              <a:xfrm>
                <a:off x="4278240" y="322056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054320" y="333720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4249440" y="2343600"/>
              <a:ext cx="714600" cy="439560"/>
              <a:chOff x="4249440" y="2343600"/>
              <a:chExt cx="714600" cy="439560"/>
            </a:xfrm>
          </p:grpSpPr>
          <p:sp>
            <p:nvSpPr>
              <p:cNvPr id="697" name=""/>
              <p:cNvSpPr/>
              <p:nvPr/>
            </p:nvSpPr>
            <p:spPr>
              <a:xfrm>
                <a:off x="4266000" y="2343600"/>
                <a:ext cx="591840" cy="43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249440" y="2499120"/>
                <a:ext cx="71460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4249440" y="2783160"/>
              <a:ext cx="759960" cy="437040"/>
              <a:chOff x="4249440" y="2783160"/>
              <a:chExt cx="759960" cy="437040"/>
            </a:xfrm>
          </p:grpSpPr>
          <p:sp>
            <p:nvSpPr>
              <p:cNvPr id="700" name=""/>
              <p:cNvSpPr/>
              <p:nvPr/>
            </p:nvSpPr>
            <p:spPr>
              <a:xfrm>
                <a:off x="4266000" y="2783160"/>
                <a:ext cx="59112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249440" y="2937960"/>
                <a:ext cx="759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5598000" y="1904760"/>
              <a:ext cx="714960" cy="436680"/>
              <a:chOff x="5598000" y="1904760"/>
              <a:chExt cx="714960" cy="436680"/>
            </a:xfrm>
          </p:grpSpPr>
          <p:sp>
            <p:nvSpPr>
              <p:cNvPr id="703" name=""/>
              <p:cNvSpPr/>
              <p:nvPr/>
            </p:nvSpPr>
            <p:spPr>
              <a:xfrm>
                <a:off x="5614560" y="190476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598000" y="20592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5404680" y="3219480"/>
              <a:ext cx="1099800" cy="438480"/>
              <a:chOff x="5404680" y="3219480"/>
              <a:chExt cx="1099800" cy="438480"/>
            </a:xfrm>
          </p:grpSpPr>
          <p:sp>
            <p:nvSpPr>
              <p:cNvPr id="706" name=""/>
              <p:cNvSpPr/>
              <p:nvPr/>
            </p:nvSpPr>
            <p:spPr>
              <a:xfrm>
                <a:off x="5628600" y="321948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04680" y="333612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5598000" y="2341800"/>
              <a:ext cx="714960" cy="438480"/>
              <a:chOff x="5598000" y="2341800"/>
              <a:chExt cx="714960" cy="438480"/>
            </a:xfrm>
          </p:grpSpPr>
          <p:sp>
            <p:nvSpPr>
              <p:cNvPr id="709" name=""/>
              <p:cNvSpPr/>
              <p:nvPr/>
            </p:nvSpPr>
            <p:spPr>
              <a:xfrm>
                <a:off x="5614560" y="234180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598000" y="2496960"/>
                <a:ext cx="7149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5598000" y="2780280"/>
              <a:ext cx="761400" cy="438840"/>
              <a:chOff x="5598000" y="2780280"/>
              <a:chExt cx="761400" cy="438840"/>
            </a:xfrm>
          </p:grpSpPr>
          <p:sp>
            <p:nvSpPr>
              <p:cNvPr id="712" name=""/>
              <p:cNvSpPr/>
              <p:nvPr/>
            </p:nvSpPr>
            <p:spPr>
              <a:xfrm>
                <a:off x="5614560" y="2780280"/>
                <a:ext cx="592200" cy="43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598000" y="2935800"/>
                <a:ext cx="7614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7231680" y="3659040"/>
              <a:ext cx="714600" cy="437040"/>
              <a:chOff x="7231680" y="3659040"/>
              <a:chExt cx="714600" cy="437040"/>
            </a:xfrm>
          </p:grpSpPr>
          <p:sp>
            <p:nvSpPr>
              <p:cNvPr id="715" name=""/>
              <p:cNvSpPr/>
              <p:nvPr/>
            </p:nvSpPr>
            <p:spPr>
              <a:xfrm>
                <a:off x="7248240" y="36590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31680" y="38138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7209720" y="1906200"/>
              <a:ext cx="714960" cy="437040"/>
              <a:chOff x="7209720" y="1906200"/>
              <a:chExt cx="714960" cy="437040"/>
            </a:xfrm>
          </p:grpSpPr>
          <p:sp>
            <p:nvSpPr>
              <p:cNvPr id="718" name=""/>
              <p:cNvSpPr/>
              <p:nvPr/>
            </p:nvSpPr>
            <p:spPr>
              <a:xfrm>
                <a:off x="7226280" y="1906200"/>
                <a:ext cx="59220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209720" y="20610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7016400" y="3220560"/>
              <a:ext cx="1099800" cy="438480"/>
              <a:chOff x="7016400" y="3220560"/>
              <a:chExt cx="1099800" cy="438480"/>
            </a:xfrm>
          </p:grpSpPr>
          <p:sp>
            <p:nvSpPr>
              <p:cNvPr id="721" name=""/>
              <p:cNvSpPr/>
              <p:nvPr/>
            </p:nvSpPr>
            <p:spPr>
              <a:xfrm>
                <a:off x="7240320" y="322056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16400" y="333720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7209720" y="2343600"/>
              <a:ext cx="714960" cy="439560"/>
              <a:chOff x="7209720" y="2343600"/>
              <a:chExt cx="714960" cy="439560"/>
            </a:xfrm>
          </p:grpSpPr>
          <p:sp>
            <p:nvSpPr>
              <p:cNvPr id="724" name=""/>
              <p:cNvSpPr/>
              <p:nvPr/>
            </p:nvSpPr>
            <p:spPr>
              <a:xfrm>
                <a:off x="7226280" y="2343600"/>
                <a:ext cx="592200" cy="43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209720" y="2499120"/>
                <a:ext cx="71496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7209720" y="2783160"/>
              <a:ext cx="763560" cy="437040"/>
              <a:chOff x="7209720" y="2783160"/>
              <a:chExt cx="763560" cy="437040"/>
            </a:xfrm>
          </p:grpSpPr>
          <p:sp>
            <p:nvSpPr>
              <p:cNvPr id="727" name=""/>
              <p:cNvSpPr/>
              <p:nvPr/>
            </p:nvSpPr>
            <p:spPr>
              <a:xfrm>
                <a:off x="7226640" y="2783160"/>
                <a:ext cx="59400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209720" y="2937960"/>
                <a:ext cx="7635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5624640" y="3659040"/>
              <a:ext cx="714600" cy="437040"/>
              <a:chOff x="5624640" y="3659040"/>
              <a:chExt cx="714600" cy="437040"/>
            </a:xfrm>
          </p:grpSpPr>
          <p:sp>
            <p:nvSpPr>
              <p:cNvPr id="730" name=""/>
              <p:cNvSpPr/>
              <p:nvPr/>
            </p:nvSpPr>
            <p:spPr>
              <a:xfrm>
                <a:off x="5641200" y="36590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624640" y="38138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7231680" y="4096440"/>
              <a:ext cx="714600" cy="438480"/>
              <a:chOff x="7231680" y="4096440"/>
              <a:chExt cx="714600" cy="438480"/>
            </a:xfrm>
          </p:grpSpPr>
          <p:sp>
            <p:nvSpPr>
              <p:cNvPr id="733" name=""/>
              <p:cNvSpPr/>
              <p:nvPr/>
            </p:nvSpPr>
            <p:spPr>
              <a:xfrm>
                <a:off x="7248240" y="4096440"/>
                <a:ext cx="59184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31680" y="4251600"/>
                <a:ext cx="71460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3545280" y="1365480"/>
              <a:ext cx="696240" cy="578520"/>
              <a:chOff x="3545280" y="1365480"/>
              <a:chExt cx="696240" cy="578520"/>
            </a:xfrm>
          </p:grpSpPr>
          <p:sp>
            <p:nvSpPr>
              <p:cNvPr id="736" name=""/>
              <p:cNvSpPr/>
              <p:nvPr/>
            </p:nvSpPr>
            <p:spPr>
              <a:xfrm rot="5394000">
                <a:off x="3604320" y="1307160"/>
                <a:ext cx="577440" cy="695160"/>
              </a:xfrm>
              <a:prstGeom prst="triangle">
                <a:avLst>
                  <a:gd name="adj" fmla="val 48384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546000" y="1540800"/>
                <a:ext cx="651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AddSPK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6507360" y="1355040"/>
              <a:ext cx="697680" cy="581040"/>
              <a:chOff x="6507360" y="1355040"/>
              <a:chExt cx="697680" cy="581040"/>
            </a:xfrm>
          </p:grpSpPr>
          <p:sp>
            <p:nvSpPr>
              <p:cNvPr id="739" name=""/>
              <p:cNvSpPr/>
              <p:nvPr/>
            </p:nvSpPr>
            <p:spPr>
              <a:xfrm rot="5394000">
                <a:off x="6566040" y="1297080"/>
                <a:ext cx="579960" cy="696600"/>
              </a:xfrm>
              <a:prstGeom prst="triangle">
                <a:avLst>
                  <a:gd name="adj" fmla="val 48384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508080" y="1531080"/>
                <a:ext cx="653400" cy="2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3139200" y="1493280"/>
              <a:ext cx="3398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61400" y="1482120"/>
              <a:ext cx="3380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99480" y="1493280"/>
              <a:ext cx="3380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76600" y="1482120"/>
              <a:ext cx="3380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69080" y="3848040"/>
              <a:ext cx="761400" cy="438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Add_ const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27200" y="4656600"/>
              <a:ext cx="7599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27720" y="4656600"/>
              <a:ext cx="7599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204000" y="4479480"/>
              <a:ext cx="33804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3542040" y="4479120"/>
              <a:ext cx="5914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 rot="5400000">
              <a:off x="3473640" y="4324680"/>
              <a:ext cx="192600" cy="1148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795840" y="5511960"/>
              <a:ext cx="761400" cy="6138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896360" y="5163840"/>
              <a:ext cx="714600" cy="437040"/>
              <a:chOff x="4896360" y="5163840"/>
              <a:chExt cx="714600" cy="437040"/>
            </a:xfrm>
          </p:grpSpPr>
          <p:sp>
            <p:nvSpPr>
              <p:cNvPr id="753" name=""/>
              <p:cNvSpPr/>
              <p:nvPr/>
            </p:nvSpPr>
            <p:spPr>
              <a:xfrm>
                <a:off x="4912920" y="51638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96360" y="53186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4896360" y="6039720"/>
              <a:ext cx="714600" cy="437040"/>
              <a:chOff x="4896360" y="6039720"/>
              <a:chExt cx="714600" cy="437040"/>
            </a:xfrm>
          </p:grpSpPr>
          <p:sp>
            <p:nvSpPr>
              <p:cNvPr id="756" name=""/>
              <p:cNvSpPr/>
              <p:nvPr/>
            </p:nvSpPr>
            <p:spPr>
              <a:xfrm>
                <a:off x="4912920" y="603972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896360" y="619452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4896360" y="5601240"/>
              <a:ext cx="714600" cy="438480"/>
              <a:chOff x="4896360" y="5601240"/>
              <a:chExt cx="714600" cy="438480"/>
            </a:xfrm>
          </p:grpSpPr>
          <p:sp>
            <p:nvSpPr>
              <p:cNvPr id="759" name=""/>
              <p:cNvSpPr/>
              <p:nvPr/>
            </p:nvSpPr>
            <p:spPr>
              <a:xfrm>
                <a:off x="4912920" y="5601240"/>
                <a:ext cx="59184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896360" y="5756400"/>
                <a:ext cx="714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OURC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3828960" y="5773680"/>
              <a:ext cx="723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OOKUP_PS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119640" y="5248800"/>
              <a:ext cx="759960" cy="26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27920" y="6039720"/>
              <a:ext cx="7617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S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119640" y="4550040"/>
              <a:ext cx="7599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19640" y="4897800"/>
              <a:ext cx="759960" cy="26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6200000">
              <a:off x="3709800" y="1870920"/>
              <a:ext cx="194040" cy="1148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6200000">
              <a:off x="6718320" y="1870560"/>
              <a:ext cx="194040" cy="1152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09520" y="2037240"/>
              <a:ext cx="0" cy="18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80800" y="1831680"/>
              <a:ext cx="3380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A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964920" y="1831680"/>
              <a:ext cx="3380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A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27920" y="5601240"/>
              <a:ext cx="91692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95680" y="5163840"/>
              <a:ext cx="338040" cy="261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64160" y="4897800"/>
              <a:ext cx="0" cy="265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04840" y="2184120"/>
              <a:ext cx="0" cy="2365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191280" y="218412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11200" y="4111200"/>
              <a:ext cx="0" cy="963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5911200" y="507492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557600" y="5803560"/>
              <a:ext cx="25344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811040" y="5511960"/>
              <a:ext cx="16992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11040" y="5862960"/>
              <a:ext cx="12312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11040" y="5862960"/>
              <a:ext cx="8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87840" y="5336280"/>
              <a:ext cx="593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87840" y="5736240"/>
              <a:ext cx="676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87840" y="6212160"/>
              <a:ext cx="593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990720" y="4021920"/>
              <a:ext cx="761400" cy="61416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75680" y="4286880"/>
              <a:ext cx="6328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DS.PS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1342080" y="1904760"/>
              <a:ext cx="714960" cy="436680"/>
              <a:chOff x="1342080" y="1904760"/>
              <a:chExt cx="714960" cy="436680"/>
            </a:xfrm>
          </p:grpSpPr>
          <p:sp>
            <p:nvSpPr>
              <p:cNvPr id="788" name=""/>
              <p:cNvSpPr/>
              <p:nvPr/>
            </p:nvSpPr>
            <p:spPr>
              <a:xfrm>
                <a:off x="1358640" y="190476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42080" y="20592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 flipV="1">
              <a:off x="1086840" y="2252880"/>
              <a:ext cx="42372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92240" y="2606760"/>
              <a:ext cx="338040" cy="9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86840" y="2604960"/>
              <a:ext cx="25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86840" y="2604960"/>
              <a:ext cx="34344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1146960" y="2868120"/>
              <a:ext cx="1100160" cy="438480"/>
              <a:chOff x="1146960" y="2868120"/>
              <a:chExt cx="1100160" cy="438480"/>
            </a:xfrm>
          </p:grpSpPr>
          <p:sp>
            <p:nvSpPr>
              <p:cNvPr id="795" name=""/>
              <p:cNvSpPr/>
              <p:nvPr/>
            </p:nvSpPr>
            <p:spPr>
              <a:xfrm>
                <a:off x="1370880" y="286812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146960" y="2984760"/>
                <a:ext cx="11001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345680" y="3321720"/>
              <a:ext cx="714960" cy="436680"/>
              <a:chOff x="1345680" y="3321720"/>
              <a:chExt cx="714960" cy="436680"/>
            </a:xfrm>
          </p:grpSpPr>
          <p:sp>
            <p:nvSpPr>
              <p:cNvPr id="798" name=""/>
              <p:cNvSpPr/>
              <p:nvPr/>
            </p:nvSpPr>
            <p:spPr>
              <a:xfrm>
                <a:off x="1362240" y="332172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345680" y="3476520"/>
                <a:ext cx="71496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1342080" y="2431080"/>
              <a:ext cx="761400" cy="437040"/>
              <a:chOff x="1342080" y="2431080"/>
              <a:chExt cx="761400" cy="437040"/>
            </a:xfrm>
          </p:grpSpPr>
          <p:sp>
            <p:nvSpPr>
              <p:cNvPr id="801" name=""/>
              <p:cNvSpPr/>
              <p:nvPr/>
            </p:nvSpPr>
            <p:spPr>
              <a:xfrm>
                <a:off x="1358640" y="2431080"/>
                <a:ext cx="59220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342080" y="2585880"/>
                <a:ext cx="7614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1075680" y="2621160"/>
              <a:ext cx="0" cy="13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200000">
              <a:off x="972360" y="3957480"/>
              <a:ext cx="192600" cy="1134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33920" y="211500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933920" y="253512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33920" y="306000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33920" y="349704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42520" y="2096640"/>
              <a:ext cx="101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275640" y="2543040"/>
              <a:ext cx="101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275640" y="2990880"/>
              <a:ext cx="101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287520" y="3411000"/>
              <a:ext cx="101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203160" y="2096640"/>
              <a:ext cx="101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37720" y="2543040"/>
              <a:ext cx="101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237720" y="2990880"/>
              <a:ext cx="101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49600" y="3411000"/>
              <a:ext cx="101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37680" y="2096640"/>
              <a:ext cx="75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49600" y="3848040"/>
              <a:ext cx="101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96360" y="253512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96360" y="297216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896360" y="341100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896360" y="384804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11640" y="3916800"/>
              <a:ext cx="42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811640" y="2572560"/>
              <a:ext cx="42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844760" y="342036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488440" y="2184120"/>
              <a:ext cx="42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833600" y="3011400"/>
              <a:ext cx="42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52840" y="4111200"/>
              <a:ext cx="0" cy="963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4197600" y="5074920"/>
              <a:ext cx="254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4197600" y="4897440"/>
              <a:ext cx="0" cy="176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54760" y="6126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388280" y="4549680"/>
              <a:ext cx="0" cy="1575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488440" y="2184120"/>
              <a:ext cx="0" cy="210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811640" y="4286880"/>
              <a:ext cx="67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A9EAA-7C78-4B00-A7B0-1E79CA0ED5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4551480" y="2001960"/>
            <a:ext cx="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459560" y="2146320"/>
            <a:ext cx="0" cy="31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736040" y="1969920"/>
            <a:ext cx="25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13400" y="19638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767560" y="1973160"/>
            <a:ext cx="0" cy="13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60840" y="1998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815000" y="1960560"/>
            <a:ext cx="190440" cy="85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513400" y="1925640"/>
            <a:ext cx="190440" cy="85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989840" y="1973160"/>
            <a:ext cx="0" cy="13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783480" y="1973160"/>
            <a:ext cx="0" cy="9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783480" y="196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037280" y="1932120"/>
            <a:ext cx="190440" cy="85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736040" y="1930320"/>
            <a:ext cx="190440" cy="874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5004720" y="1723680"/>
            <a:ext cx="523440" cy="572400"/>
            <a:chOff x="5004720" y="1723680"/>
            <a:chExt cx="523440" cy="572400"/>
          </a:xfrm>
        </p:grpSpPr>
        <p:sp>
          <p:nvSpPr>
            <p:cNvPr id="849" name=""/>
            <p:cNvSpPr/>
            <p:nvPr/>
          </p:nvSpPr>
          <p:spPr>
            <a:xfrm rot="5394000">
              <a:off x="4980600" y="1748520"/>
              <a:ext cx="571320" cy="522360"/>
            </a:xfrm>
            <a:prstGeom prst="triangle">
              <a:avLst>
                <a:gd name="adj" fmla="val 48384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05440" y="1896840"/>
              <a:ext cx="48996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ddSPK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7227000" y="1714320"/>
            <a:ext cx="523440" cy="572400"/>
            <a:chOff x="7227000" y="1714320"/>
            <a:chExt cx="523440" cy="572400"/>
          </a:xfrm>
        </p:grpSpPr>
        <p:sp>
          <p:nvSpPr>
            <p:cNvPr id="852" name=""/>
            <p:cNvSpPr/>
            <p:nvPr/>
          </p:nvSpPr>
          <p:spPr>
            <a:xfrm rot="5394000">
              <a:off x="7202880" y="1739160"/>
              <a:ext cx="571320" cy="522360"/>
            </a:xfrm>
            <a:prstGeom prst="triangle">
              <a:avLst>
                <a:gd name="adj" fmla="val 48384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27720" y="1887480"/>
              <a:ext cx="48996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4700520" y="1801800"/>
            <a:ext cx="2541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IN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967440" y="1801800"/>
            <a:ext cx="2541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IN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570640" y="1801800"/>
            <a:ext cx="3394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OUT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729560" y="1801800"/>
            <a:ext cx="3142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OUT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5029200" y="4762440"/>
            <a:ext cx="741240" cy="641160"/>
            <a:chOff x="5029200" y="4762440"/>
            <a:chExt cx="741240" cy="641160"/>
          </a:xfrm>
        </p:grpSpPr>
        <p:sp>
          <p:nvSpPr>
            <p:cNvPr id="859" name=""/>
            <p:cNvSpPr/>
            <p:nvPr/>
          </p:nvSpPr>
          <p:spPr>
            <a:xfrm>
              <a:off x="5029200" y="4762440"/>
              <a:ext cx="741240" cy="64116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67000" y="5019480"/>
              <a:ext cx="6681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OOKUP_PS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6935760" y="4451400"/>
            <a:ext cx="80316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LU_PKEY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942240" y="5229360"/>
            <a:ext cx="80316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LU_SKEY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935760" y="3760920"/>
            <a:ext cx="80316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PKEY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935760" y="4105440"/>
            <a:ext cx="8031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SOURCE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rot="16200000">
            <a:off x="7362720" y="2217240"/>
            <a:ext cx="190440" cy="85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570800" y="2184480"/>
            <a:ext cx="3207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PAR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942240" y="4797360"/>
            <a:ext cx="96840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LU_SOURCE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224840" y="24922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989760" y="25304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0240" y="3355920"/>
            <a:ext cx="0" cy="94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6779880" y="43052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764320" y="5024520"/>
            <a:ext cx="190440" cy="871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954760" y="4610160"/>
            <a:ext cx="17928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954760" y="5083200"/>
            <a:ext cx="11736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954760" y="508320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462720" y="4564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462720" y="49579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462720" y="54277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776840" y="24940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999120" y="24940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973840" y="249408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034040" y="31510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18120" y="315108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738920" y="5361120"/>
            <a:ext cx="400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8120160" y="3836520"/>
            <a:ext cx="0" cy="1554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380200" y="2894040"/>
            <a:ext cx="680760" cy="514440"/>
            <a:chOff x="5380200" y="2894040"/>
            <a:chExt cx="680760" cy="514440"/>
          </a:xfrm>
        </p:grpSpPr>
        <p:sp>
          <p:nvSpPr>
            <p:cNvPr id="887" name=""/>
            <p:cNvSpPr/>
            <p:nvPr/>
          </p:nvSpPr>
          <p:spPr>
            <a:xfrm>
              <a:off x="5396040" y="289404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80200" y="3076200"/>
              <a:ext cx="6807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UP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777080" y="2236680"/>
            <a:ext cx="681120" cy="514440"/>
            <a:chOff x="7777080" y="2236680"/>
            <a:chExt cx="681120" cy="514440"/>
          </a:xfrm>
        </p:grpSpPr>
        <p:sp>
          <p:nvSpPr>
            <p:cNvPr id="890" name=""/>
            <p:cNvSpPr/>
            <p:nvPr/>
          </p:nvSpPr>
          <p:spPr>
            <a:xfrm>
              <a:off x="7792920" y="223668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77080" y="2418840"/>
              <a:ext cx="68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6519960" y="2236680"/>
            <a:ext cx="681120" cy="514440"/>
            <a:chOff x="6519960" y="2236680"/>
            <a:chExt cx="681120" cy="514440"/>
          </a:xfrm>
        </p:grpSpPr>
        <p:sp>
          <p:nvSpPr>
            <p:cNvPr id="893" name=""/>
            <p:cNvSpPr/>
            <p:nvPr/>
          </p:nvSpPr>
          <p:spPr>
            <a:xfrm>
              <a:off x="6535800" y="223668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19960" y="2418840"/>
              <a:ext cx="68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5378400" y="2236680"/>
            <a:ext cx="681120" cy="514440"/>
            <a:chOff x="5378400" y="2236680"/>
            <a:chExt cx="681120" cy="514440"/>
          </a:xfrm>
        </p:grpSpPr>
        <p:sp>
          <p:nvSpPr>
            <p:cNvPr id="896" name=""/>
            <p:cNvSpPr/>
            <p:nvPr/>
          </p:nvSpPr>
          <p:spPr>
            <a:xfrm>
              <a:off x="5394240" y="223668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378400" y="2418840"/>
              <a:ext cx="68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4233960" y="2236680"/>
            <a:ext cx="681120" cy="514440"/>
            <a:chOff x="4233960" y="2236680"/>
            <a:chExt cx="681120" cy="514440"/>
          </a:xfrm>
        </p:grpSpPr>
        <p:sp>
          <p:nvSpPr>
            <p:cNvPr id="899" name=""/>
            <p:cNvSpPr/>
            <p:nvPr/>
          </p:nvSpPr>
          <p:spPr>
            <a:xfrm>
              <a:off x="4249800" y="223668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233960" y="2418840"/>
              <a:ext cx="68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7777080" y="3456000"/>
            <a:ext cx="681120" cy="514440"/>
            <a:chOff x="7777080" y="3456000"/>
            <a:chExt cx="681120" cy="514440"/>
          </a:xfrm>
        </p:grpSpPr>
        <p:sp>
          <p:nvSpPr>
            <p:cNvPr id="902" name=""/>
            <p:cNvSpPr/>
            <p:nvPr/>
          </p:nvSpPr>
          <p:spPr>
            <a:xfrm>
              <a:off x="7792920" y="345600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777080" y="3638160"/>
              <a:ext cx="68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777080" y="2894040"/>
            <a:ext cx="681120" cy="514440"/>
            <a:chOff x="7777080" y="2894040"/>
            <a:chExt cx="681120" cy="514440"/>
          </a:xfrm>
        </p:grpSpPr>
        <p:sp>
          <p:nvSpPr>
            <p:cNvPr id="905" name=""/>
            <p:cNvSpPr/>
            <p:nvPr/>
          </p:nvSpPr>
          <p:spPr>
            <a:xfrm>
              <a:off x="7792920" y="289404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77080" y="3076200"/>
              <a:ext cx="68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UP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6519960" y="2894040"/>
            <a:ext cx="681120" cy="514440"/>
            <a:chOff x="6519960" y="2894040"/>
            <a:chExt cx="681120" cy="514440"/>
          </a:xfrm>
        </p:grpSpPr>
        <p:sp>
          <p:nvSpPr>
            <p:cNvPr id="908" name=""/>
            <p:cNvSpPr/>
            <p:nvPr/>
          </p:nvSpPr>
          <p:spPr>
            <a:xfrm>
              <a:off x="6535800" y="289404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519960" y="3076200"/>
              <a:ext cx="68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UP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6058080" y="4229280"/>
            <a:ext cx="680760" cy="514080"/>
            <a:chOff x="6058080" y="4229280"/>
            <a:chExt cx="680760" cy="514080"/>
          </a:xfrm>
        </p:grpSpPr>
        <p:sp>
          <p:nvSpPr>
            <p:cNvPr id="911" name=""/>
            <p:cNvSpPr/>
            <p:nvPr/>
          </p:nvSpPr>
          <p:spPr>
            <a:xfrm>
              <a:off x="6073920" y="4229280"/>
              <a:ext cx="564120" cy="51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058080" y="4411440"/>
              <a:ext cx="6807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6058080" y="5276880"/>
            <a:ext cx="680760" cy="514440"/>
            <a:chOff x="6058080" y="5276880"/>
            <a:chExt cx="680760" cy="514440"/>
          </a:xfrm>
        </p:grpSpPr>
        <p:sp>
          <p:nvSpPr>
            <p:cNvPr id="914" name=""/>
            <p:cNvSpPr/>
            <p:nvPr/>
          </p:nvSpPr>
          <p:spPr>
            <a:xfrm>
              <a:off x="6073920" y="527688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58080" y="5459040"/>
              <a:ext cx="6807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058080" y="4740120"/>
            <a:ext cx="680760" cy="514440"/>
            <a:chOff x="6058080" y="4740120"/>
            <a:chExt cx="680760" cy="514440"/>
          </a:xfrm>
        </p:grpSpPr>
        <p:sp>
          <p:nvSpPr>
            <p:cNvPr id="917" name=""/>
            <p:cNvSpPr/>
            <p:nvPr/>
          </p:nvSpPr>
          <p:spPr>
            <a:xfrm>
              <a:off x="6073920" y="474012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058080" y="4922280"/>
              <a:ext cx="6807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328920" y="3379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583080" y="338292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376360" y="338292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376360" y="33796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2820240" y="3182400"/>
            <a:ext cx="523080" cy="442440"/>
            <a:chOff x="2820240" y="3182400"/>
            <a:chExt cx="523080" cy="442440"/>
          </a:xfrm>
        </p:grpSpPr>
        <p:sp>
          <p:nvSpPr>
            <p:cNvPr id="924" name=""/>
            <p:cNvSpPr/>
            <p:nvPr/>
          </p:nvSpPr>
          <p:spPr>
            <a:xfrm rot="5394000">
              <a:off x="2860920" y="3142080"/>
              <a:ext cx="441360" cy="522360"/>
            </a:xfrm>
            <a:prstGeom prst="triangle">
              <a:avLst>
                <a:gd name="adj" fmla="val 48384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820960" y="3315960"/>
              <a:ext cx="48996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2560680" y="3219480"/>
            <a:ext cx="2538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IN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322800" y="3192480"/>
            <a:ext cx="3142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OUT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2004840" y="4944600"/>
            <a:ext cx="179640" cy="3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004840" y="5310360"/>
            <a:ext cx="1177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04840" y="531036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128680" y="3586320"/>
            <a:ext cx="565200" cy="3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12840" y="3726000"/>
            <a:ext cx="6811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PKEY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3251160" y="4416480"/>
            <a:ext cx="681120" cy="396720"/>
            <a:chOff x="3251160" y="4416480"/>
            <a:chExt cx="681120" cy="396720"/>
          </a:xfrm>
        </p:grpSpPr>
        <p:sp>
          <p:nvSpPr>
            <p:cNvPr id="934" name=""/>
            <p:cNvSpPr/>
            <p:nvPr/>
          </p:nvSpPr>
          <p:spPr>
            <a:xfrm>
              <a:off x="3267000" y="4416480"/>
              <a:ext cx="564120" cy="3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251160" y="4556880"/>
              <a:ext cx="681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2112840" y="4092480"/>
            <a:ext cx="681120" cy="395280"/>
            <a:chOff x="2112840" y="4092480"/>
            <a:chExt cx="681120" cy="395280"/>
          </a:xfrm>
        </p:grpSpPr>
        <p:sp>
          <p:nvSpPr>
            <p:cNvPr id="937" name=""/>
            <p:cNvSpPr/>
            <p:nvPr/>
          </p:nvSpPr>
          <p:spPr>
            <a:xfrm>
              <a:off x="2128680" y="4092480"/>
              <a:ext cx="564120" cy="395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12840" y="4232520"/>
              <a:ext cx="6811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UP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2108160" y="4651200"/>
            <a:ext cx="681120" cy="397080"/>
            <a:chOff x="2108160" y="4651200"/>
            <a:chExt cx="681120" cy="397080"/>
          </a:xfrm>
        </p:grpSpPr>
        <p:sp>
          <p:nvSpPr>
            <p:cNvPr id="940" name=""/>
            <p:cNvSpPr/>
            <p:nvPr/>
          </p:nvSpPr>
          <p:spPr>
            <a:xfrm>
              <a:off x="2124000" y="4651200"/>
              <a:ext cx="564120" cy="39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08160" y="4791960"/>
              <a:ext cx="681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2108160" y="5459400"/>
            <a:ext cx="681120" cy="396720"/>
            <a:chOff x="2108160" y="5459400"/>
            <a:chExt cx="681120" cy="396720"/>
          </a:xfrm>
        </p:grpSpPr>
        <p:sp>
          <p:nvSpPr>
            <p:cNvPr id="943" name=""/>
            <p:cNvSpPr/>
            <p:nvPr/>
          </p:nvSpPr>
          <p:spPr>
            <a:xfrm>
              <a:off x="2124000" y="5459400"/>
              <a:ext cx="564120" cy="3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108160" y="5599800"/>
              <a:ext cx="681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108160" y="5045040"/>
            <a:ext cx="681120" cy="397080"/>
            <a:chOff x="2108160" y="5045040"/>
            <a:chExt cx="681120" cy="397080"/>
          </a:xfrm>
        </p:grpSpPr>
        <p:sp>
          <p:nvSpPr>
            <p:cNvPr id="946" name=""/>
            <p:cNvSpPr/>
            <p:nvPr/>
          </p:nvSpPr>
          <p:spPr>
            <a:xfrm>
              <a:off x="2124000" y="5045040"/>
              <a:ext cx="564120" cy="39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108160" y="5185800"/>
              <a:ext cx="681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2666880" y="3884760"/>
            <a:ext cx="736560" cy="59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717640" y="4357800"/>
            <a:ext cx="533520" cy="23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2717640" y="4710240"/>
            <a:ext cx="533520" cy="11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2641680" y="4815000"/>
            <a:ext cx="787320" cy="365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2641680" y="4883040"/>
            <a:ext cx="91440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2120" y="3124080"/>
            <a:ext cx="317484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29080" y="3343320"/>
            <a:ext cx="190440" cy="85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352680" y="3352680"/>
            <a:ext cx="190800" cy="85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828800" y="5248440"/>
            <a:ext cx="190440" cy="85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066680" y="4997520"/>
            <a:ext cx="762120" cy="641160"/>
            <a:chOff x="1066680" y="4997520"/>
            <a:chExt cx="762120" cy="641160"/>
          </a:xfrm>
        </p:grpSpPr>
        <p:sp>
          <p:nvSpPr>
            <p:cNvPr id="958" name=""/>
            <p:cNvSpPr/>
            <p:nvPr/>
          </p:nvSpPr>
          <p:spPr>
            <a:xfrm>
              <a:off x="1066680" y="4997520"/>
              <a:ext cx="762120" cy="64116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105200" y="5254560"/>
              <a:ext cx="68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OOKUP_PS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rived Provider Relation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8830-4C6E-49DF-85BB-8905F6F1F7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Model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mportance Metrics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AE92-7BFA-42A7-9BEC-117FE49762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ortance Metr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pendenc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in-degree of the node with respect to the provider edg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esponsibilit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out-degree of the node with respect to the provider edg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g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pendency +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o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ra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691D-21EA-4CF4-8A77-26D6622D9E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ortance Metr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319040" y="2720880"/>
            <a:ext cx="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494320" y="2676600"/>
            <a:ext cx="3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581200" y="2666880"/>
            <a:ext cx="3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13120" y="268128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332000" y="2716200"/>
            <a:ext cx="49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665360" y="2664000"/>
            <a:ext cx="249120" cy="1188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581200" y="2614680"/>
            <a:ext cx="249480" cy="1191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827680" y="268128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246560" y="2681280"/>
            <a:ext cx="0" cy="13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46560" y="2676600"/>
            <a:ext cx="4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578480" y="2624040"/>
            <a:ext cx="250560" cy="1191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494320" y="2620800"/>
            <a:ext cx="250920" cy="1224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1019160" y="3073320"/>
            <a:ext cx="703440" cy="600120"/>
            <a:chOff x="1019160" y="3073320"/>
            <a:chExt cx="703440" cy="600120"/>
          </a:xfrm>
        </p:grpSpPr>
        <p:sp>
          <p:nvSpPr>
            <p:cNvPr id="979" name=""/>
            <p:cNvSpPr/>
            <p:nvPr/>
          </p:nvSpPr>
          <p:spPr>
            <a:xfrm>
              <a:off x="1035720" y="3073320"/>
              <a:ext cx="58284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019160" y="3285720"/>
              <a:ext cx="70344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2625840" y="3983040"/>
            <a:ext cx="704880" cy="600120"/>
            <a:chOff x="2625840" y="3983040"/>
            <a:chExt cx="704880" cy="600120"/>
          </a:xfrm>
        </p:grpSpPr>
        <p:sp>
          <p:nvSpPr>
            <p:cNvPr id="982" name=""/>
            <p:cNvSpPr/>
            <p:nvPr/>
          </p:nvSpPr>
          <p:spPr>
            <a:xfrm>
              <a:off x="2642400" y="3983040"/>
              <a:ext cx="58392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625840" y="4195800"/>
              <a:ext cx="70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UP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2604960" y="3076560"/>
            <a:ext cx="704880" cy="600120"/>
            <a:chOff x="2604960" y="3076560"/>
            <a:chExt cx="704880" cy="600120"/>
          </a:xfrm>
        </p:grpSpPr>
        <p:sp>
          <p:nvSpPr>
            <p:cNvPr id="985" name=""/>
            <p:cNvSpPr/>
            <p:nvPr/>
          </p:nvSpPr>
          <p:spPr>
            <a:xfrm>
              <a:off x="2621520" y="3076560"/>
              <a:ext cx="58392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04960" y="3288960"/>
              <a:ext cx="7048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933720" y="3073320"/>
            <a:ext cx="703440" cy="600120"/>
            <a:chOff x="3933720" y="3073320"/>
            <a:chExt cx="703440" cy="600120"/>
          </a:xfrm>
        </p:grpSpPr>
        <p:sp>
          <p:nvSpPr>
            <p:cNvPr id="988" name=""/>
            <p:cNvSpPr/>
            <p:nvPr/>
          </p:nvSpPr>
          <p:spPr>
            <a:xfrm>
              <a:off x="3950280" y="3073320"/>
              <a:ext cx="58284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933720" y="3285720"/>
              <a:ext cx="70344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5540400" y="3983040"/>
            <a:ext cx="704880" cy="600120"/>
            <a:chOff x="5540400" y="3983040"/>
            <a:chExt cx="704880" cy="600120"/>
          </a:xfrm>
        </p:grpSpPr>
        <p:sp>
          <p:nvSpPr>
            <p:cNvPr id="991" name=""/>
            <p:cNvSpPr/>
            <p:nvPr/>
          </p:nvSpPr>
          <p:spPr>
            <a:xfrm>
              <a:off x="5556960" y="3983040"/>
              <a:ext cx="58392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540400" y="4195800"/>
              <a:ext cx="70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UP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19880" y="3076560"/>
            <a:ext cx="703080" cy="600120"/>
            <a:chOff x="5519880" y="3076560"/>
            <a:chExt cx="703080" cy="600120"/>
          </a:xfrm>
        </p:grpSpPr>
        <p:sp>
          <p:nvSpPr>
            <p:cNvPr id="994" name=""/>
            <p:cNvSpPr/>
            <p:nvPr/>
          </p:nvSpPr>
          <p:spPr>
            <a:xfrm>
              <a:off x="5536440" y="3076560"/>
              <a:ext cx="58248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19880" y="3288960"/>
              <a:ext cx="703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959280" y="3983040"/>
            <a:ext cx="703080" cy="600120"/>
            <a:chOff x="3959280" y="3983040"/>
            <a:chExt cx="703080" cy="600120"/>
          </a:xfrm>
        </p:grpSpPr>
        <p:sp>
          <p:nvSpPr>
            <p:cNvPr id="997" name=""/>
            <p:cNvSpPr/>
            <p:nvPr/>
          </p:nvSpPr>
          <p:spPr>
            <a:xfrm>
              <a:off x="3975840" y="3983040"/>
              <a:ext cx="58248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959280" y="4195800"/>
              <a:ext cx="703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UP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5540400" y="4583160"/>
            <a:ext cx="704880" cy="601560"/>
            <a:chOff x="5540400" y="4583160"/>
            <a:chExt cx="704880" cy="601560"/>
          </a:xfrm>
        </p:grpSpPr>
        <p:sp>
          <p:nvSpPr>
            <p:cNvPr id="1000" name=""/>
            <p:cNvSpPr/>
            <p:nvPr/>
          </p:nvSpPr>
          <p:spPr>
            <a:xfrm>
              <a:off x="5556960" y="4583160"/>
              <a:ext cx="583920" cy="60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540400" y="4796280"/>
              <a:ext cx="70488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1913400" y="2332800"/>
            <a:ext cx="685800" cy="796680"/>
            <a:chOff x="1913400" y="2332800"/>
            <a:chExt cx="685800" cy="796680"/>
          </a:xfrm>
        </p:grpSpPr>
        <p:sp>
          <p:nvSpPr>
            <p:cNvPr id="1003" name=""/>
            <p:cNvSpPr/>
            <p:nvPr/>
          </p:nvSpPr>
          <p:spPr>
            <a:xfrm rot="5394000">
              <a:off x="1858320" y="2388960"/>
              <a:ext cx="795600" cy="684360"/>
            </a:xfrm>
            <a:prstGeom prst="triangle">
              <a:avLst>
                <a:gd name="adj" fmla="val 48384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14480" y="2574000"/>
              <a:ext cx="6418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AddSPK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4827960" y="2320200"/>
            <a:ext cx="685800" cy="796320"/>
            <a:chOff x="4827960" y="2320200"/>
            <a:chExt cx="685800" cy="796320"/>
          </a:xfrm>
        </p:grpSpPr>
        <p:sp>
          <p:nvSpPr>
            <p:cNvPr id="1006" name=""/>
            <p:cNvSpPr/>
            <p:nvPr/>
          </p:nvSpPr>
          <p:spPr>
            <a:xfrm rot="5394000">
              <a:off x="4772880" y="2376000"/>
              <a:ext cx="795240" cy="684360"/>
            </a:xfrm>
            <a:prstGeom prst="triangle">
              <a:avLst>
                <a:gd name="adj" fmla="val 48384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829040" y="2561400"/>
              <a:ext cx="6418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1514520" y="2443320"/>
            <a:ext cx="3333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87760" y="2443320"/>
            <a:ext cx="3333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655720" y="2443320"/>
            <a:ext cx="333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OUT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486400" y="2443320"/>
            <a:ext cx="3333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OUT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785000" y="4468680"/>
            <a:ext cx="749520" cy="8416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23080" y="3989520"/>
            <a:ext cx="703080" cy="601560"/>
            <a:chOff x="6823080" y="3989520"/>
            <a:chExt cx="703080" cy="601560"/>
          </a:xfrm>
        </p:grpSpPr>
        <p:sp>
          <p:nvSpPr>
            <p:cNvPr id="1014" name=""/>
            <p:cNvSpPr/>
            <p:nvPr/>
          </p:nvSpPr>
          <p:spPr>
            <a:xfrm>
              <a:off x="6839640" y="3989520"/>
              <a:ext cx="582480" cy="60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23080" y="4202640"/>
              <a:ext cx="703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823080" y="5191200"/>
            <a:ext cx="703080" cy="600120"/>
            <a:chOff x="6823080" y="5191200"/>
            <a:chExt cx="703080" cy="600120"/>
          </a:xfrm>
        </p:grpSpPr>
        <p:sp>
          <p:nvSpPr>
            <p:cNvPr id="1017" name=""/>
            <p:cNvSpPr/>
            <p:nvPr/>
          </p:nvSpPr>
          <p:spPr>
            <a:xfrm>
              <a:off x="6839640" y="5191200"/>
              <a:ext cx="58248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23080" y="5403600"/>
              <a:ext cx="703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6823080" y="4591080"/>
            <a:ext cx="703080" cy="600120"/>
            <a:chOff x="6823080" y="4591080"/>
            <a:chExt cx="703080" cy="600120"/>
          </a:xfrm>
        </p:grpSpPr>
        <p:sp>
          <p:nvSpPr>
            <p:cNvPr id="1020" name=""/>
            <p:cNvSpPr/>
            <p:nvPr/>
          </p:nvSpPr>
          <p:spPr>
            <a:xfrm>
              <a:off x="6839640" y="4591080"/>
              <a:ext cx="58248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23080" y="4803480"/>
              <a:ext cx="703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7823160" y="4830840"/>
            <a:ext cx="711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LOOKUP_PS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 flipV="1">
            <a:off x="7451280" y="4468320"/>
            <a:ext cx="16668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7451280" y="4950000"/>
            <a:ext cx="12060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7451640" y="4950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614600" y="3333600"/>
            <a:ext cx="100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529160" y="3333600"/>
            <a:ext cx="99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84560" y="3336840"/>
            <a:ext cx="749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575240" y="4243320"/>
            <a:ext cx="99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243240" y="4243320"/>
            <a:ext cx="749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1139760" y="1960200"/>
            <a:ext cx="0" cy="108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139760" y="1960560"/>
            <a:ext cx="480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945040" y="1960560"/>
            <a:ext cx="0" cy="120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113360" y="1960560"/>
            <a:ext cx="0" cy="120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055960" y="3976560"/>
            <a:ext cx="3663360" cy="48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4" y="18316"/>
                </a:moveTo>
                <a:arcTo wR="10800" hR="10800" stAng="8154114" swAng="13445886"/>
                <a:lnTo>
                  <a:pt x="10800" y="10800"/>
                </a:lnTo>
                <a:close/>
              </a:path>
              <a:path fill="none" w="21600" h="21600">
                <a:moveTo>
                  <a:pt x="3044" y="18316"/>
                </a:moveTo>
                <a:arcTo wR="10800" hR="10800" stAng="8154114" swAng="13445886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2117880" y="3421080"/>
            <a:ext cx="3663360" cy="47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49" y="17769"/>
                </a:moveTo>
                <a:arcTo wR="10800" hR="10800" stAng="8388873" swAng="13211127"/>
                <a:lnTo>
                  <a:pt x="10800" y="10800"/>
                </a:lnTo>
                <a:close/>
              </a:path>
              <a:path fill="none" w="21600" h="21600">
                <a:moveTo>
                  <a:pt x="2549" y="17769"/>
                </a:moveTo>
                <a:arcTo wR="10800" hR="10800" stAng="8388873" swAng="13211127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470480" y="3495600"/>
            <a:ext cx="1166760" cy="1322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70480" y="4456080"/>
            <a:ext cx="1082520" cy="480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1973160" y="3294000"/>
            <a:ext cx="3828960" cy="211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4" y="18316"/>
                </a:moveTo>
                <a:arcTo wR="10800" hR="10800" stAng="8154114" swAng="11224461"/>
                <a:lnTo>
                  <a:pt x="10800" y="10800"/>
                </a:lnTo>
                <a:close/>
              </a:path>
              <a:path fill="none" w="21600" h="21600">
                <a:moveTo>
                  <a:pt x="3044" y="18316"/>
                </a:moveTo>
                <a:arcTo wR="10800" hR="10800" stAng="8154114" swAng="11224461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138480" y="4456080"/>
            <a:ext cx="2247840" cy="480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535880" y="4870440"/>
            <a:ext cx="249120" cy="1191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6119640" y="4230720"/>
            <a:ext cx="749520" cy="47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6202440" y="4950000"/>
            <a:ext cx="666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 flipV="1">
            <a:off x="6119640" y="5191200"/>
            <a:ext cx="665280" cy="358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6095880" y="2597040"/>
            <a:ext cx="2667240" cy="2051280"/>
            <a:chOff x="6095880" y="2597040"/>
            <a:chExt cx="2667240" cy="2051280"/>
          </a:xfrm>
        </p:grpSpPr>
        <p:sp>
          <p:nvSpPr>
            <p:cNvPr id="1046" name=""/>
            <p:cNvSpPr/>
            <p:nvPr/>
          </p:nvSpPr>
          <p:spPr>
            <a:xfrm>
              <a:off x="6477120" y="2597040"/>
              <a:ext cx="2286000" cy="82548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Vulnerable point in the scenario</a:t>
              </a:r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095880" y="3429000"/>
              <a:ext cx="1067040" cy="12193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aphicFrame>
        <p:nvGraphicFramePr>
          <p:cNvPr id="1048" name=""/>
          <p:cNvGraphicFramePr/>
          <p:nvPr/>
        </p:nvGraphicFramePr>
        <p:xfrm>
          <a:off x="6019920" y="838080"/>
          <a:ext cx="2971800" cy="1650960"/>
        </p:xfrm>
        <a:graphic>
          <a:graphicData uri="http://schemas.openxmlformats.org/drawingml/2006/table">
            <a:tbl>
              <a:tblPr/>
              <a:tblGrid>
                <a:gridCol w="938160"/>
                <a:gridCol w="635040"/>
                <a:gridCol w="636480"/>
                <a:gridCol w="762120"/>
              </a:tblGrid>
              <a:tr h="2793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ransitive:</a:t>
                      </a:r>
                      <a:endParaRPr b="0" lang="en-US" sz="12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1368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1368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ut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1368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g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13680">
                      <a:solidFill>
                        <a:srgbClr val="00172e"/>
                      </a:solidFill>
                    </a:lnR>
                    <a:lnT w="1368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049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SKEY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1368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533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vg/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ttribute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.83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.83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.67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1368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5331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vg/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ntity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1368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.67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1368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.67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1368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1.33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1368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1368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49" name=""/>
          <p:cNvSpPr/>
          <p:nvPr/>
        </p:nvSpPr>
        <p:spPr>
          <a:xfrm flipV="1">
            <a:off x="838080" y="3183480"/>
            <a:ext cx="5253840" cy="234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1" y="17228"/>
                </a:moveTo>
                <a:arcTo wR="10800" hR="10800" stAng="8608517" swAng="10770059"/>
                <a:lnTo>
                  <a:pt x="10800" y="10800"/>
                </a:lnTo>
                <a:close/>
              </a:path>
              <a:path fill="none" w="21600" h="21600">
                <a:moveTo>
                  <a:pt x="2121" y="17228"/>
                </a:moveTo>
                <a:arcTo wR="10800" hR="10800" stAng="8608517" swAng="10770059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9704-65A8-4CFB-B269-47BE3F59A6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Model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e Metrics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nclusions and 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9AFE-F54D-490F-8E66-108B0C7792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Model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e Metrics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D4CB7-4AA2-4B66-9442-8BDFE2F546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swers to motivating ques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art of the scenario is affected if we delete an attribu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attributes/tables are involved in the population of an attribut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38080" y="4267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ransitive dependencies and responsibilities</a:t>
            </a:r>
            <a:endParaRPr b="0" lang="en-US" sz="3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3B41-3302-4B31-AB7D-ECBE25619B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“good” is my design of the ETL scena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swers to motivating ques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8580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Vulner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s</a:t>
            </a:r>
            <a:endParaRPr b="0" lang="en-US" sz="28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of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consisten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of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mportant data stores</a:t>
            </a:r>
            <a:endParaRPr b="0" lang="en-US" sz="28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of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se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ource)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40F8-6443-4E7F-B62C-F66FA36B2C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ursa_major_logo" descr=""/>
          <p:cNvPicPr/>
          <p:nvPr/>
        </p:nvPicPr>
        <p:blipFill>
          <a:blip r:embed="rId1"/>
          <a:stretch/>
        </p:blipFill>
        <p:spPr>
          <a:xfrm>
            <a:off x="685800" y="5867280"/>
            <a:ext cx="1295280" cy="57312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190440" y="5334120"/>
            <a:ext cx="876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http://www.dblab.ece.ntua.gr/~pvassil/projects/arktos_II</a:t>
            </a: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n-going/Future Wor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8580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rktos II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project </a:t>
            </a:r>
            <a:r>
              <a:rPr b="0" lang="en-GB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is aimed towards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the</a:t>
            </a:r>
            <a:endParaRPr b="0" lang="en-US" sz="32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Conceptual modeling</a:t>
            </a:r>
            <a:endParaRPr b="0" lang="en-US" sz="32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Logical modeling</a:t>
            </a:r>
            <a:endParaRPr b="0" lang="en-US" sz="32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Optimization</a:t>
            </a:r>
            <a:endParaRPr b="0" lang="en-US" sz="32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What-if analysis</a:t>
            </a:r>
            <a:endParaRPr b="0" lang="en-US" sz="32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of ETL scenarios</a:t>
            </a:r>
            <a:endParaRPr b="0" lang="en-US" sz="3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E758-0F64-457F-97F1-32E44B1F81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ny thanks to our hosts…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3" name=""/>
          <p:cNvGraphicFramePr/>
          <p:nvPr/>
        </p:nvGraphicFramePr>
        <p:xfrm>
          <a:off x="2400480" y="2362320"/>
          <a:ext cx="434340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0480" y="2362320"/>
                    <a:ext cx="434340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87EB-0C1B-4AC7-BCD2-EA456098C3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2571840" y="1244520"/>
            <a:ext cx="39812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8B67-2E45-4FCD-AC0D-DF048C8D61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"/>
          <p:cNvGrpSpPr/>
          <p:nvPr/>
        </p:nvGrpSpPr>
        <p:grpSpPr>
          <a:xfrm>
            <a:off x="762120" y="1676520"/>
            <a:ext cx="7695720" cy="4419000"/>
            <a:chOff x="762120" y="1676520"/>
            <a:chExt cx="7695720" cy="4419000"/>
          </a:xfrm>
        </p:grpSpPr>
        <p:sp>
          <p:nvSpPr>
            <p:cNvPr id="1068" name=""/>
            <p:cNvSpPr/>
            <p:nvPr/>
          </p:nvSpPr>
          <p:spPr>
            <a:xfrm>
              <a:off x="7257600" y="1676520"/>
              <a:ext cx="1200240" cy="2793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088440" y="1677600"/>
              <a:ext cx="3812400" cy="2793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903240" y="2983320"/>
              <a:ext cx="705960" cy="574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1891800" y="2245320"/>
              <a:ext cx="917640" cy="1969560"/>
              <a:chOff x="1891800" y="2245320"/>
              <a:chExt cx="917640" cy="1969560"/>
            </a:xfrm>
          </p:grpSpPr>
          <p:sp>
            <p:nvSpPr>
              <p:cNvPr id="1072" name=""/>
              <p:cNvSpPr/>
              <p:nvPr/>
            </p:nvSpPr>
            <p:spPr>
              <a:xfrm>
                <a:off x="1891800" y="2245320"/>
                <a:ext cx="917640" cy="19695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103480" y="240912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103480" y="284688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103480" y="328428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103480" y="372240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1609200" y="32295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7257600" y="2253240"/>
              <a:ext cx="917640" cy="1969200"/>
              <a:chOff x="7257600" y="2253240"/>
              <a:chExt cx="917640" cy="1969200"/>
            </a:xfrm>
          </p:grpSpPr>
          <p:sp>
            <p:nvSpPr>
              <p:cNvPr id="1079" name=""/>
              <p:cNvSpPr/>
              <p:nvPr/>
            </p:nvSpPr>
            <p:spPr>
              <a:xfrm>
                <a:off x="7257600" y="2253240"/>
                <a:ext cx="917640" cy="1969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469280" y="2417040"/>
                <a:ext cx="493920" cy="32796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469280" y="2854440"/>
                <a:ext cx="493920" cy="32796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469280" y="3292200"/>
                <a:ext cx="493920" cy="32796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469280" y="3730320"/>
                <a:ext cx="493920" cy="32796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1084" name=""/>
            <p:cNvSpPr/>
            <p:nvPr/>
          </p:nvSpPr>
          <p:spPr>
            <a:xfrm>
              <a:off x="4323960" y="1878480"/>
              <a:ext cx="808200" cy="491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426560" y="1960200"/>
              <a:ext cx="56448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IN.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213880" y="4296240"/>
              <a:ext cx="0" cy="65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88440" y="2245320"/>
              <a:ext cx="705960" cy="1969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159000" y="2408400"/>
              <a:ext cx="49392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159000" y="2846160"/>
              <a:ext cx="49392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159000" y="3283560"/>
              <a:ext cx="493920" cy="329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159000" y="3723120"/>
              <a:ext cx="493920" cy="326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194880" y="2253240"/>
              <a:ext cx="705960" cy="1969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336000" y="2417400"/>
              <a:ext cx="494280" cy="327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336000" y="2855160"/>
              <a:ext cx="494280" cy="327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336000" y="3292920"/>
              <a:ext cx="494280" cy="327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336000" y="3730680"/>
              <a:ext cx="49428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29560" y="2088360"/>
              <a:ext cx="423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265800" y="2088360"/>
              <a:ext cx="423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812040" y="1704960"/>
              <a:ext cx="17474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POPULATED_FIELD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597760" y="2572920"/>
              <a:ext cx="561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97760" y="3887280"/>
              <a:ext cx="561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97760" y="2983320"/>
              <a:ext cx="561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94520" y="3476880"/>
              <a:ext cx="5644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53280" y="2580120"/>
              <a:ext cx="26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53280" y="2990880"/>
              <a:ext cx="26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53280" y="3484440"/>
              <a:ext cx="26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53280" y="3894840"/>
              <a:ext cx="26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900840" y="2580120"/>
              <a:ext cx="561240" cy="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900840" y="3894840"/>
              <a:ext cx="561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900840" y="2990880"/>
              <a:ext cx="5612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97600" y="3484440"/>
              <a:ext cx="5644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605600" y="3182760"/>
              <a:ext cx="141120" cy="828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536600" y="2088360"/>
              <a:ext cx="423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454240" y="1677600"/>
              <a:ext cx="0" cy="2792160"/>
            </a:xfrm>
            <a:prstGeom prst="line">
              <a:avLst/>
            </a:prstGeom>
            <a:ln w="255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931280" y="4953240"/>
              <a:ext cx="3318120" cy="1142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5360" indent="-225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172e"/>
                  </a:solidFill>
                  <a:latin typeface="Courier New"/>
                </a:rPr>
                <a:t>SELECT IN.A1 AS OUT.A1, IN.A2 AS OUT.A2,IN.A</a:t>
              </a:r>
              <a:r>
                <a:rPr b="0" lang="en-US" sz="1400" spc="-1" strike="noStrike">
                  <a:solidFill>
                    <a:srgbClr val="00172e"/>
                  </a:solidFill>
                  <a:latin typeface="Courier New"/>
                </a:rPr>
                <a:t>3</a:t>
              </a:r>
              <a:r>
                <a:rPr b="1" lang="en-US" sz="1400" spc="-1" strike="noStrike">
                  <a:solidFill>
                    <a:srgbClr val="00172e"/>
                  </a:solidFill>
                  <a:latin typeface="Courier New"/>
                </a:rPr>
                <a:t> AS OUT.A</a:t>
              </a:r>
              <a:r>
                <a:rPr b="0" lang="en-US" sz="1400" spc="-1" strike="noStrike">
                  <a:solidFill>
                    <a:srgbClr val="00172e"/>
                  </a:solidFill>
                  <a:latin typeface="Courier New"/>
                </a:rPr>
                <a:t>3</a:t>
              </a:r>
              <a:r>
                <a:rPr b="1" lang="en-US" sz="1400" spc="-1" strike="noStrike">
                  <a:solidFill>
                    <a:srgbClr val="00172e"/>
                  </a:solidFill>
                  <a:latin typeface="Courier New"/>
                </a:rPr>
                <a:t>,</a:t>
              </a:r>
              <a:r>
                <a:rPr b="0" lang="en-US" sz="1400" spc="-1" strike="noStrike">
                  <a:solidFill>
                    <a:srgbClr val="00172e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172e"/>
                  </a:solidFill>
                  <a:latin typeface="Courier New"/>
                </a:rPr>
                <a:t>IN.A</a:t>
              </a:r>
              <a:r>
                <a:rPr b="0" lang="en-US" sz="1400" spc="-1" strike="noStrike">
                  <a:solidFill>
                    <a:srgbClr val="00172e"/>
                  </a:solidFill>
                  <a:latin typeface="Courier New"/>
                </a:rPr>
                <a:t>4</a:t>
              </a:r>
              <a:r>
                <a:rPr b="1" lang="en-US" sz="1400" spc="-1" strike="noStrike">
                  <a:solidFill>
                    <a:srgbClr val="00172e"/>
                  </a:solidFill>
                  <a:latin typeface="Courier New"/>
                </a:rPr>
                <a:t> AS OUT.A4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172e"/>
                  </a:solidFill>
                  <a:latin typeface="Courier New"/>
                </a:rPr>
                <a:t>FROM NOTNULL_A1.IN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172e"/>
                  </a:solidFill>
                  <a:latin typeface="Courier New"/>
                </a:rPr>
                <a:t>WHERE IN.A1 NOT NULL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887800" y="1704960"/>
              <a:ext cx="9885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172e"/>
                  </a:solidFill>
                  <a:latin typeface="Times New Roman"/>
                </a:rPr>
                <a:t>NotNull_A1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5395800">
              <a:off x="1820520" y="5108760"/>
              <a:ext cx="723960" cy="5752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36280" y="5199120"/>
              <a:ext cx="705600" cy="41040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12800" y="4861080"/>
              <a:ext cx="98820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172e"/>
                  </a:solidFill>
                  <a:latin typeface="Times New Roman"/>
                </a:rPr>
                <a:t>NotNull_A1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42240" y="5408640"/>
              <a:ext cx="35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5395800">
              <a:off x="2777400" y="5099760"/>
              <a:ext cx="724320" cy="5752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499120" y="540000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913640" y="4296240"/>
              <a:ext cx="16236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OUT OPERATIONAL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SEMANTICS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671920" y="4871520"/>
              <a:ext cx="9882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172e"/>
                  </a:solidFill>
                  <a:latin typeface="Times New Roman"/>
                </a:rPr>
                <a:t>SK_A2</a:t>
              </a:r>
              <a:endParaRPr b="0" lang="en-US" sz="16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437640" y="5400000"/>
              <a:ext cx="35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52040" y="5300280"/>
              <a:ext cx="9882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172e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62120" y="4788720"/>
              <a:ext cx="3741840" cy="123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32680" y="4575600"/>
              <a:ext cx="9882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2e"/>
                  </a:solidFill>
                  <a:latin typeface="Times New Roman"/>
                </a:rPr>
                <a:t>Legend:</a:t>
              </a:r>
              <a:endParaRPr b="0" lang="en-US" sz="16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BAD5-3051-48A3-89B4-17D112755C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Transform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09480" y="1066680"/>
            <a:ext cx="8229600" cy="54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Transformation</a:t>
            </a:r>
            <a:r>
              <a:rPr b="1" i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Zoom_Out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Input: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the architecture graph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G(V,E)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and a structured entity 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A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Output: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a new architecture graph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G’(V’,E’)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Begin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G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’ = 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G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node t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’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 s.t. 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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edge (A,t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o’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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edge (A,x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o’ 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dge (t,x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=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 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(t,A)-(t,x)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dge (x,t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=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 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(A,t)-(x,t)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dge (t,x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=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r’ 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(t,A)-(t,x); }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node t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 s.t. 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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edges (A,t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o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 (A,x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o’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dge (t,x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=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-(t,x)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dge (x,t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=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-(x,t)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dge (t,x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r’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 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r’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= 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r’ 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-(t,x)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emove t;  }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End</a:t>
            </a:r>
            <a:r>
              <a:rPr b="0" lang="en-GB" sz="1800" spc="-1" strike="noStrike">
                <a:solidFill>
                  <a:srgbClr val="00172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B677C-1506-425C-B3DC-D18DDF50D1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Transform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9480" y="1066680"/>
            <a:ext cx="822960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Transformation</a:t>
            </a:r>
            <a:r>
              <a:rPr b="1" i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Major_Flow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Input: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the architecture graph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G(V,E)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and the set of target recordsets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Output: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a sub graph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G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’(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’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E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’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)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containing information for the major flow of data from sources to targets.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Begin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Let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1" lang="el-G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Ω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be the set of attributes of all the recordsets of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;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’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1" lang="el-G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Ω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;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do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{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0" lang="el-GR" sz="1800" spc="-1" strike="noStrike">
                <a:solidFill>
                  <a:srgbClr val="00172e"/>
                </a:solidFill>
                <a:latin typeface="Symbol"/>
                <a:ea typeface="Symbol"/>
              </a:rPr>
              <a:t>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a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e(a,t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{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t};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e} }; 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a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e(a,t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o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{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t};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e} }; 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a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e(t,a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o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{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t};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e} }; 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a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e(a,t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r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{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t};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e} }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’</a:t>
            </a:r>
            <a:r>
              <a:rPr b="0" lang="de-DE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de-DE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’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1" lang="de-DE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de-DE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} </a:t>
            </a:r>
            <a:r>
              <a:rPr b="1" lang="fr-FR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while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GB" sz="1800" spc="-1" strike="noStrike">
                <a:solidFill>
                  <a:srgbClr val="00172e"/>
                </a:solidFill>
                <a:latin typeface="Symbol"/>
                <a:ea typeface="Symbol"/>
              </a:rPr>
              <a:t></a:t>
            </a:r>
            <a:r>
              <a:rPr b="0" lang="el-GR" sz="1800" spc="-1" strike="noStrike">
                <a:solidFill>
                  <a:srgbClr val="00172e"/>
                </a:solidFill>
                <a:latin typeface="Symbol"/>
                <a:ea typeface="Symbol"/>
              </a:rPr>
              <a:t>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End</a:t>
            </a:r>
            <a:r>
              <a:rPr b="0" lang="en-GB" sz="1800" spc="-1" strike="noStrike">
                <a:solidFill>
                  <a:srgbClr val="00172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1683-9087-4BDE-8EBF-0217770A6D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emplate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587600" y="1227240"/>
            <a:ext cx="4381560" cy="1058760"/>
          </a:xfrm>
          <a:prstGeom prst="parallelogram">
            <a:avLst>
              <a:gd name="adj" fmla="val 532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90880" y="1400040"/>
            <a:ext cx="157464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Elementary Activity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295280" y="2819520"/>
            <a:ext cx="4381560" cy="1073160"/>
          </a:xfrm>
          <a:prstGeom prst="parallelogram">
            <a:avLst>
              <a:gd name="adj" fmla="val 5254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917720" y="2971800"/>
            <a:ext cx="82548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Not Null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793960" y="2959200"/>
            <a:ext cx="11430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038480" y="2992320"/>
            <a:ext cx="125748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Aggregate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914400" y="4572000"/>
            <a:ext cx="4724280" cy="1371600"/>
          </a:xfrm>
          <a:prstGeom prst="parallelogram">
            <a:avLst>
              <a:gd name="adj" fmla="val 443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209680" y="5029200"/>
            <a:ext cx="1016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myNot Null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352680" y="518148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mySelection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57200" y="1446120"/>
            <a:ext cx="14479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model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layer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" y="3111480"/>
            <a:ext cx="12319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layer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57200" y="4483080"/>
            <a:ext cx="1079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Custom Layer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842080" y="1447920"/>
            <a:ext cx="2539800" cy="1981080"/>
          </a:xfrm>
          <a:prstGeom prst="parallelogram">
            <a:avLst>
              <a:gd name="adj" fmla="val 47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553080" y="22860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RecordSet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257800" y="4267080"/>
            <a:ext cx="2743200" cy="1981440"/>
          </a:xfrm>
          <a:prstGeom prst="parallelogram">
            <a:avLst>
              <a:gd name="adj" fmla="val 4719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248520" y="44197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Supplier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943600" y="50292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LineItem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638680" y="5638680"/>
            <a:ext cx="12067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PartSupp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3657600" y="3962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81280" y="2286000"/>
            <a:ext cx="317520" cy="431640"/>
          </a:xfrm>
          <a:prstGeom prst="upArrow">
            <a:avLst>
              <a:gd name="adj1" fmla="val 50000"/>
              <a:gd name="adj2" fmla="val 511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048120" y="2362320"/>
            <a:ext cx="6220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Courier New"/>
              </a:rPr>
              <a:t>ISA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149640" y="4038480"/>
            <a:ext cx="50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8300000">
            <a:off x="5817240" y="1556280"/>
            <a:ext cx="317520" cy="1014480"/>
          </a:xfrm>
          <a:prstGeom prst="upArrow">
            <a:avLst>
              <a:gd name="adj1" fmla="val 50000"/>
              <a:gd name="adj2" fmla="val 1201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rot="14700000">
            <a:off x="5775120" y="2530080"/>
            <a:ext cx="345960" cy="771480"/>
          </a:xfrm>
          <a:prstGeom prst="upArrow">
            <a:avLst>
              <a:gd name="adj1" fmla="val 50000"/>
              <a:gd name="adj2" fmla="val 83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rot="16200000">
            <a:off x="5283000" y="5003280"/>
            <a:ext cx="431640" cy="635040"/>
          </a:xfrm>
          <a:prstGeom prst="upArrow">
            <a:avLst>
              <a:gd name="adj1" fmla="val 50000"/>
              <a:gd name="adj2" fmla="val 553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98560" y="5684760"/>
            <a:ext cx="1206360" cy="258840"/>
          </a:xfrm>
          <a:prstGeom prst="parallelogram">
            <a:avLst>
              <a:gd name="adj" fmla="val 496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myScenario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2594-79A5-491A-98DE-57FBCE2E4A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1" name=""/>
          <p:cNvGraphicFramePr/>
          <p:nvPr/>
        </p:nvGraphicFramePr>
        <p:xfrm>
          <a:off x="3429000" y="228600"/>
          <a:ext cx="467352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28600"/>
                    <a:ext cx="467352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ceptual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de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26E6-9CBC-459E-BED0-A793411AEE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Model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e Metrics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9F8B-1F92-434A-A09A-4D2BD44FED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tract-Transform-Load (ETL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62120" y="1904760"/>
            <a:ext cx="7696080" cy="4038480"/>
            <a:chOff x="762120" y="1904760"/>
            <a:chExt cx="7696080" cy="4038480"/>
          </a:xfrm>
        </p:grpSpPr>
        <p:sp>
          <p:nvSpPr>
            <p:cNvPr id="136" name=""/>
            <p:cNvSpPr/>
            <p:nvPr/>
          </p:nvSpPr>
          <p:spPr>
            <a:xfrm>
              <a:off x="762120" y="4651200"/>
              <a:ext cx="7696080" cy="1292040"/>
            </a:xfrm>
            <a:prstGeom prst="parallelogram">
              <a:avLst>
                <a:gd name="adj" fmla="val 6293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4640" y="553968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67520" y="513576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20040" y="545904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01120" y="4731840"/>
              <a:ext cx="452520" cy="32292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025440" y="4650840"/>
              <a:ext cx="633600" cy="12920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44360" y="4974480"/>
              <a:ext cx="452520" cy="32292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9400" y="537840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64800" y="529740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11920" y="4731840"/>
              <a:ext cx="452520" cy="32292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108040" y="4650840"/>
              <a:ext cx="633600" cy="12920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32720" y="5055120"/>
              <a:ext cx="814680" cy="4845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00280" y="513576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66320" y="553968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47400" y="473184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194160" y="3035880"/>
              <a:ext cx="814680" cy="2019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009560" y="2147400"/>
              <a:ext cx="633600" cy="2584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111920" y="3186360"/>
              <a:ext cx="2384280" cy="2191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564800" y="3186360"/>
              <a:ext cx="1629720" cy="1545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032800" y="3186000"/>
              <a:ext cx="1765440" cy="2202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836240" y="3186360"/>
              <a:ext cx="452520" cy="2040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53560" y="3186360"/>
              <a:ext cx="377280" cy="2197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383360" y="3186360"/>
              <a:ext cx="528120" cy="1556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1305000" y="3197160"/>
              <a:ext cx="181080" cy="23421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1638000" y="3186360"/>
              <a:ext cx="300960" cy="19490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1893960" y="3186360"/>
              <a:ext cx="588240" cy="2272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328840" y="3186360"/>
              <a:ext cx="243720" cy="1545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2798640" y="3186360"/>
              <a:ext cx="325800" cy="1879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1905120"/>
              <a:ext cx="7696080" cy="1292040"/>
            </a:xfrm>
            <a:prstGeom prst="parallelogram">
              <a:avLst>
                <a:gd name="adj" fmla="val 6293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35080" y="1904760"/>
              <a:ext cx="633600" cy="12920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832720" y="1904760"/>
              <a:ext cx="633600" cy="12920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24280" y="2955240"/>
              <a:ext cx="362160" cy="161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67520" y="2793600"/>
              <a:ext cx="362160" cy="161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95720" y="2551320"/>
              <a:ext cx="362160" cy="161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48600" y="2389680"/>
              <a:ext cx="362160" cy="161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91840" y="2228040"/>
              <a:ext cx="362160" cy="161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97240" y="2793600"/>
              <a:ext cx="362160" cy="161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68680" y="2389680"/>
              <a:ext cx="362160" cy="161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40480" y="2066760"/>
              <a:ext cx="362160" cy="161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93360" y="2793600"/>
              <a:ext cx="361800" cy="161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64800" y="2389680"/>
              <a:ext cx="362160" cy="161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17680" y="2066760"/>
              <a:ext cx="362160" cy="161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98760" y="2874240"/>
              <a:ext cx="362160" cy="161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28480" y="2874240"/>
              <a:ext cx="362160" cy="16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2440" y="1985760"/>
              <a:ext cx="361800" cy="161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844360" y="2147400"/>
              <a:ext cx="905400" cy="16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20040" y="2228040"/>
              <a:ext cx="1539000" cy="64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1120" y="2470320"/>
              <a:ext cx="117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486440" y="2873880"/>
              <a:ext cx="172008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48600" y="2631960"/>
              <a:ext cx="1357920" cy="16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31200" y="2470320"/>
              <a:ext cx="36216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31200" y="2470320"/>
              <a:ext cx="63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2640" y="2147400"/>
              <a:ext cx="72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45880" y="2874240"/>
              <a:ext cx="45252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6960" y="2470320"/>
              <a:ext cx="27144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91120" y="570060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94320" y="570060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SA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9640" y="57006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W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3640" y="1905120"/>
              <a:ext cx="5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tract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8400" y="1905120"/>
              <a:ext cx="834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ansform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amp; Clean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80080" y="1905120"/>
              <a:ext cx="39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oad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9186D-139E-45A1-9055-0CD51F758B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8080" y="1447920"/>
            <a:ext cx="8001000" cy="266688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172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4419720"/>
            <a:ext cx="3809880" cy="190476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172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419720"/>
            <a:ext cx="990720" cy="190476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172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4104000" y="1807200"/>
            <a:ext cx="527040" cy="68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5400" y="2120760"/>
            <a:ext cx="681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73600" y="1700280"/>
            <a:ext cx="9856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UPPKEY=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202" idx="2"/>
            <a:endCxn id="200" idx="1"/>
          </p:cNvCxnSpPr>
          <p:nvPr/>
        </p:nvCxnSpPr>
        <p:spPr>
          <a:xfrm flipH="1">
            <a:off x="4365360" y="1790640"/>
            <a:ext cx="216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 rot="5400000">
            <a:off x="5014800" y="1808280"/>
            <a:ext cx="52704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37040" y="2112840"/>
            <a:ext cx="45252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84760" y="1523880"/>
            <a:ext cx="985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6" idx="2"/>
            <a:endCxn id="204" idx="1"/>
          </p:cNvCxnSpPr>
          <p:nvPr/>
        </p:nvCxnSpPr>
        <p:spPr>
          <a:xfrm>
            <a:off x="5277960" y="1821960"/>
            <a:ext cx="108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 rot="5400000">
            <a:off x="6000840" y="1808280"/>
            <a:ext cx="52704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23080" y="2112840"/>
            <a:ext cx="455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2€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0440" y="1708200"/>
            <a:ext cx="9874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10" idx="2"/>
            <a:endCxn id="208" idx="1"/>
          </p:cNvCxnSpPr>
          <p:nvPr/>
        </p:nvCxnSpPr>
        <p:spPr>
          <a:xfrm>
            <a:off x="6264000" y="179820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 rot="5400000">
            <a:off x="6986520" y="1808280"/>
            <a:ext cx="52704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61160" y="1708200"/>
            <a:ext cx="9856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ATE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2" idx="1"/>
          </p:cNvCxnSpPr>
          <p:nvPr/>
        </p:nvCxnSpPr>
        <p:spPr>
          <a:xfrm flipH="1">
            <a:off x="7251480" y="1798200"/>
            <a:ext cx="360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967120" y="3176640"/>
            <a:ext cx="758880" cy="5284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4106880" y="3098880"/>
            <a:ext cx="528480" cy="684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83040" y="3403440"/>
            <a:ext cx="682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78280" y="3000240"/>
            <a:ext cx="9856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UPPKEY=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2"/>
            <a:endCxn id="216" idx="1"/>
          </p:cNvCxnSpPr>
          <p:nvPr/>
        </p:nvCxnSpPr>
        <p:spPr>
          <a:xfrm flipH="1">
            <a:off x="4368600" y="3090600"/>
            <a:ext cx="36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 rot="5400000">
            <a:off x="5016600" y="3100320"/>
            <a:ext cx="528480" cy="681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38840" y="3403440"/>
            <a:ext cx="45396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99160" y="2854440"/>
            <a:ext cx="9856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2" idx="2"/>
            <a:endCxn id="220" idx="1"/>
          </p:cNvCxnSpPr>
          <p:nvPr/>
        </p:nvCxnSpPr>
        <p:spPr>
          <a:xfrm flipH="1">
            <a:off x="5280840" y="3170160"/>
            <a:ext cx="1188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 rot="5400000">
            <a:off x="6002640" y="3099240"/>
            <a:ext cx="528480" cy="682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73680" y="3000240"/>
            <a:ext cx="9874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2"/>
            <a:endCxn id="224" idx="1"/>
          </p:cNvCxnSpPr>
          <p:nvPr/>
        </p:nvCxnSpPr>
        <p:spPr>
          <a:xfrm>
            <a:off x="6267240" y="309096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 rot="5400000">
            <a:off x="6989040" y="3099600"/>
            <a:ext cx="52848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86640" y="3000240"/>
            <a:ext cx="11365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ATE=SYSDATE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2"/>
            <a:endCxn id="227" idx="1"/>
          </p:cNvCxnSpPr>
          <p:nvPr/>
        </p:nvCxnSpPr>
        <p:spPr>
          <a:xfrm flipH="1">
            <a:off x="7254000" y="3090960"/>
            <a:ext cx="2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6912000" y="3402000"/>
            <a:ext cx="60804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ddDate 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7964640" y="3100320"/>
            <a:ext cx="528480" cy="681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53400" y="3403440"/>
            <a:ext cx="681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heckQTY 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70880" y="3000240"/>
            <a:ext cx="11113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QTY&gt;0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2"/>
            <a:endCxn id="231" idx="1"/>
          </p:cNvCxnSpPr>
          <p:nvPr/>
        </p:nvCxnSpPr>
        <p:spPr>
          <a:xfrm>
            <a:off x="8226000" y="3090960"/>
            <a:ext cx="39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 rot="5400000">
            <a:off x="8228520" y="1931040"/>
            <a:ext cx="52884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151840" y="2243160"/>
            <a:ext cx="453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U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00" idx="0"/>
            <a:endCxn id="204" idx="3"/>
          </p:cNvCxnSpPr>
          <p:nvPr/>
        </p:nvCxnSpPr>
        <p:spPr>
          <a:xfrm>
            <a:off x="4706640" y="2147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04" idx="0"/>
            <a:endCxn id="208" idx="3"/>
          </p:cNvCxnSpPr>
          <p:nvPr/>
        </p:nvCxnSpPr>
        <p:spPr>
          <a:xfrm>
            <a:off x="5616720" y="214740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08" idx="0"/>
            <a:endCxn id="212" idx="3"/>
          </p:cNvCxnSpPr>
          <p:nvPr/>
        </p:nvCxnSpPr>
        <p:spPr>
          <a:xfrm>
            <a:off x="6603480" y="2147400"/>
            <a:ext cx="304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16" idx="0"/>
            <a:endCxn id="220" idx="3"/>
          </p:cNvCxnSpPr>
          <p:nvPr/>
        </p:nvCxnSpPr>
        <p:spPr>
          <a:xfrm>
            <a:off x="4709880" y="34398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20" idx="0"/>
            <a:endCxn id="224" idx="3"/>
          </p:cNvCxnSpPr>
          <p:nvPr/>
        </p:nvCxnSpPr>
        <p:spPr>
          <a:xfrm>
            <a:off x="5619240" y="34398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24" idx="0"/>
            <a:endCxn id="227" idx="3"/>
          </p:cNvCxnSpPr>
          <p:nvPr/>
        </p:nvCxnSpPr>
        <p:spPr>
          <a:xfrm>
            <a:off x="6606720" y="3439800"/>
            <a:ext cx="304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7" idx="0"/>
            <a:endCxn id="231" idx="3"/>
          </p:cNvCxnSpPr>
          <p:nvPr/>
        </p:nvCxnSpPr>
        <p:spPr>
          <a:xfrm>
            <a:off x="7593120" y="3439800"/>
            <a:ext cx="29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15" idx="4"/>
            <a:endCxn id="216" idx="3"/>
          </p:cNvCxnSpPr>
          <p:nvPr/>
        </p:nvCxnSpPr>
        <p:spPr>
          <a:xfrm>
            <a:off x="3735360" y="344124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2963880" y="1886040"/>
            <a:ext cx="758880" cy="5270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86440" y="2473200"/>
            <a:ext cx="380880" cy="292320"/>
          </a:xfrm>
          <a:prstGeom prst="flowChartMultidocumen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4"/>
            <a:endCxn id="200" idx="3"/>
          </p:cNvCxnSpPr>
          <p:nvPr/>
        </p:nvCxnSpPr>
        <p:spPr>
          <a:xfrm>
            <a:off x="3732120" y="2149200"/>
            <a:ext cx="29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5086440" y="2577960"/>
            <a:ext cx="68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38720" y="2319480"/>
            <a:ext cx="68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92560" y="3763800"/>
            <a:ext cx="379440" cy="292320"/>
          </a:xfrm>
          <a:prstGeom prst="flowChartMultidocumen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38720" y="2295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92560" y="3868560"/>
            <a:ext cx="679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5200" y="3610080"/>
            <a:ext cx="68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43400" y="3587760"/>
            <a:ext cx="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10560" y="2111400"/>
            <a:ext cx="68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2EDate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78600" y="3763800"/>
            <a:ext cx="379440" cy="292320"/>
          </a:xfrm>
          <a:prstGeom prst="flowChartMultidocumen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84920" y="3402000"/>
            <a:ext cx="68112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NotNULL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78600" y="3868560"/>
            <a:ext cx="68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29440" y="3610080"/>
            <a:ext cx="68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73920" y="2473200"/>
            <a:ext cx="379440" cy="292320"/>
          </a:xfrm>
          <a:prstGeom prst="flowChartMultidocumen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29440" y="3587760"/>
            <a:ext cx="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72120" y="2577960"/>
            <a:ext cx="68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26200" y="2319480"/>
            <a:ext cx="684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59600" y="2473200"/>
            <a:ext cx="379440" cy="292320"/>
          </a:xfrm>
          <a:prstGeom prst="flowChartMultidocumen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26200" y="2295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61040" y="2577960"/>
            <a:ext cx="68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11880" y="2319480"/>
            <a:ext cx="68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118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2111040" y="1803240"/>
            <a:ext cx="53028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35080" y="2108160"/>
            <a:ext cx="5382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68320" y="1587600"/>
            <a:ext cx="1212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1" idx="2"/>
            <a:endCxn id="269" idx="1"/>
          </p:cNvCxnSpPr>
          <p:nvPr/>
        </p:nvCxnSpPr>
        <p:spPr>
          <a:xfrm>
            <a:off x="2374920" y="1763640"/>
            <a:ext cx="216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896760" y="1587600"/>
            <a:ext cx="758880" cy="5270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4"/>
            <a:endCxn id="269" idx="3"/>
          </p:cNvCxnSpPr>
          <p:nvPr/>
        </p:nvCxnSpPr>
        <p:spPr>
          <a:xfrm>
            <a:off x="1665000" y="1850760"/>
            <a:ext cx="36900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896760" y="2174760"/>
            <a:ext cx="758880" cy="5270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7" idx="0"/>
            <a:endCxn id="273" idx="2"/>
          </p:cNvCxnSpPr>
          <p:nvPr/>
        </p:nvCxnSpPr>
        <p:spPr>
          <a:xfrm flipH="1" flipV="1">
            <a:off x="887040" y="1850760"/>
            <a:ext cx="1542240" cy="2975760"/>
          </a:xfrm>
          <a:prstGeom prst="bentConnector5">
            <a:avLst>
              <a:gd name="adj1" fmla="val -10179"/>
              <a:gd name="adj2" fmla="val 15886"/>
              <a:gd name="adj3" fmla="val 1173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4"/>
            <a:endCxn id="269" idx="3"/>
          </p:cNvCxnSpPr>
          <p:nvPr/>
        </p:nvCxnSpPr>
        <p:spPr>
          <a:xfrm flipV="1">
            <a:off x="1665000" y="2143080"/>
            <a:ext cx="36900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5442120" y="4538520"/>
            <a:ext cx="758520" cy="5270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W.PARTSUPP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703640" y="4464000"/>
            <a:ext cx="528840" cy="68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51720" y="4768920"/>
            <a:ext cx="7891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73960" y="4311720"/>
            <a:ext cx="9856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KEY, DAY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MIN(COST)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2" idx="2"/>
            <a:endCxn id="280" idx="1"/>
          </p:cNvCxnSpPr>
          <p:nvPr/>
        </p:nvCxnSpPr>
        <p:spPr>
          <a:xfrm flipH="1">
            <a:off x="7965720" y="4487760"/>
            <a:ext cx="216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 rot="5400000">
            <a:off x="7703640" y="5411520"/>
            <a:ext cx="528480" cy="68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51720" y="5718240"/>
            <a:ext cx="7891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73960" y="5195880"/>
            <a:ext cx="985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KEY, MONTH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VG(COST)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6" idx="2"/>
            <a:endCxn id="284" idx="1"/>
          </p:cNvCxnSpPr>
          <p:nvPr/>
        </p:nvCxnSpPr>
        <p:spPr>
          <a:xfrm flipH="1">
            <a:off x="7965720" y="5372280"/>
            <a:ext cx="216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9" idx="4"/>
            <a:endCxn id="280" idx="3"/>
          </p:cNvCxnSpPr>
          <p:nvPr/>
        </p:nvCxnSpPr>
        <p:spPr>
          <a:xfrm>
            <a:off x="6210360" y="4802040"/>
            <a:ext cx="14184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8612280" y="5549760"/>
            <a:ext cx="379440" cy="4096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V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4" idx="0"/>
            <a:endCxn id="289" idx="2"/>
          </p:cNvCxnSpPr>
          <p:nvPr/>
        </p:nvCxnSpPr>
        <p:spPr>
          <a:xfrm>
            <a:off x="8311680" y="575424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8612280" y="4600440"/>
            <a:ext cx="379440" cy="41112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80" idx="0"/>
            <a:endCxn id="291" idx="2"/>
          </p:cNvCxnSpPr>
          <p:nvPr/>
        </p:nvCxnSpPr>
        <p:spPr>
          <a:xfrm>
            <a:off x="8311680" y="480672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>
            <a:off x="5435640" y="5484960"/>
            <a:ext cx="758880" cy="5284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6731280" y="5412240"/>
            <a:ext cx="527040" cy="68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54960" y="5718240"/>
            <a:ext cx="455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Wingdings 3"/>
                <a:ea typeface="Wingdings 3"/>
              </a:rPr>
              <a:t>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6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37160" y="5256360"/>
            <a:ext cx="11113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W.PARTSUPP.DATE,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AY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96" idx="2"/>
            <a:endCxn id="294" idx="1"/>
          </p:cNvCxnSpPr>
          <p:nvPr/>
        </p:nvCxnSpPr>
        <p:spPr>
          <a:xfrm>
            <a:off x="6994080" y="543060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79" idx="4"/>
            <a:endCxn id="294" idx="3"/>
          </p:cNvCxnSpPr>
          <p:nvPr/>
        </p:nvCxnSpPr>
        <p:spPr>
          <a:xfrm>
            <a:off x="6210360" y="4802040"/>
            <a:ext cx="44352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4"/>
            <a:endCxn id="294" idx="3"/>
          </p:cNvCxnSpPr>
          <p:nvPr/>
        </p:nvCxnSpPr>
        <p:spPr>
          <a:xfrm>
            <a:off x="6203880" y="5749560"/>
            <a:ext cx="4500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4" idx="0"/>
            <a:endCxn id="284" idx="3"/>
          </p:cNvCxnSpPr>
          <p:nvPr/>
        </p:nvCxnSpPr>
        <p:spPr>
          <a:xfrm>
            <a:off x="7335360" y="5752800"/>
            <a:ext cx="291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 rot="5400000">
            <a:off x="1825560" y="4486320"/>
            <a:ext cx="52704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47800" y="4791240"/>
            <a:ext cx="45720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4564080"/>
            <a:ext cx="758880" cy="5270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2" idx="4"/>
            <a:endCxn id="277" idx="3"/>
          </p:cNvCxnSpPr>
          <p:nvPr/>
        </p:nvCxnSpPr>
        <p:spPr>
          <a:xfrm flipV="1">
            <a:off x="1454040" y="4825800"/>
            <a:ext cx="293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85800" y="5492880"/>
            <a:ext cx="758880" cy="5270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1825560" y="5415120"/>
            <a:ext cx="52704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47800" y="5719680"/>
            <a:ext cx="45720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4" idx="4"/>
            <a:endCxn id="305" idx="3"/>
          </p:cNvCxnSpPr>
          <p:nvPr/>
        </p:nvCxnSpPr>
        <p:spPr>
          <a:xfrm flipV="1">
            <a:off x="1454040" y="5753880"/>
            <a:ext cx="293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896760" y="2887560"/>
            <a:ext cx="758880" cy="5288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2111760" y="3104280"/>
            <a:ext cx="52884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35080" y="3409920"/>
            <a:ext cx="5382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08" idx="4"/>
            <a:endCxn id="309" idx="3"/>
          </p:cNvCxnSpPr>
          <p:nvPr/>
        </p:nvCxnSpPr>
        <p:spPr>
          <a:xfrm>
            <a:off x="1665000" y="3152520"/>
            <a:ext cx="37044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896760" y="3475080"/>
            <a:ext cx="758880" cy="5284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05" idx="0"/>
            <a:endCxn id="308" idx="2"/>
          </p:cNvCxnSpPr>
          <p:nvPr/>
        </p:nvCxnSpPr>
        <p:spPr>
          <a:xfrm flipH="1" flipV="1">
            <a:off x="887040" y="3152160"/>
            <a:ext cx="1542240" cy="2602440"/>
          </a:xfrm>
          <a:prstGeom prst="bentConnector5">
            <a:avLst>
              <a:gd name="adj1" fmla="val -22344"/>
              <a:gd name="adj2" fmla="val 59477"/>
              <a:gd name="adj3" fmla="val 1077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12" idx="4"/>
            <a:endCxn id="309" idx="3"/>
          </p:cNvCxnSpPr>
          <p:nvPr/>
        </p:nvCxnSpPr>
        <p:spPr>
          <a:xfrm flipV="1">
            <a:off x="1665000" y="3444840"/>
            <a:ext cx="3704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1768320" y="2887560"/>
            <a:ext cx="1212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5" idx="2"/>
            <a:endCxn id="309" idx="1"/>
          </p:cNvCxnSpPr>
          <p:nvPr/>
        </p:nvCxnSpPr>
        <p:spPr>
          <a:xfrm>
            <a:off x="2374560" y="3063600"/>
            <a:ext cx="540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9" idx="0"/>
            <a:endCxn id="215" idx="2"/>
          </p:cNvCxnSpPr>
          <p:nvPr/>
        </p:nvCxnSpPr>
        <p:spPr>
          <a:xfrm flipV="1">
            <a:off x="2717640" y="3440880"/>
            <a:ext cx="240480" cy="3960"/>
          </a:xfrm>
          <a:prstGeom prst="bentConnector3">
            <a:avLst>
              <a:gd name="adj1" fmla="val 515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269" idx="0"/>
            <a:endCxn id="245" idx="2"/>
          </p:cNvCxnSpPr>
          <p:nvPr/>
        </p:nvCxnSpPr>
        <p:spPr>
          <a:xfrm>
            <a:off x="2715840" y="2143080"/>
            <a:ext cx="238680" cy="7200"/>
          </a:xfrm>
          <a:prstGeom prst="bentConnector3">
            <a:avLst>
              <a:gd name="adj1" fmla="val 51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212" idx="0"/>
            <a:endCxn id="235" idx="3"/>
          </p:cNvCxnSpPr>
          <p:nvPr/>
        </p:nvCxnSpPr>
        <p:spPr>
          <a:xfrm>
            <a:off x="7589520" y="2147760"/>
            <a:ext cx="56268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231" idx="0"/>
            <a:endCxn id="236" idx="1"/>
          </p:cNvCxnSpPr>
          <p:nvPr/>
        </p:nvCxnSpPr>
        <p:spPr>
          <a:xfrm flipH="1" flipV="1">
            <a:off x="8151480" y="2304360"/>
            <a:ext cx="419760" cy="1137240"/>
          </a:xfrm>
          <a:prstGeom prst="bentConnector5">
            <a:avLst>
              <a:gd name="adj1" fmla="val -54163"/>
              <a:gd name="adj2" fmla="val 59056"/>
              <a:gd name="adj3" fmla="val 1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235" idx="0"/>
            <a:endCxn id="279" idx="2"/>
          </p:cNvCxnSpPr>
          <p:nvPr/>
        </p:nvCxnSpPr>
        <p:spPr>
          <a:xfrm flipH="1">
            <a:off x="5432040" y="2271240"/>
            <a:ext cx="3402720" cy="2531160"/>
          </a:xfrm>
          <a:prstGeom prst="bentConnector5">
            <a:avLst>
              <a:gd name="adj1" fmla="val -6708"/>
              <a:gd name="adj2" fmla="val 78662"/>
              <a:gd name="adj3" fmla="val 1167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6520" y="609588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Sources</a:t>
            </a:r>
            <a:endParaRPr b="0" lang="en-US" sz="1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31040" y="609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DW</a:t>
            </a:r>
            <a:endParaRPr b="0" lang="en-US" sz="1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77560" y="38862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DSA</a:t>
            </a:r>
            <a:endParaRPr b="0" lang="en-US" sz="1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B0B8-C379-4C10-B529-816130A15D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art of the scenario is affected if we delete an attribu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attributes/tables are involved in the population of attribu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W.PARTSUPP.SUPP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“good” is my design of the ETL scena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F34A9-0E3F-4C27-A4ED-3EC7B6CF36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raph Model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e Metrics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A3CA-96CA-4DC0-AD71-7BE2AB3AB2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upport the needs of the designer and the administrator, we model each ETL scenario as a graph, which we call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rchitectur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take advantage of the data-centric, script-based nature of ETL activities to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odel their internals as graph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ive simple visual representations for reasons of intu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Modeling of ETL Scenarios</a:t>
            </a:r>
            <a:endParaRPr b="0" lang="en-US" sz="4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20F51-0772-42E3-84C3-941CC7345D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limina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Data types</a:t>
            </a:r>
            <a:r>
              <a:rPr b="1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Constants</a:t>
            </a:r>
            <a:r>
              <a:rPr b="1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Attributes</a:t>
            </a:r>
            <a:r>
              <a:rPr b="1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Record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Function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95760" y="3886200"/>
            <a:ext cx="1066680" cy="5572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4610160"/>
            <a:ext cx="1143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$2€</a:t>
            </a: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67120" y="2286000"/>
            <a:ext cx="53352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2819520"/>
            <a:ext cx="1105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KEY</a:t>
            </a:r>
            <a:endParaRPr b="0" lang="en-US" sz="20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5257800"/>
            <a:ext cx="11430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72e"/>
                </a:solidFill>
                <a:latin typeface="Courier New"/>
              </a:rPr>
              <a:t>my$2€</a:t>
            </a: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543480" y="1676520"/>
            <a:ext cx="1180800" cy="533160"/>
            <a:chOff x="3543480" y="1676520"/>
            <a:chExt cx="1180800" cy="533160"/>
          </a:xfrm>
        </p:grpSpPr>
        <p:sp>
          <p:nvSpPr>
            <p:cNvPr id="340" name=""/>
            <p:cNvSpPr/>
            <p:nvPr/>
          </p:nvSpPr>
          <p:spPr>
            <a:xfrm>
              <a:off x="3543480" y="1676520"/>
              <a:ext cx="1180800" cy="53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38520" y="1736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teger</a:t>
              </a:r>
              <a:endParaRPr b="0" lang="en-US" sz="20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209F0-9693-4216-8481-561EDF4800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02:50Z</dcterms:created>
  <dc:creator>asimi</dc:creator>
  <dc:description>asimi@dblab.ntua.gr</dc:description>
  <dc:language>en-US</dc:language>
  <cp:lastModifiedBy>PV</cp:lastModifiedBy>
  <dcterms:modified xsi:type="dcterms:W3CDTF">2002-05-27T22:03:06Z</dcterms:modified>
  <cp:revision>74</cp:revision>
  <dc:subject/>
  <dc:title>Modeling ETL Activities as Graphs </dc:title>
</cp:coreProperties>
</file>