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40F3-21AB-4A67-BB04-A01DF24ED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CB56-002E-4A53-836D-F2F1EAAA8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B005A-C80F-4EFD-B3E5-FB0920356F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F9C2-A766-41A9-B24A-E058568973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B8A80-DA7D-4DB0-8BDB-DC1F8F1CD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2808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72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2808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72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7AFF-4C1E-4669-B29B-9EB0D3A8B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A10FF-228A-482F-A094-910FB152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DD17C-C413-499B-9F86-A7E2A0B5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496F73-BE14-49D3-9FA3-58158AAC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08B11-7F9A-4932-84D6-2A865EB9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5C9FA-8896-49FA-8E8C-1D4F424E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02BA3-EEE0-406A-94CA-39D486C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6F189-DAFF-44B5-9DCA-8846914A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F60D-2ECB-4F9C-A001-45B94626A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6BDEC-04DE-4677-8CFC-F98F06BB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0A119-FFFE-4F42-A430-5C9F0EF2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680FBF-F880-4431-A7DE-287F0137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905B4-AF58-40BE-BEF1-EE3692C4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2808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27200" y="152388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2808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227200" y="3912120"/>
            <a:ext cx="2379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9DC84-0FFD-411B-9A93-FE1C895C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9F35-1D7C-4B4C-BBD2-E1C3650DA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3DC58-8DC8-4D39-8BB3-77EFC4C7A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DC4B1-05F2-43E1-8266-857EE9738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20FB-C7AF-4CB7-9D2A-C2B9676C5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3567-D1CC-4265-978C-74530F81B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16160" y="391212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DFEE4-A828-4BE1-8F0D-F7D698520F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16160" y="1523880"/>
            <a:ext cx="360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73915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8836-EB2E-4542-B77B-E51C964BE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8240" y="624852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0D9B-1FC9-49F6-86A5-D2DB10F7C4AC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venus" descr=""/>
          <p:cNvPicPr/>
          <p:nvPr/>
        </p:nvPicPr>
        <p:blipFill>
          <a:blip r:embed="rId2">
            <a:lum bright="34000"/>
          </a:blip>
          <a:srcRect l="22892" t="0" r="6147" b="0"/>
          <a:stretch/>
        </p:blipFill>
        <p:spPr>
          <a:xfrm>
            <a:off x="7318440" y="0"/>
            <a:ext cx="18986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C594-70AD-4F7C-96F6-364C49FA3663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venus" descr=""/>
          <p:cNvPicPr/>
          <p:nvPr/>
        </p:nvPicPr>
        <p:blipFill>
          <a:blip r:embed="rId2">
            <a:lum bright="34000"/>
          </a:blip>
          <a:srcRect l="22892" t="0" r="6147" b="0"/>
          <a:stretch/>
        </p:blipFill>
        <p:spPr>
          <a:xfrm>
            <a:off x="7245360" y="0"/>
            <a:ext cx="1898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5105520"/>
            <a:ext cx="6477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Knowledge and Database Systems Laboratory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ational Technical University of Athens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ovember 2001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4440" y="5334120"/>
            <a:ext cx="780840" cy="7808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080" y="990360"/>
            <a:ext cx="7124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ality-Oriented Optimization of the Design of the Global Data Warehouse</a:t>
            </a:r>
            <a:br>
              <a:rPr sz="4400"/>
            </a:b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2d2525"/>
                </a:solidFill>
                <a:latin typeface="Times New Roman"/>
              </a:rPr>
              <a:t>P. Vassiliadi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, S. Ligoudistianos,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. Sellis, D. Theodorato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hness - Defini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 </a:t>
            </a:r>
            <a:r>
              <a:rPr b="1" i="1" lang="en-US" sz="3200" spc="-1" strike="noStrike">
                <a:solidFill>
                  <a:srgbClr val="2d2525"/>
                </a:solidFill>
                <a:latin typeface="Courier New"/>
                <a:ea typeface="Courier New"/>
              </a:rPr>
              <a:t>= max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144792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28800" y="2057400"/>
            <a:ext cx="7315200" cy="1574640"/>
            <a:chOff x="1828800" y="2057400"/>
            <a:chExt cx="7315200" cy="1574640"/>
          </a:xfrm>
        </p:grpSpPr>
        <p:sp>
          <p:nvSpPr>
            <p:cNvPr id="171" name=""/>
            <p:cNvSpPr/>
            <p:nvPr/>
          </p:nvSpPr>
          <p:spPr>
            <a:xfrm>
              <a:off x="1828800" y="2286000"/>
              <a:ext cx="380880" cy="129528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057400" y="2057400"/>
              <a:ext cx="7086600" cy="1219320"/>
              <a:chOff x="2057400" y="2057400"/>
              <a:chExt cx="7086600" cy="1219320"/>
            </a:xfrm>
          </p:grpSpPr>
          <p:sp>
            <p:nvSpPr>
              <p:cNvPr id="173" name=""/>
              <p:cNvSpPr/>
              <p:nvPr/>
            </p:nvSpPr>
            <p:spPr>
              <a:xfrm>
                <a:off x="2057400" y="2057400"/>
                <a:ext cx="7086600" cy="1219320"/>
              </a:xfrm>
              <a:prstGeom prst="rect">
                <a:avLst/>
              </a:prstGeom>
              <a:solidFill>
                <a:srgbClr val="a7b4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2525"/>
                    </a:solidFill>
                    <a:latin typeface="Courier New"/>
                  </a:rPr>
                  <a:t>max delay – interval from last update</a:t>
                </a:r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2d2525"/>
                    </a:solidFill>
                    <a:latin typeface="Courier New"/>
                  </a:rPr>
                  <a:t>max delay</a:t>
                </a:r>
                <a:r>
                  <a:rPr b="1" lang="en-US" sz="1800" spc="-1" strike="noStrike">
                    <a:solidFill>
                      <a:srgbClr val="2d2525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157480" y="2538360"/>
                <a:ext cx="6986520" cy="1800"/>
              </a:xfrm>
              <a:prstGeom prst="line">
                <a:avLst/>
              </a:prstGeom>
              <a:ln w="9360">
                <a:solidFill>
                  <a:srgbClr val="2d25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2d2525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057400" y="3111480"/>
              <a:ext cx="5181480" cy="52056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2d2525"/>
                  </a:solidFill>
                  <a:latin typeface="Courier New"/>
                </a:rPr>
                <a:t>0</a:t>
              </a:r>
              <a:endParaRPr b="0" lang="en-US" sz="28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BB0A-82BC-47D9-8966-01A9A52FA9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hness in the presence of parti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Horizontal Partitioning: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reshness of the overall relation, on the basis of group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Courier New"/>
              </a:rPr>
              <a:t>freshness(R) =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Vertical Partitioning: 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reshness of the overall relation, on the basis of attribut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)= min(freshness(A</a:t>
            </a:r>
            <a:r>
              <a:rPr b="1" i="1" lang="en-US" sz="28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)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505320" y="2793960"/>
            <a:ext cx="4572000" cy="1129320"/>
            <a:chOff x="3505320" y="2793960"/>
            <a:chExt cx="4572000" cy="1129320"/>
          </a:xfrm>
        </p:grpSpPr>
        <p:sp>
          <p:nvSpPr>
            <p:cNvPr id="179" name=""/>
            <p:cNvSpPr/>
            <p:nvPr/>
          </p:nvSpPr>
          <p:spPr>
            <a:xfrm>
              <a:off x="3505320" y="2793960"/>
              <a:ext cx="4572000" cy="112932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size(g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)*freshness(g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size(g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i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70120" y="3327480"/>
              <a:ext cx="450720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32585-88D4-4E31-BA98-A10A81E15C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hness – Oper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Horizontal partitioning. For each new group, after an operation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</a:t>
            </a:r>
            <a:r>
              <a:rPr b="1" i="1" lang="el-GR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π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A</a:t>
            </a:r>
            <a:r>
              <a:rPr b="1" i="1" lang="en-GB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(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GB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) =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</a:t>
            </a:r>
            <a:r>
              <a:rPr b="1" i="1" lang="el-GR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σ</a:t>
            </a:r>
            <a:r>
              <a:rPr b="1" i="1" lang="el-GR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φ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) = 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lang="en-US" sz="2400" spc="-1" strike="noStrike">
                <a:solidFill>
                  <a:srgbClr val="2d2525"/>
                </a:solidFill>
                <a:latin typeface="MT Extra"/>
                <a:ea typeface="MT Extra"/>
              </a:rPr>
              <a:t>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s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j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= min(freshness(r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i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,freshness(s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j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)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228600" indent="-22860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The simple case and the case of vertical partitioning are similar…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381D3-DB36-400D-BAA7-458CADE934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sistency, Accuracy, Completenes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ll three, have the same formulae with each other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mall differences with the formulae of freshnes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Definitions and details: please see the paper…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73C1-33B5-419E-ADAB-DCB11EBB3D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9144000" cy="152388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tate = Set of View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9144000" cy="53341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= w *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Operational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=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	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w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q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*query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+w</a:t>
            </a:r>
            <a:r>
              <a:rPr b="1" i="1" lang="en-US" sz="24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u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*update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Query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   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= Σ</a:t>
            </a:r>
            <a:r>
              <a:rPr b="1" i="1" lang="en-US" sz="28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V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query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Update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cost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= Σ</a:t>
            </a:r>
            <a:r>
              <a:rPr b="1" i="1" lang="en-US" sz="2800" spc="-1" strike="noStrike" baseline="-30000">
                <a:solidFill>
                  <a:srgbClr val="2d2525"/>
                </a:solidFill>
                <a:latin typeface="Courier New"/>
                <a:ea typeface="Courier New"/>
              </a:rPr>
              <a:t>V</a:t>
            </a:r>
            <a:r>
              <a:rPr b="1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update</a:t>
            </a:r>
            <a:r>
              <a:rPr b="1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2d2525"/>
                </a:solidFill>
                <a:latin typeface="Courier New"/>
                <a:ea typeface="Courier New"/>
              </a:rPr>
              <a:t>cost(V)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Accuracy</a:t>
            </a:r>
            <a:r>
              <a:rPr b="1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(V)=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429000" y="1295280"/>
            <a:ext cx="3657600" cy="825480"/>
            <a:chOff x="3429000" y="1295280"/>
            <a:chExt cx="3657600" cy="825480"/>
          </a:xfrm>
        </p:grpSpPr>
        <p:sp>
          <p:nvSpPr>
            <p:cNvPr id="188" name=""/>
            <p:cNvSpPr/>
            <p:nvPr/>
          </p:nvSpPr>
          <p:spPr>
            <a:xfrm>
              <a:off x="3429000" y="1295280"/>
              <a:ext cx="3657600" cy="82548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operational cost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data quality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94160" y="1714680"/>
              <a:ext cx="359244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352680" y="4800600"/>
            <a:ext cx="5486040" cy="1129320"/>
            <a:chOff x="3352680" y="4800600"/>
            <a:chExt cx="5486040" cy="1129320"/>
          </a:xfrm>
        </p:grpSpPr>
        <p:sp>
          <p:nvSpPr>
            <p:cNvPr id="191" name=""/>
            <p:cNvSpPr/>
            <p:nvPr/>
          </p:nvSpPr>
          <p:spPr>
            <a:xfrm>
              <a:off x="3352680" y="4800600"/>
              <a:ext cx="5486040" cy="1129320"/>
            </a:xfrm>
            <a:prstGeom prst="rect">
              <a:avLst/>
            </a:prstGeom>
            <a:solidFill>
              <a:srgbClr val="a7b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V 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popularity(V)*accuracy(V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3200" spc="-1" strike="noStrike">
                  <a:solidFill>
                    <a:srgbClr val="2d2525"/>
                  </a:solidFill>
                  <a:latin typeface="Courier New"/>
                </a:rPr>
                <a:t>Σ</a:t>
              </a:r>
              <a:r>
                <a:rPr b="1" lang="en-US" sz="2400" spc="-1" strike="noStrike" baseline="-25000">
                  <a:solidFill>
                    <a:srgbClr val="2d2525"/>
                  </a:solidFill>
                  <a:latin typeface="Courier New"/>
                </a:rPr>
                <a:t>V </a:t>
              </a:r>
              <a:r>
                <a:rPr b="1" lang="en-US" sz="2400" spc="-1" strike="noStrike">
                  <a:solidFill>
                    <a:srgbClr val="2d2525"/>
                  </a:solidFill>
                  <a:latin typeface="Courier New"/>
                </a:rPr>
                <a:t>popularity(V)</a:t>
              </a:r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30080" y="5334120"/>
              <a:ext cx="5408280" cy="0"/>
            </a:xfrm>
            <a:prstGeom prst="line">
              <a:avLst/>
            </a:prstGeom>
            <a:ln w="9360">
              <a:solidFill>
                <a:srgbClr val="2d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A8DCC-1438-4EC9-9151-E17A7DE02F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pplied a formal framework for the management of quality to the optimal DW design problem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Provided specific cost formulae for the evaluation of the benefit of a solu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ong version of the paper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5364000"/>
            <a:ext cx="8915400" cy="58140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www.dbnet.ece.ntua.gr/~pvassil/publications.html</a:t>
            </a:r>
            <a:endParaRPr b="0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26B0-DC31-47C4-A25C-F13D710DA1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ncorporate the Extraction-Transformation- Loading (ETL) process in the design of the data warehouse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arly attempts: ARKTOS, a system for ETL activities (IEEE Data Engineering Bulletin, 28(4), Dec. 2000; Information Systems 26(8), Dec. 2001)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0D60-A29D-4B24-97C9-2AC6E9F17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398124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A5BB-E938-414E-851F-902BBB8950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ank you and many thanks to our hosts!!!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201" name="flag" descr=""/>
          <p:cNvPicPr/>
          <p:nvPr/>
        </p:nvPicPr>
        <p:blipFill>
          <a:blip r:embed="rId1"/>
          <a:srcRect l="0" t="0" r="0" b="4646"/>
          <a:stretch/>
        </p:blipFill>
        <p:spPr>
          <a:xfrm>
            <a:off x="1447920" y="2108160"/>
            <a:ext cx="4643280" cy="29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C34B-7712-44A5-9B7F-B7350D0930D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ntribu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Formal treatment of the </a:t>
            </a:r>
            <a:r>
              <a:rPr b="1" i="1" lang="en-US" sz="32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Optimal DW Design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problem with respect to specific, objective quality factor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Extended cost formulae for the evaluation of the benefit of a solution, expanding different choices: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global annotation of data stores with quality factors,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nnotation of subsets of rows,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nnotation of specific column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D8A42-965F-4A91-983A-B639757B8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Informal Problem Descriptio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e DW Quality Metamod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Linkage of Quality Issues to DW Optimal Design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Quality Factors for Views: Freshnes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DW Stat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onclusions and Future Work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B7A2-7E8A-4D3F-833A-99A9C1C50A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General DW Architectur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66680" y="701640"/>
          <a:ext cx="5496120" cy="59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701640"/>
                    <a:ext cx="5496120" cy="59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1E6B-9E35-45F8-A094-F9517FBACD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roblem Statemen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The DSA can be considered as a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set of materialized view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over the data sources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There is a number of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alternative sets of materialized view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that the administrator can choose to maintain, with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different values for the various quality aspect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 of the DSA.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Trying to select a set of views to materialize in order to maximize the overall quality of the DSA, is the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Quality-Oriented Design Problem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92539-AFE1-4DF8-B852-E760D198E2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DW Quality Metamode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80880" y="1146240"/>
            <a:ext cx="6465960" cy="5094360"/>
            <a:chOff x="380880" y="1146240"/>
            <a:chExt cx="6465960" cy="5094360"/>
          </a:xfrm>
        </p:grpSpPr>
        <p:sp>
          <p:nvSpPr>
            <p:cNvPr id="105" name=""/>
            <p:cNvSpPr/>
            <p:nvPr/>
          </p:nvSpPr>
          <p:spPr>
            <a:xfrm>
              <a:off x="380880" y="2943360"/>
              <a:ext cx="1378080" cy="301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2520" y="3009960"/>
              <a:ext cx="112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W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bject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38000" y="1625760"/>
              <a:ext cx="101772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4"/>
                  </a:lnTo>
                  <a:lnTo>
                    <a:pt x="641" y="529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26000" y="16765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fin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92320" y="184464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33440" y="1684440"/>
              <a:ext cx="1378080" cy="3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64120" y="1751040"/>
              <a:ext cx="121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Goal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38000" y="4500720"/>
              <a:ext cx="1017720" cy="420480"/>
            </a:xfrm>
            <a:custGeom>
              <a:avLst/>
              <a:gdLst/>
              <a:ahLst/>
              <a:rect l="l" t="t" r="r" b="b"/>
              <a:pathLst>
                <a:path w="1282" h="528">
                  <a:moveTo>
                    <a:pt x="641" y="0"/>
                  </a:moveTo>
                  <a:lnTo>
                    <a:pt x="0" y="264"/>
                  </a:lnTo>
                  <a:lnTo>
                    <a:pt x="641" y="528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26000" y="4552920"/>
              <a:ext cx="49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fin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92320" y="4719600"/>
              <a:ext cx="17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33440" y="4560840"/>
              <a:ext cx="1378080" cy="3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5080" y="4627440"/>
              <a:ext cx="1341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Factor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69920" y="1835280"/>
              <a:ext cx="568080" cy="1108080"/>
            </a:xfrm>
            <a:custGeom>
              <a:avLst/>
              <a:gdLst/>
              <a:ahLst/>
              <a:rect l="l" t="t" r="r" b="b"/>
              <a:pathLst>
                <a:path w="716" h="1397">
                  <a:moveTo>
                    <a:pt x="0" y="1397"/>
                  </a:moveTo>
                  <a:lnTo>
                    <a:pt x="0" y="0"/>
                  </a:lnTo>
                  <a:lnTo>
                    <a:pt x="716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5720" y="1835280"/>
              <a:ext cx="47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9920" y="3243240"/>
              <a:ext cx="568080" cy="1468440"/>
            </a:xfrm>
            <a:custGeom>
              <a:avLst/>
              <a:gdLst/>
              <a:ahLst/>
              <a:rect l="l" t="t" r="r" b="b"/>
              <a:pathLst>
                <a:path w="716" h="1850">
                  <a:moveTo>
                    <a:pt x="0" y="0"/>
                  </a:moveTo>
                  <a:lnTo>
                    <a:pt x="0" y="1850"/>
                  </a:lnTo>
                  <a:lnTo>
                    <a:pt x="716" y="185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55720" y="4711680"/>
              <a:ext cx="47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14640" y="3003480"/>
              <a:ext cx="1617480" cy="30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08960" y="3070080"/>
              <a:ext cx="1536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QuestionType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13080" y="37227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5"/>
                  </a:lnTo>
                  <a:lnTo>
                    <a:pt x="641" y="529"/>
                  </a:lnTo>
                  <a:lnTo>
                    <a:pt x="1282" y="265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32320" y="38577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valuates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313080" y="22845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8">
                  <a:moveTo>
                    <a:pt x="641" y="0"/>
                  </a:moveTo>
                  <a:lnTo>
                    <a:pt x="0" y="264"/>
                  </a:lnTo>
                  <a:lnTo>
                    <a:pt x="641" y="528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69680" y="2419200"/>
              <a:ext cx="76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ncreteBy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822480" y="1984320"/>
              <a:ext cx="1800" cy="3002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22480" y="2703600"/>
              <a:ext cx="1800" cy="29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822480" y="3301560"/>
              <a:ext cx="1800" cy="420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2480" y="4141800"/>
              <a:ext cx="1800" cy="419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29000" y="3003480"/>
              <a:ext cx="1617840" cy="300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40680" y="3070080"/>
              <a:ext cx="129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QualityDimension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29240" y="4500720"/>
              <a:ext cx="1017360" cy="420480"/>
            </a:xfrm>
            <a:custGeom>
              <a:avLst/>
              <a:gdLst/>
              <a:ahLst/>
              <a:rect l="l" t="t" r="r" b="b"/>
              <a:pathLst>
                <a:path w="1282" h="528">
                  <a:moveTo>
                    <a:pt x="641" y="0"/>
                  </a:moveTo>
                  <a:lnTo>
                    <a:pt x="0" y="264"/>
                  </a:lnTo>
                  <a:lnTo>
                    <a:pt x="641" y="528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8080" y="463716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refersTo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29240" y="16257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4"/>
                  </a:lnTo>
                  <a:lnTo>
                    <a:pt x="641" y="529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88080" y="1760400"/>
              <a:ext cx="56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refersTo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11520" y="4711680"/>
              <a:ext cx="101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6037200" y="3301920"/>
              <a:ext cx="1440" cy="1198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1520" y="1835280"/>
              <a:ext cx="1017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37200" y="2044800"/>
              <a:ext cx="1440" cy="958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13080" y="5160960"/>
              <a:ext cx="1017360" cy="419040"/>
            </a:xfrm>
            <a:custGeom>
              <a:avLst/>
              <a:gdLst/>
              <a:ahLst/>
              <a:rect l="l" t="t" r="r" b="b"/>
              <a:pathLst>
                <a:path w="1282" h="529">
                  <a:moveTo>
                    <a:pt x="641" y="0"/>
                  </a:moveTo>
                  <a:lnTo>
                    <a:pt x="0" y="264"/>
                  </a:lnTo>
                  <a:lnTo>
                    <a:pt x="641" y="529"/>
                  </a:lnTo>
                  <a:lnTo>
                    <a:pt x="1282" y="264"/>
                  </a:lnTo>
                  <a:lnTo>
                    <a:pt x="64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cc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23320" y="521172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asur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70280" y="5380200"/>
              <a:ext cx="16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y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33440" y="5938920"/>
              <a:ext cx="1378080" cy="301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77440" y="6005520"/>
              <a:ext cx="119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easuringAgent</a:t>
              </a:r>
              <a:endParaRPr b="0" lang="en-US" sz="12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22480" y="4860720"/>
              <a:ext cx="1800" cy="2998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2480" y="5580000"/>
              <a:ext cx="1800" cy="358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4880" y="1146240"/>
              <a:ext cx="888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48320" y="11905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takeholder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2000" y="1146240"/>
              <a:ext cx="6652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3000" y="11905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urpose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30680" y="4202280"/>
              <a:ext cx="71100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2760" y="4246560"/>
              <a:ext cx="607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pect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0680" y="4921200"/>
              <a:ext cx="703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12760" y="4965840"/>
              <a:ext cx="599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chieved</a:t>
              </a:r>
              <a:endParaRPr b="0" lang="en-US" sz="11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3219120" y="1385640"/>
              <a:ext cx="603000" cy="298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3822480" y="1385640"/>
              <a:ext cx="541440" cy="298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4511520" y="4441680"/>
              <a:ext cx="474840" cy="270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11520" y="4711680"/>
              <a:ext cx="471600" cy="209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5CF20-F4F7-4F58-AED2-B60EAC066C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 DSA Design Proble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104840"/>
          <a:ext cx="70866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04840"/>
                    <a:ext cx="7086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0C3FE-F4EA-4931-8B9A-F2AC7C8067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Interpretation of Quality Model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010280" cy="5791320"/>
          </a:xfrm>
          <a:prstGeom prst="rect">
            <a:avLst/>
          </a:prstGeom>
          <a:solidFill>
            <a:srgbClr val="a7b4b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Goal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Evaluate DSA Design!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Stakeholder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DW Designer, End User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DW Object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Sources, DSA, Load Process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Dimension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DW Quality (in general), Optimality of the design,..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Factor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Update Frequency, Disk Space, Source Freshness,…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1c62"/>
                </a:solidFill>
                <a:latin typeface="Times New Roman"/>
              </a:rPr>
              <a:t>Quality Questions</a:t>
            </a: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: The proposed methodology!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6F91-3778-4EBE-9297-86B45EAD8D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76320" y="1519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Evaluation of the data quality of a view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Suppose a relation </a:t>
            </a:r>
            <a:r>
              <a:rPr b="0" i="1" lang="en-US" sz="2800" spc="-1" strike="noStrike">
                <a:solidFill>
                  <a:srgbClr val="2d2525"/>
                </a:solidFill>
                <a:latin typeface="Courier New"/>
                <a:ea typeface="Courier New"/>
              </a:rPr>
              <a:t>R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, 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annotated with quality factors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: freshness, accuracy, completeness and consistency.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nnotation can be performed for: 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the whole relation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,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several attributes of the relation (</a:t>
            </a:r>
            <a:r>
              <a:rPr b="1" i="1" lang="en-US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vertical partitioning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) and 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a subset of the rows of the relation (</a:t>
            </a:r>
            <a:r>
              <a:rPr b="1" i="1" lang="en-US" sz="24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horizontal partitioning</a:t>
            </a:r>
            <a:r>
              <a:rPr b="0" i="1" lang="en-US" sz="2400" spc="-1" strike="noStrike">
                <a:solidFill>
                  <a:srgbClr val="2d2525"/>
                </a:solidFill>
                <a:latin typeface="Times New Roman"/>
                <a:ea typeface="Times New Roman"/>
              </a:rPr>
              <a:t>).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What happens if we apply </a:t>
            </a:r>
            <a:r>
              <a:rPr b="1" i="1" lang="el-GR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π</a:t>
            </a:r>
            <a:r>
              <a:rPr b="1" i="1" lang="en-US" sz="2800" spc="-1" strike="noStrike" baseline="-30000">
                <a:solidFill>
                  <a:srgbClr val="061c62"/>
                </a:solidFill>
                <a:latin typeface="Courier New"/>
                <a:ea typeface="Courier New"/>
              </a:rPr>
              <a:t>A</a:t>
            </a:r>
            <a:r>
              <a:rPr b="1" i="1" lang="en-GB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(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R</a:t>
            </a:r>
            <a:r>
              <a:rPr b="1" i="1" lang="en-GB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)</a:t>
            </a:r>
            <a:r>
              <a:rPr b="1" i="1" lang="en-GB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, </a:t>
            </a:r>
            <a:r>
              <a:rPr b="1" i="1" lang="el-GR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σ</a:t>
            </a:r>
            <a:r>
              <a:rPr b="1" i="1" lang="el-GR" sz="2800" spc="-1" strike="noStrike" baseline="-30000">
                <a:solidFill>
                  <a:srgbClr val="061c62"/>
                </a:solidFill>
                <a:latin typeface="Courier New"/>
                <a:ea typeface="Courier New"/>
              </a:rPr>
              <a:t>φ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(R)</a:t>
            </a:r>
            <a:r>
              <a:rPr b="1" i="1" lang="en-GB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,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GB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R</a:t>
            </a:r>
            <a:r>
              <a:rPr b="1" i="1" lang="en-US" sz="1800" spc="-1" strike="noStrike">
                <a:solidFill>
                  <a:srgbClr val="061c62"/>
                </a:solidFill>
                <a:latin typeface="Courier New"/>
                <a:ea typeface="Courier New"/>
              </a:rPr>
              <a:t> </a:t>
            </a:r>
            <a:r>
              <a:rPr b="1" lang="en-US" sz="2800" spc="-1" strike="noStrike">
                <a:solidFill>
                  <a:srgbClr val="061c62"/>
                </a:solidFill>
                <a:latin typeface="MT Extra"/>
                <a:ea typeface="MT Extra"/>
              </a:rPr>
              <a:t></a:t>
            </a:r>
            <a:r>
              <a:rPr b="1" lang="en-US" sz="2800" spc="-1" strike="noStrike">
                <a:solidFill>
                  <a:srgbClr val="061c62"/>
                </a:solidFill>
                <a:latin typeface="Symbol"/>
                <a:ea typeface="Symbol"/>
              </a:rPr>
              <a:t></a:t>
            </a:r>
            <a:r>
              <a:rPr b="1" i="1" lang="en-US" sz="2800" spc="-1" strike="noStrike">
                <a:solidFill>
                  <a:srgbClr val="061c62"/>
                </a:solidFill>
                <a:latin typeface="Courier New"/>
                <a:ea typeface="Courier New"/>
              </a:rPr>
              <a:t>S</a:t>
            </a:r>
            <a:r>
              <a:rPr b="1" i="1" lang="en-US" sz="2800" spc="-1" strike="noStrike">
                <a:solidFill>
                  <a:srgbClr val="061c62"/>
                </a:solidFill>
                <a:latin typeface="Times New Roman"/>
                <a:ea typeface="Times New Roman"/>
              </a:rPr>
              <a:t>?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Ligoudistianos, Sellis, Theodoratos -- ΕΠΥ'0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7AF1-427F-458F-9AF0-1F2CA113D1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4T17:28:07Z</dcterms:created>
  <dc:creator>PV</dc:creator>
  <dc:description/>
  <dc:language>en-US</dc:language>
  <cp:lastModifiedBy>PV</cp:lastModifiedBy>
  <dcterms:modified xsi:type="dcterms:W3CDTF">2001-11-06T15:04:38Z</dcterms:modified>
  <cp:revision>49</cp:revision>
  <dc:subject/>
  <dc:title>Towards Quality-Oriented Data Warehouse Usage and Evolution</dc:title>
</cp:coreProperties>
</file>