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709-7469-422B-897F-2BA295BFC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ND AFFIL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ASPECTS: 2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STUFF: L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EXIST MORE THAN ONE STANDARDS FOR MEDIC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: 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CULTURAL SH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 / FK / BALANCE OF INCOME vs EXP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 TO DETE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IF YOU DO, HOW TO CONVINCE? (AJAX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DUE TO REDUNDANCY! NORMALLY, THEY KNOW, BUT WON’T TELL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USTRATES TEAM, BACK IN SCHEDUL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TO DETECT WHAT CHANGE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PORTS, SOFTWARE, MAT. VIEWS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WHICH BRINGS US TO 2nd PROJEC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ION THAT IT SMALL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POLITICS!!! POLITICS!!! POLITICS!!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COMPEXITY OF DW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TO WRITE SW, ESP. EXTR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 INTERESTING TECHNICAL SOLUTION: DUE TO TIME CONSTRAINTS TO COMPLETE THE BALANCE SHEET AT THE END OF THE YEAR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AS PERFORM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LE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DUNDANCY EXPLOIT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Q.PROCESSING TECHNIQUES WITHIN COMMERCIAL OPTIMIZERS? ANYBOD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COMPLETE INFORM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KIMBALL’S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ONE (1) PAPER FOR ESTIMATION OF VIEW SIZES. ALL OUR ALGORITHMS BASED ON THIS KNOWLEDG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CHAOS? LINKED TO (2) FORTUNATELY TECHNOLOGY SEEMS TO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REVERSE ENG. OF FILES? DB’s? SAMPLING FOR TEST SUBSETS? TOOLS EXIST BUT BUDGET AND SCHEDULE ARE FINITE NUMBER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MDW last year: discussion showed that we could not really answer efficiently the questions posed by practitio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ft-criticism: Are we attacking problem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pact on practice? Is there any room for further topics to be explo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suggesting what topics are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igh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s to take up. Just a link to current pract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HARD TO ACHIEVE AND GUARANTEE I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DIS EXISTS BUT HOW MANY TOOLS FOLLOW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AVE ALREADY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MERILL LY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: DO NOT EXCLUDE MY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: REFER TO PREVIOUS PROCESS +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ILOMAR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GROUNDBREAKING VS DEL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: IS IT UNAVOIDABLE AFTER AL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DIGM = WAY OF THINKING &amp; TEACHING. ALWAYS A PENDING QUESTION IF RIGHT ON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AP IS A GOOD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of all, we are dealing with a BIG market which is EXP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.2 B RDBMS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.5 B O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THOROUGH, OR COMPLETE STUDY. NOT INTENDED FOR TH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CRITICISM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THIS AND NOT THE OTHER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PER MAIGHT BELONG TO MORE THAN ONE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, WE BELIEVE (WITHOUT PROVING) IT GIVES A GOOD IDEA OF WHAT GOES 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CONFERENCES. To get the feeling, NOT a thorough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papers/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ed area: seem to reach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 NOT CLAIM A PERFECT CLASSIFICATION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O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LUSTERING, INDEXING, MI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NTAINMENT, REWRI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ATA &amp; SCHEMA ~, QUERY PROCESSIN’ OVER ~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EW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VIEW MNTNC DETECTION OF CHANGES, DW DGN, SIZE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. PROCESSIN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CHIN’, PROCESSIN’ AGGREGATES / CUBES, TOP N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OMPLET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DI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DEVIATING TOWARDS WEB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OLAP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STRANGE? SIGMOD00: 0/10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RISI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DUNDANCY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STANDARD AUDIENCE: THEORETIC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ORAGE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IS LOSING 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EWS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: SATURATION POI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8200" y="4704840"/>
            <a:ext cx="4946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DISCERN ANY BIAS, THIS IS WHY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L = SPAM!! :-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090C-E3AC-4D19-B65A-FFFF48447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95F26-3D0C-4BFA-95FC-DE4D4EC3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DE1A-2393-4AC7-B35F-8B07221FF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AEDB-D4AC-4238-BE21-09BCA2159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6D75F-FC62-41FF-BCCC-AB306C10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E6256-C6E1-4D11-8B51-8BEAB4F8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2DFA7-291B-4133-BCD1-7641D9B0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89A16-6DA0-431D-A795-64E21DA9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3F31C-C103-4A17-9CD4-61FE9756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72FB3-E430-4D6A-AC06-5B2F01A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99D2A-5EFA-4BE8-800F-38EB5B3D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4D55-E61E-42A1-8830-7842930EB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6B75-61BC-435D-8780-24BEC25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98AD5-15F7-46A7-BFE7-2FC1C63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4A101-781E-4492-8752-71E6A1BC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5FEF-C187-417D-A96D-7D8BAAFF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E3DA0-12C2-4C4F-8A24-9CFFC329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241B-F210-4D3D-95C6-F3092D0AF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AB3C-25A6-4F28-97D2-5170C95D6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AE7B-A999-42E3-B85E-B39A1783A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3BD7-41BE-47FC-9E9C-7935736AC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F686-7DE0-46CC-94A4-E961499FA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3887-A503-480D-90C9-B28B72D18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0DEB-3FBB-40FB-A31C-40E161C0B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International Workshop on Design and Management of Data Warehouses (DMDW'20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Stockholm, Sweden, June 5-6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5E44-0E35-45B0-AE70-2AD2A4966DB3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D408-EAA5-49C4-96D5-30CABCC77EE9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Gulliver in the land of data warehousing: practical experiences and observations of a research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81160" y="3962520"/>
            <a:ext cx="67816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nos Vassiliad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ational Technical University of Athe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61722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International Workshop on Design and Management of Data Warehouses (DMDW’2000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Stockholm, Sweden, June 5-6, 20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ading of data from all medical centers in Greece in a central ware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nual refresh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andard format for input sent from the sources (no schema integration requir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support top management in decision support (100% quality requir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BB62-415B-489C-A7B7-6AC8A213BE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1: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ck of training of the target administration te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volvement of the administrators of the legacy system in the design of the new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or quality of legacy da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er’s pride: how to convince someone that «his»/«hers» data has problem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36EB-E909-499C-967F-8D08630A5C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1: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tection of reliable 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ata warehouse ev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political problems, though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5A963-5BDE-4028-9DAE-BC875F1F25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oad, clean and export data for pensio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.5 million rows per month, loaded on a monthly bas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ried mostly by pre-canned repor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d also for certificates of the public sector (100% quality of data required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59583-54B5-42E4-B9AD-79956FD6DF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2: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Different departments involved in the ownership of the inform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loss of ownership of information = loss of pow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overhead for persons and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revelation of any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ciencies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in the da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AC33-4616-49BF-99FE-1D1F1EAB7E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ject #2: Practical Proble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fficulty in constructing the extraction and cleaning softw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ample of a typical proces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7339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«...the problem involved detecting relevant data from a COBOL file, converting EBCDIC to ASCII format, unpacking the packed numbers, reducing all address fields to a standard format and loading the result into a table in the data warehouse…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B841-BA06-477F-826E-031A782E5C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Integration of four heterogeneous legacy systems (COBOL, Excel, dBase and Oracl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cessful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ilot for the partial integration of two of 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thusiastic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manag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E5B4-C090-4473-95EC-F16C613A24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ct #3: No Practical Problems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3962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…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no data were to be given from the largest legacy system, since its administrators simply refused to provide the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 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borted before it really started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ficial excuse: security reasons, work overhead,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ff-the-record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4839-BAFE-427A-A433-D3D92BCCA1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ccesses of research to meet practical proble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to propagate from the sources to the DW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mon: refreshment can take up to 55% of the cost of running a D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dex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itmap Indexes, Join Index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orage &amp; Query Process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nclear ?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84AEB-128A-48A7-B948-D320264989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can research do about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DW Design Methodologie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xamination of volume of queries, data sets and network traffi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Choice of hardware and softwar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ata Engineering?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6BB8-890C-432B-A719-E592803956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«...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owards showing the issues which occupy research and practice, and the extent to which these issues have any overla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…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BEFD-F1C5-407C-B31A-99A2A41E30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can research do about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Quality of data (both legacy and output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Metadata managemen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ata warehouse evolu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Training of end-users / other stakeholder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Times New Roman"/>
              </a:rPr>
              <a:t>Difficulty in using tools (e.g., ETL &amp; data cleaning tool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6140-8281-43B6-B248-2B42168CC7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5791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See Demarest ‘97 for a detailed discussion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can research do about 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Procedural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problem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How to introduce the DW in the organization?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17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Project scope, pilots, involvment of stakeholder communities,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2001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ocial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problem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Times New Roman"/>
              </a:rPr>
              <a:t>Data ownership and access are reconsider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Times New Roman"/>
              </a:rPr>
              <a:t>The work practices of user communities are aff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2420-FF2A-45CD-843A-54A3A9357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tead of conclusions, more questions.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researchers aware of practical problem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it rewarding, in terms of research, to deal with the «dirty» problem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s it the Paradigm’s faul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D44F-6697-4422-82C0-CC68F7E538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fferent opin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6477120" cy="41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68E0-EB94-4EAD-9769-52A008CB1A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Re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al Experien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verlap between Research and Current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urther Consider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3F06-1E7F-4D4C-8A77-C1CB7B6F69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ne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371600"/>
            <a:ext cx="81532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report for Merrill Lynch at the end of 1998 men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ata mart market expected to have a 40% CAG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DBMS sales for data warehouse purposes: CAGR of 25%, reaching total sales of $2.2 billion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OLAP report at the end of 1999 men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84120" indent="-384120"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$2.5 billions sales for OLAP tools (including implementation services), expected to grow with 20% rate in 20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6AD6-67B1-46C8-ABC2-F016A68777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view of research wor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prestigious conferences: PODS, SIGMOD, VLD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ttom-up classification of papers into categories and super-categor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ntion: simply to get a «feeling» of the research tenden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ED29-C7E9-446C-9E8C-C405261136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earch:Grouping by Yea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43000" y="2087640"/>
          <a:ext cx="7086600" cy="34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87640"/>
                    <a:ext cx="70866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7543-862D-4144-B9FE-1E27CF6C8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earch: Grouping by typ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371600"/>
          <a:ext cx="8153280" cy="42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15328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85C8-5FE7-4310-B000-2E3C635050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0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search: Evolution over ti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371600"/>
          <a:ext cx="8458200" cy="48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820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42F6-9E09-4703-B9D9-F726C4B34C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rsonal Experien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ic research project: Foundations of Data Warehouse Quality (DWQ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ttp://www.dbnet.ece.ntua.gr/~dwq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 war stories 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CF6A-9D13-4473-9CAC-02831BCF9C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14:26:08Z</dcterms:created>
  <dc:creator>Timos Sellis</dc:creator>
  <dc:description/>
  <dc:language>en-US</dc:language>
  <cp:lastModifiedBy>Timos Sellis</cp:lastModifiedBy>
  <cp:lastPrinted>2000-06-02T14:17:16Z</cp:lastPrinted>
  <dcterms:modified xsi:type="dcterms:W3CDTF">2000-06-02T20:00:02Z</dcterms:modified>
  <cp:revision>44</cp:revision>
  <dc:subject/>
  <dc:title>Gulliver in the land of data warehousing: practical experiences and observations of a researcher</dc:title>
</cp:coreProperties>
</file>