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F760-359C-40BA-8DB6-066A3D91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7A9-F6C5-4718-9C17-61D3A936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D6D9-EC14-4132-858B-E7222D5C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59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42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59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42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E360-C9DC-49C2-92E4-382D03AD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F50D-6287-4529-9ADD-3BA18E30A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1FF9-5B83-4EC9-B9BC-144A19DE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BA19-9377-421D-A8C7-0F758F21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33957-5218-49BE-A3E8-A126484E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2D7C0-9FA4-4293-B8D4-D3C0D2A5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50960" y="151920"/>
            <a:ext cx="7718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D372-E80C-4146-B5D8-A4FAB624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5FB6-5082-4E9D-8C29-2318DFB7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4172-D6AE-463A-BDDD-4F039AA1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6BE5-3BDD-484D-A45A-F829CDF3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1A56-4AC2-482D-AAEC-954D9A38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77B9-3C48-417D-860B-81F6B997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5677-759F-4FBC-9FAA-4ECC1659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6592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4280" y="152352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6592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4280" y="3872160"/>
            <a:ext cx="26744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48B7-8AAF-4847-BBD4-567285EC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C650-7D47-4F72-86EF-68EE1F53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BE14-5CDE-4437-A646-00B3D57A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717-FE61-4714-B4E8-DB2B2401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0960" y="151920"/>
            <a:ext cx="7718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796-B2FD-419A-B4BC-146FDEBF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1174-A287-4210-A614-FC5AC77F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87216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DF44-C5E6-4569-9F40-4736149E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523520"/>
            <a:ext cx="4053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2160"/>
            <a:ext cx="8305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5678-3007-47AB-AB89-8D8142D8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7920" y="624852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93C3-C81A-49E8-A11D-4BAE2507D0B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0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E356-F3B9-4AB6-89A2-6810BC887286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7920" y="1218960"/>
            <a:ext cx="66279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Modelling and Optimisation Issues for Multidimensional Databases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6544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Panos Vassiliad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Spiros Skiadopoulos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National Technical University of Athens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280" y="2362320"/>
          <a:ext cx="3430800" cy="294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362320"/>
                    <a:ext cx="3430800" cy="29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asses of Selection Condi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wo classes of selection condi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toms involving values (valu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L op 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toms involving only levels (level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op L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here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is level or an ancestor of a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is valu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op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is {&lt;.&gt;,=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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A31-773C-4C72-8071-72B27E33C7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hecking Selection Conditions (value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2200" spc="-1" strike="noStrike" baseline="30000">
                <a:solidFill>
                  <a:srgbClr val="eaeaea"/>
                </a:solidFill>
                <a:latin typeface="Courier New"/>
              </a:rPr>
              <a:t>i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=[DS</a:t>
            </a:r>
            <a:r>
              <a:rPr b="0" lang="en-GB" sz="22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,φ</a:t>
            </a:r>
            <a:r>
              <a:rPr b="0" lang="en-GB" sz="2200" spc="-1" strike="noStrike" baseline="-25000">
                <a:solidFill>
                  <a:srgbClr val="eaeaea"/>
                </a:solidFill>
                <a:latin typeface="Courier New"/>
              </a:rPr>
              <a:t>i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,[Month,ALL,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ALL,ALL,ALL,ALL,ALL,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Sales],sum(sales)]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2200" spc="-1" strike="noStrike" baseline="-25000">
                <a:solidFill>
                  <a:srgbClr val="eaeaea"/>
                </a:solidFill>
                <a:latin typeface="Courier New"/>
              </a:rPr>
              <a:t>old1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=18-Feb-97</a:t>
            </a:r>
            <a:r>
              <a:rPr b="0" lang="en-GB" sz="2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day</a:t>
            </a:r>
            <a:r>
              <a:rPr b="0" lang="en-GB" sz="2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3-Sep-97</a:t>
            </a:r>
            <a:r>
              <a:rPr b="0" lang="en-GB" sz="2200" spc="-1" strike="noStrike">
                <a:solidFill>
                  <a:srgbClr val="eaeaea"/>
                </a:solidFill>
                <a:latin typeface="Symbol"/>
                <a:ea typeface="Symbol"/>
              </a:rPr>
              <a:t>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Salesman=Netz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2200" spc="-1" strike="noStrike" baseline="-25000">
                <a:solidFill>
                  <a:srgbClr val="eaeaea"/>
                </a:solidFill>
                <a:latin typeface="Courier New"/>
              </a:rPr>
              <a:t>old2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=6-Feb-97</a:t>
            </a:r>
            <a:r>
              <a:rPr b="0" lang="en-GB" sz="2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day</a:t>
            </a:r>
            <a:r>
              <a:rPr b="0" lang="en-GB" sz="2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3-Sep-97 </a:t>
            </a:r>
            <a:r>
              <a:rPr b="0" lang="en-GB" sz="2200" spc="-1" strike="noStrike">
                <a:solidFill>
                  <a:srgbClr val="eaeaea"/>
                </a:solidFill>
                <a:latin typeface="Symbol"/>
                <a:ea typeface="Symbol"/>
              </a:rPr>
              <a:t>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Salesman=Netz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22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=18-Feb-97</a:t>
            </a:r>
            <a:r>
              <a:rPr b="0" lang="en-GB" sz="2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day</a:t>
            </a:r>
            <a:r>
              <a:rPr b="0" lang="en-GB" sz="2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31-May-97 </a:t>
            </a:r>
            <a:r>
              <a:rPr b="0" lang="en-GB" sz="2200" spc="-1" strike="noStrike">
                <a:solidFill>
                  <a:srgbClr val="eaeaea"/>
                </a:solidFill>
                <a:latin typeface="Symbol"/>
                <a:ea typeface="Symbol"/>
              </a:rPr>
              <a:t></a:t>
            </a:r>
            <a:r>
              <a:rPr b="0" lang="en-GB" sz="2200" spc="-1" strike="noStrike">
                <a:solidFill>
                  <a:srgbClr val="eaeaea"/>
                </a:solidFill>
                <a:latin typeface="Courier New"/>
              </a:rPr>
              <a:t>Salesman=Netz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419720" y="1600200"/>
          <a:ext cx="419076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600200"/>
                    <a:ext cx="41907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8CC-86C7-4C60-B34D-FFC6F96EA0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lgorithm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tition values by th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schem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of the new cub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each partition of the new cube check if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e exists a partition of the old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d if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two partitions contain the same valu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EA9-2940-4ACA-AC1E-E44C432B9E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hecking Selection Conditions (levels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t of axio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und and Comple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gorith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ute the closure of </a:t>
            </a:r>
            <a:r>
              <a:rPr b="0" lang="en-GB" sz="28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28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pply axioms until they do not generate new constrai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f </a:t>
            </a:r>
            <a:r>
              <a:rPr b="0" lang="en-GB" sz="28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28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belongs to the closure of </a:t>
            </a:r>
            <a:r>
              <a:rPr b="0" lang="en-GB" sz="28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28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hen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8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is more restrictive than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8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9DF4-31AC-4937-8304-930BDC60C5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Axiom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76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X&lt;Y implies 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X&lt;Y implies 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Y and 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Y imply X&lt;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Y implies Y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X&lt;Y and Y&lt;Z imply X&lt;Z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Y and Y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Z imply 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Z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Z, Z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Y, 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W, W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Y and W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Z imply 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6480" y="1523520"/>
            <a:ext cx="4076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Y implies f(X)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Y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X)&lt;f(Y) implies X&lt;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X)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Y) implies X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X)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Y) and f(Y)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X) implies f(X)=f(Y)</a:t>
            </a: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Courier New"/>
              </a:rPr>
              <a:t>f(X)=f(Y) and f(Y)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Z) implies f(X)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Z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X)=f(Y) and f(Y)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Z) implies f(X)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Z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X)=f(Y) implies f(X)</a:t>
            </a:r>
            <a:r>
              <a:rPr b="0" lang="en-GB" sz="1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eaeaea"/>
                </a:solidFill>
                <a:latin typeface="Courier New"/>
              </a:rPr>
              <a:t>f(Y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F8E6-A1FA-427A-A043-7F9A07460B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esting Cube Usabilit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eaeaea"/>
                </a:solidFill>
                <a:latin typeface="Times New Roman"/>
              </a:rPr>
              <a:t>Algorithm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ube_Usability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eaeaea"/>
                </a:solidFill>
                <a:latin typeface="Times New Roman"/>
              </a:rPr>
              <a:t>Input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: Α detailed data set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=[L,…,L,M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]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two cubes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=(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,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,[L,…,L,M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],agg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(M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=(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,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,[L,…,L,M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],agg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(M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such that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nvolve either (a) conjunctions of atoms of the 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θ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or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(b) conjunctions of atoms of the 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θL’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where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’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re levels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s a value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eaeaea"/>
                </a:solidFill>
                <a:latin typeface="Times New Roman"/>
              </a:rPr>
              <a:t>Output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: A rewriting that calculates cube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from the tuples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If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ll atoms of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nvolve conjunctions of atoms of the 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θ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The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2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For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every ato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=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θ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n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(or equivalent to this form)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3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If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s the respective level in the schema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MT Extra"/>
                <a:ea typeface="MT Extra"/>
              </a:rPr>
              <a:t>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Then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4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               Trans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to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θl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5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If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6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lseIf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s the respective level in the schema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MT Extra"/>
                <a:ea typeface="MT Extra"/>
              </a:rPr>
              <a:t>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The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7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      Trans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to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θ’anc(l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where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θ’=θ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except for two cases: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                              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(a)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=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&lt;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min(desc(anc(l))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where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θ’= </a:t>
            </a:r>
            <a:r>
              <a:rPr b="0" lang="en-GB" sz="10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                                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(b)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=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&gt;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max(desc(anc(l))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where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θ’= </a:t>
            </a:r>
            <a:r>
              <a:rPr b="0" lang="en-GB" sz="1000" spc="-1" strike="noStrike">
                <a:solidFill>
                  <a:srgbClr val="eaeaea"/>
                </a:solidFill>
                <a:latin typeface="Symbol"/>
                <a:ea typeface="Symbol"/>
              </a:rPr>
              <a:t>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8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If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9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Fo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0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If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1. 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If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ll atoms of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nvolve conjunctions of atoms of the 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=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θ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’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(or equivalent to this form), where both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L’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are higher than the respective levels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Then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2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For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every ato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=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θ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0’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in </a:t>
            </a:r>
            <a:r>
              <a:rPr b="0" lang="el-GR" sz="10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10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5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     Transform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to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θanc(L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’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)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6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Fo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7.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1000" spc="-1" strike="noStrike" u="sng">
                <a:solidFill>
                  <a:srgbClr val="eaeaea"/>
                </a:solidFill>
                <a:uFillTx/>
                <a:latin typeface="Times New Roman"/>
              </a:rPr>
              <a:t>EndIf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8. Apply the transformed selection condition to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and derive a new data set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19. Replace all the values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 with their ancestor values at the levels of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, resulting in a new data set </a:t>
            </a:r>
            <a:r>
              <a:rPr b="0" lang="en-GB" sz="10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Courier New"/>
              </a:rPr>
              <a:t>2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20. Aggregate (“group by” in the relational semantics) on the tuples of DS</a:t>
            </a:r>
            <a:r>
              <a:rPr b="0" lang="en-GB" sz="1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, so that we produce</a:t>
            </a:r>
            <a:r>
              <a:rPr b="1" lang="en-GB" sz="1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GB" sz="10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1" lang="en-GB" sz="10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A7F-BFBC-473B-B210-B513BDFC05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eaeaea"/>
                </a:solidFill>
                <a:latin typeface="Times New Roman"/>
              </a:rPr>
              <a:t>Cube model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eaeaea"/>
                </a:solidFill>
                <a:latin typeface="Times New Roman"/>
              </a:rPr>
              <a:t>Cube Usability Problem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Times New Roman"/>
              </a:rPr>
              <a:t>Containment of two selection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Times New Roman"/>
              </a:rPr>
              <a:t>Rewriting Algorithm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Our results</a:t>
            </a:r>
            <a:r>
              <a:rPr b="0" lang="en-GB" sz="2600" spc="-1" strike="noStrike">
                <a:solidFill>
                  <a:srgbClr val="eaeaea"/>
                </a:solidFill>
                <a:latin typeface="Times New Roman"/>
              </a:rPr>
              <a:t> apply to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Times New Roman"/>
              </a:rPr>
              <a:t>query optimisation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Times New Roman"/>
              </a:rPr>
              <a:t>data warehouse design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eaeaea"/>
                </a:solidFill>
                <a:latin typeface="Times New Roman"/>
              </a:rPr>
              <a:t>caching problem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8127-5695-42B6-AEBA-749F06B95AE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Implementation of  a real syst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Other aspects of the hierarchy structur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partial ancestor func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hierarchies that are not well captured as latti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Partial rewritings and optimisation of the physical execution for cube oper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Smarter algorithms for the cube usability proble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8BC9-4286-4DCD-B238-48E9EC2A19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ontribut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Cube model and Algebra:</a:t>
            </a:r>
            <a:r>
              <a:rPr b="0" i="1" lang="en-GB" sz="3200" spc="-1" strike="noStrike">
                <a:solidFill>
                  <a:srgbClr val="eaeaea"/>
                </a:solidFill>
                <a:latin typeface="Times New Roman"/>
              </a:rPr>
              <a:t> “a cube is not a self-existing entity, but rather a view over an underlying data set”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Syntactic characterisations for the problem of cube usabil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5E10-B2E3-4BFC-9AEF-46D29EFC65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The Cube Model and Algebr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Cube Usability Proble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Algorithms for Checking Cube Usabil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Future work - Conclus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1B31-0601-4340-8152-9EFD1C82F5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ube Mod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Ent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Data Se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Cub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Operators (Cube Algebr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Navigation (Roll-up and Drill-dow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Sel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Split measure (projection of measur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8BFE-E706-4F5F-9EF5-94D2357E30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Dimension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1523880"/>
          <a:ext cx="8458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3880"/>
                    <a:ext cx="8458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99D-6E73-429F-9A12-0DE6B4C5DB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Data Se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</a:rPr>
              <a:t>Day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</a:rPr>
              <a:t>Title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</a:rPr>
              <a:t>       Salesman     Store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6-Feb-97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Symposium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Netz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   Paris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8-Feb-97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Karamazof brothers 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Netz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   Seattle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1-May-97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ce of Spades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Netz        LosAngeles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-Sep-97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Zarathustra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Netz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  Nagasaki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-Sep-97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Report to El Greco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Netz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  Nagasaki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-Jul-97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Ace of Spades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Venk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  Athens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1-Jul-97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Piece of Mind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Venk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   Athens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aeaea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195-2D71-441B-AA01-380F1C185A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Cub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c=(DS</a:t>
            </a:r>
            <a:r>
              <a:rPr b="0" lang="en-GB" sz="36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,φ,[L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,…,L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n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,M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,…,M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m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],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[agg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(M ),…,agg</a:t>
            </a:r>
            <a:r>
              <a:rPr b="0" lang="en-GB" sz="3600" spc="-1" strike="noStrike" baseline="-25000">
                <a:solidFill>
                  <a:srgbClr val="eaeaea"/>
                </a:solidFill>
                <a:latin typeface="Courier New"/>
              </a:rPr>
              <a:t>m</a:t>
            </a:r>
            <a:r>
              <a:rPr b="0" lang="en-GB" sz="3600" spc="-1" strike="noStrike">
                <a:solidFill>
                  <a:srgbClr val="eaeaea"/>
                </a:solidFill>
                <a:latin typeface="Courier New"/>
              </a:rPr>
              <a:t>(M )]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wher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n-GB" sz="28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is a detailed data se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is a detailed selection condi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urier New"/>
              </a:rPr>
              <a:t>L</a:t>
            </a:r>
            <a:r>
              <a:rPr b="0" lang="en-GB" sz="2800" spc="-1" strike="noStrike" baseline="-25000">
                <a:solidFill>
                  <a:srgbClr val="eaeaea"/>
                </a:solidFill>
                <a:latin typeface="Courier New"/>
              </a:rPr>
              <a:t>i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are leve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urier New"/>
              </a:rPr>
              <a:t>M</a:t>
            </a:r>
            <a:r>
              <a:rPr b="0" lang="en-GB" sz="28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,…,</a:t>
            </a:r>
            <a:r>
              <a:rPr b="0" lang="en-GB" sz="2800" spc="-1" strike="noStrike">
                <a:solidFill>
                  <a:srgbClr val="eaeaea"/>
                </a:solidFill>
                <a:latin typeface="Courier New"/>
              </a:rPr>
              <a:t>M</a:t>
            </a:r>
            <a:r>
              <a:rPr b="0" lang="en-GB" sz="2800" spc="-1" strike="noStrike" baseline="-25000">
                <a:solidFill>
                  <a:srgbClr val="eaeaea"/>
                </a:solidFill>
                <a:latin typeface="Courier New"/>
              </a:rPr>
              <a:t>m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are aggregated meas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46200" indent="-2484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Courier New"/>
              </a:rPr>
              <a:t>agg</a:t>
            </a:r>
            <a:r>
              <a:rPr b="0" lang="en-GB" sz="2800" spc="-1" strike="noStrike" baseline="-25000">
                <a:solidFill>
                  <a:srgbClr val="eaeaea"/>
                </a:solidFill>
                <a:latin typeface="Courier New"/>
              </a:rPr>
              <a:t>i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are aggregated functions from the set </a:t>
            </a:r>
            <a:r>
              <a:rPr b="0" lang="en-GB" sz="2800" spc="-1" strike="noStrike">
                <a:solidFill>
                  <a:srgbClr val="eaeaea"/>
                </a:solidFill>
                <a:latin typeface="Courier New"/>
              </a:rPr>
              <a:t>{sum,min,max,count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886200" y="2133720"/>
                <a:ext cx="3808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826320" y="2133720"/>
                <a:ext cx="446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/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6F3A-8424-441B-91E9-433DEAF5CC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ube Usability Problem Definitio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OLAP user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reates some cub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forms an operation on a cube resulting in a new cub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thi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new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cube be calculated from old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one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Can the tuples of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can be used to compute cube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(variation of the </a:t>
            </a:r>
            <a:r>
              <a:rPr b="0" i="1" lang="en-GB" sz="3200" spc="-1" strike="noStrike">
                <a:solidFill>
                  <a:srgbClr val="eaeaea"/>
                </a:solidFill>
                <a:latin typeface="Times New Roman"/>
              </a:rPr>
              <a:t>view subsumption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problem)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7274-934A-4A3B-AF4F-09E8D00372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0960" y="151920"/>
            <a:ext cx="771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olution (?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The new cube </a:t>
            </a:r>
            <a:r>
              <a:rPr b="0" lang="el-GR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32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3200" spc="-1" strike="noStrike">
                <a:solidFill>
                  <a:srgbClr val="eaeaea"/>
                </a:solidFill>
                <a:latin typeface="Times New Roman"/>
              </a:rPr>
              <a:t> should: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Be defined over the same dimensions with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28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and at a higher or equal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Be defined over the same measure of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DS</a:t>
            </a:r>
            <a:r>
              <a:rPr b="0" lang="el-GR" sz="2800" spc="-1" strike="noStrike" baseline="30000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. Moreover, the aggregation functions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agg</a:t>
            </a:r>
            <a:r>
              <a:rPr b="0" lang="el-GR" sz="2800" spc="-1" strike="noStrike" baseline="30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agg</a:t>
            </a:r>
            <a:r>
              <a:rPr b="0" lang="el-GR" sz="28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should be the sa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Have a more restrictive selection condition than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l-GR" sz="2800" spc="-1" strike="noStrike" baseline="30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, i.e.,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800" spc="-1" strike="noStrike" baseline="-25000">
                <a:solidFill>
                  <a:srgbClr val="eaeaea"/>
                </a:solidFill>
                <a:latin typeface="Courier New"/>
              </a:rPr>
              <a:t>new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is contained in </a:t>
            </a:r>
            <a:r>
              <a:rPr b="0" lang="el-GR" sz="2800" spc="-1" strike="noStrike">
                <a:solidFill>
                  <a:srgbClr val="eaeaea"/>
                </a:solidFill>
                <a:latin typeface="Courier New"/>
              </a:rPr>
              <a:t>φ</a:t>
            </a:r>
            <a:r>
              <a:rPr b="0" lang="el-GR" sz="2800" spc="-1" strike="noStrike" baseline="-25000">
                <a:solidFill>
                  <a:srgbClr val="eaeaea"/>
                </a:solidFill>
                <a:latin typeface="Courier New"/>
              </a:rPr>
              <a:t>old</a:t>
            </a:r>
            <a:r>
              <a:rPr b="0" lang="en-GB" sz="2800" spc="-1" strike="noStrike">
                <a:solidFill>
                  <a:srgbClr val="eaeaea"/>
                </a:solidFill>
                <a:latin typeface="Times New Roman"/>
              </a:rPr>
              <a:t> in the usual relational sense (?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assiliadis, Skiadopoulos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3249-305F-4A4C-AA01-A65F0C7A4D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0:31:08Z</dcterms:created>
  <dc:creator>Timos Sellis</dc:creator>
  <dc:description/>
  <dc:language>en-US</dc:language>
  <cp:lastModifiedBy>Timos Sellis</cp:lastModifiedBy>
  <cp:lastPrinted>2000-06-02T18:09:40Z</cp:lastPrinted>
  <dcterms:modified xsi:type="dcterms:W3CDTF">2000-06-13T12:34:50Z</dcterms:modified>
  <cp:revision>92</cp:revision>
  <dc:subject/>
  <dc:title>Modelling and Optimisation Issues for Multidimensional Databases </dc:title>
</cp:coreProperties>
</file>