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0166-77F5-4A7C-804B-7F6E62CE6669}" type="slidenum"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CEB-B576-407C-ABE3-3E2C34D6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3120" y="390852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5FB-6430-4349-8774-78DDEE90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188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8FE-FF89-477D-B7F2-8942CC64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312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04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2E8-AA01-44B2-9D49-AAD388CF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AE86-7C6E-4E77-BF9F-16832C6D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81DA-BFB5-4D23-8DA0-76FDE60E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A084-9384-4D0C-A72C-1ED1B3AF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6250-D267-4A0C-80C8-320789C9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E4582-D91C-4482-984A-0F07775A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9520" y="228240"/>
            <a:ext cx="7008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A93B-B899-430A-8367-DA14084B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71C6-6D55-4928-9086-471BBF81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1CE4-D9E6-44BD-966F-739EF09A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188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E0ED-2A3F-418C-A981-163059DC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45DE-A6DD-4EC9-BD66-9A190F73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3120" y="390852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C423-A8C2-4D47-A23B-7BEED947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188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13D2-10D4-41CA-A9C2-5FA597A57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40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040" y="159984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7312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40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040" y="3908520"/>
            <a:ext cx="2587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0CB0-660A-4016-9503-9F7A82285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63F-6F8C-4F61-8FBE-098F07A0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89D-D6BA-46B3-8A8B-D31817BF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EB53-2326-4FBC-873A-DEFD5C04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9520" y="228240"/>
            <a:ext cx="7008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C9DF-6FA2-4973-8107-110E67EB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EDF0-434D-4E29-9159-CBE5D671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1880" y="390852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522-4FC2-406F-92A5-9E608832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1880" y="1599840"/>
            <a:ext cx="39222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3120" y="3908520"/>
            <a:ext cx="803736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71A-48CC-42F4-9102-0F872CF9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183024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75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21D1-3F70-44D4-A05F-BAB04992349C}" type="slidenum">
              <a:rPr b="0" lang="el-G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FF" descr=""/>
          <p:cNvPicPr/>
          <p:nvPr/>
        </p:nvPicPr>
        <p:blipFill>
          <a:blip r:embed="rId2"/>
          <a:stretch/>
        </p:blipFill>
        <p:spPr>
          <a:xfrm>
            <a:off x="0" y="0"/>
            <a:ext cx="23083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508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9393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4E22-CABC-43E9-B609-49D046B3F9DF}" type="slidenum">
              <a:rPr b="0" lang="el-GR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666880" y="1218960"/>
            <a:ext cx="63993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eaeaea"/>
                </a:solidFill>
                <a:latin typeface="Times New Roman"/>
              </a:rPr>
              <a:t>A Model for Data Warehouse Operational Processes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428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Panos Vassiliadis</a:t>
            </a:r>
            <a:r>
              <a:rPr b="0" lang="el-GR" sz="3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Christoph Quix</a:t>
            </a:r>
            <a:r>
              <a:rPr b="0" lang="el-GR" sz="32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Yannis Vassiliou</a:t>
            </a:r>
            <a:r>
              <a:rPr b="0" lang="el-GR" sz="32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Matthias Jarke</a:t>
            </a:r>
            <a:r>
              <a:rPr b="0" lang="el-GR" sz="3200" spc="-1" strike="noStrike" baseline="30000">
                <a:solidFill>
                  <a:srgbClr val="eaeaea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80060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baseline="30000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 National Technical University of Athe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baseline="30000">
                <a:solidFill>
                  <a:srgbClr val="eaeaea"/>
                </a:solidFill>
                <a:latin typeface="Times New Roman"/>
              </a:rPr>
              <a:t>2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Informatik V</a:t>
            </a:r>
            <a:r>
              <a:rPr b="0" lang="de-DE" sz="2400" spc="-1" strike="noStrike">
                <a:solidFill>
                  <a:srgbClr val="eaeaea"/>
                </a:solidFill>
                <a:latin typeface="Times New Roman"/>
              </a:rPr>
              <a:t> (Information Systems)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, RWTH Aach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baseline="30000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GMD-FIT, Sankt Augusti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DW Process Quality -GQM lik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1295280"/>
            <a:ext cx="8610480" cy="1435320"/>
            <a:chOff x="304920" y="1295280"/>
            <a:chExt cx="8610480" cy="1435320"/>
          </a:xfrm>
        </p:grpSpPr>
        <p:grpSp>
          <p:nvGrpSpPr>
            <p:cNvPr id="225" name=""/>
            <p:cNvGrpSpPr/>
            <p:nvPr/>
          </p:nvGrpSpPr>
          <p:grpSpPr>
            <a:xfrm>
              <a:off x="304920" y="1295280"/>
              <a:ext cx="8610480" cy="459720"/>
              <a:chOff x="304920" y="1295280"/>
              <a:chExt cx="8610480" cy="459720"/>
            </a:xfrm>
          </p:grpSpPr>
          <p:sp>
            <p:nvSpPr>
              <p:cNvPr id="226" name=""/>
              <p:cNvSpPr/>
              <p:nvPr/>
            </p:nvSpPr>
            <p:spPr>
              <a:xfrm>
                <a:off x="304920" y="1295280"/>
                <a:ext cx="175716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Role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238480" y="1295280"/>
                <a:ext cx="28112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Quality Go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137200" y="1295280"/>
                <a:ext cx="16700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‘</a:t>
                </a: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why?’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981840" y="1295280"/>
                <a:ext cx="193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400" spc="-1" strike="noStrike">
                    <a:solidFill>
                      <a:srgbClr val="eaeaea"/>
                    </a:solidFill>
                    <a:latin typeface="Times New Roman"/>
                  </a:rPr>
                  <a:t>Conceptu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914400" y="1905120"/>
              <a:ext cx="769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eaeaea"/>
                  </a:solidFill>
                  <a:latin typeface="Times New Roman"/>
                </a:rPr>
                <a:t>Achieve 100% consistency of the information to be given to the minister!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304920" y="2844720"/>
            <a:ext cx="8610480" cy="1120320"/>
            <a:chOff x="304920" y="2844720"/>
            <a:chExt cx="8610480" cy="1120320"/>
          </a:xfrm>
        </p:grpSpPr>
        <p:grpSp>
          <p:nvGrpSpPr>
            <p:cNvPr id="232" name=""/>
            <p:cNvGrpSpPr/>
            <p:nvPr/>
          </p:nvGrpSpPr>
          <p:grpSpPr>
            <a:xfrm>
              <a:off x="304920" y="2844720"/>
              <a:ext cx="8610480" cy="485280"/>
              <a:chOff x="304920" y="2844720"/>
              <a:chExt cx="8610480" cy="485280"/>
            </a:xfrm>
          </p:grpSpPr>
          <p:sp>
            <p:nvSpPr>
              <p:cNvPr id="233" name=""/>
              <p:cNvSpPr/>
              <p:nvPr/>
            </p:nvSpPr>
            <p:spPr>
              <a:xfrm>
                <a:off x="304920" y="2844720"/>
                <a:ext cx="175716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Activity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38480" y="2844720"/>
                <a:ext cx="28112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Quality Question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37200" y="2844720"/>
                <a:ext cx="16700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‘</a:t>
                </a: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what?’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1840" y="2870280"/>
                <a:ext cx="193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400" spc="-1" strike="noStrike">
                    <a:solidFill>
                      <a:srgbClr val="eaeaea"/>
                    </a:solidFill>
                    <a:latin typeface="Times New Roman"/>
                  </a:rPr>
                  <a:t>Logic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914400" y="3505320"/>
              <a:ext cx="769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eaeaea"/>
                  </a:solidFill>
                  <a:latin typeface="Times New Roman"/>
                </a:rPr>
                <a:t>Is the propagation activity performing properly?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304920" y="4419720"/>
            <a:ext cx="8562960" cy="1511280"/>
            <a:chOff x="304920" y="4419720"/>
            <a:chExt cx="8562960" cy="1511280"/>
          </a:xfrm>
        </p:grpSpPr>
        <p:grpSp>
          <p:nvGrpSpPr>
            <p:cNvPr id="239" name=""/>
            <p:cNvGrpSpPr/>
            <p:nvPr/>
          </p:nvGrpSpPr>
          <p:grpSpPr>
            <a:xfrm>
              <a:off x="304920" y="4419720"/>
              <a:ext cx="8562960" cy="459720"/>
              <a:chOff x="304920" y="4419720"/>
              <a:chExt cx="8562960" cy="459720"/>
            </a:xfrm>
          </p:grpSpPr>
          <p:sp>
            <p:nvSpPr>
              <p:cNvPr id="240" name=""/>
              <p:cNvSpPr/>
              <p:nvPr/>
            </p:nvSpPr>
            <p:spPr>
              <a:xfrm>
                <a:off x="304920" y="4440240"/>
                <a:ext cx="175716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238480" y="4440240"/>
                <a:ext cx="28112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Quality Factor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37200" y="4440240"/>
                <a:ext cx="1670040" cy="423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‘</a:t>
                </a:r>
                <a:r>
                  <a:rPr b="0" lang="el-GR" sz="2400" spc="-1" strike="noStrike">
                    <a:solidFill>
                      <a:srgbClr val="336699"/>
                    </a:solidFill>
                    <a:latin typeface="Times New Roman"/>
                  </a:rPr>
                  <a:t>how?’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934320" y="4419720"/>
                <a:ext cx="193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l-GR" sz="2400" spc="-1" strike="noStrike">
                    <a:solidFill>
                      <a:srgbClr val="eaeaea"/>
                    </a:solidFill>
                    <a:latin typeface="Times New Roman"/>
                  </a:rPr>
                  <a:t>Physical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914400" y="5105520"/>
              <a:ext cx="769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84120" indent="-3841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l-GR" sz="2400" spc="-1" strike="noStrike">
                  <a:solidFill>
                    <a:srgbClr val="eaeaea"/>
                  </a:solidFill>
                  <a:latin typeface="Times New Roman"/>
                </a:rPr>
                <a:t>Correctness of software processes (performed with white box testing)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202-210C-4912-8844-12F77B7049F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Quality Factor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3520" y="1371600"/>
            <a:ext cx="823104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408400"/>
            <a:ext cx="81432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3880" y="2536920"/>
            <a:ext cx="7048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4600" y="2540160"/>
            <a:ext cx="749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sqlldr80.ex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76400" y="2408400"/>
            <a:ext cx="84780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74960" y="2540160"/>
            <a:ext cx="7952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8360" y="254160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lean.pq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97440" y="2408400"/>
            <a:ext cx="1265400" cy="4251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4680" y="2541600"/>
            <a:ext cx="109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57440" y="2514600"/>
            <a:ext cx="60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p.pq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2408400"/>
            <a:ext cx="1265040" cy="42516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19800" y="2541600"/>
            <a:ext cx="1097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251460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Aggr.pq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22160" y="3876840"/>
            <a:ext cx="64944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480" y="3962520"/>
            <a:ext cx="52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BL.as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401840" y="2579760"/>
            <a:ext cx="1360080" cy="110880"/>
            <a:chOff x="1401840" y="2579760"/>
            <a:chExt cx="1360080" cy="110880"/>
          </a:xfrm>
        </p:grpSpPr>
        <p:sp>
          <p:nvSpPr>
            <p:cNvPr id="262" name=""/>
            <p:cNvSpPr/>
            <p:nvPr/>
          </p:nvSpPr>
          <p:spPr>
            <a:xfrm>
              <a:off x="1401840" y="2619000"/>
              <a:ext cx="109692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95520" y="2579760"/>
              <a:ext cx="266400" cy="110880"/>
            </a:xfrm>
            <a:custGeom>
              <a:avLst/>
              <a:gdLst/>
              <a:ahLst/>
              <a:rect l="l" t="t" r="r" b="b"/>
              <a:pathLst>
                <a:path w="168" h="70">
                  <a:moveTo>
                    <a:pt x="0" y="70"/>
                  </a:moveTo>
                  <a:lnTo>
                    <a:pt x="168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515960" y="240840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91080" y="241452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08600" y="2408400"/>
            <a:ext cx="56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58000" y="241452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256440" y="2567160"/>
            <a:ext cx="793800" cy="110880"/>
            <a:chOff x="6256440" y="2567160"/>
            <a:chExt cx="793800" cy="110880"/>
          </a:xfrm>
        </p:grpSpPr>
        <p:sp>
          <p:nvSpPr>
            <p:cNvPr id="269" name=""/>
            <p:cNvSpPr/>
            <p:nvPr/>
          </p:nvSpPr>
          <p:spPr>
            <a:xfrm>
              <a:off x="6256440" y="2603520"/>
              <a:ext cx="532080" cy="34920"/>
            </a:xfrm>
            <a:custGeom>
              <a:avLst/>
              <a:gdLst/>
              <a:ahLst/>
              <a:rect l="l" t="t" r="r" b="b"/>
              <a:pathLst>
                <a:path w="335" h="22">
                  <a:moveTo>
                    <a:pt x="0" y="0"/>
                  </a:moveTo>
                  <a:lnTo>
                    <a:pt x="0" y="21"/>
                  </a:lnTo>
                  <a:lnTo>
                    <a:pt x="335" y="22"/>
                  </a:lnTo>
                  <a:lnTo>
                    <a:pt x="33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83480" y="2567160"/>
              <a:ext cx="266760" cy="110880"/>
            </a:xfrm>
            <a:custGeom>
              <a:avLst/>
              <a:gdLst/>
              <a:ahLst/>
              <a:rect l="l" t="t" r="r" b="b"/>
              <a:pathLst>
                <a:path w="168" h="70">
                  <a:moveTo>
                    <a:pt x="0" y="70"/>
                  </a:moveTo>
                  <a:lnTo>
                    <a:pt x="168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6256440" y="2408400"/>
            <a:ext cx="68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63080" y="241452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781440" y="2579760"/>
            <a:ext cx="1019160" cy="110880"/>
            <a:chOff x="3781440" y="2579760"/>
            <a:chExt cx="1019160" cy="110880"/>
          </a:xfrm>
        </p:grpSpPr>
        <p:sp>
          <p:nvSpPr>
            <p:cNvPr id="274" name=""/>
            <p:cNvSpPr/>
            <p:nvPr/>
          </p:nvSpPr>
          <p:spPr>
            <a:xfrm>
              <a:off x="3781440" y="2619000"/>
              <a:ext cx="757080" cy="31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35280" y="2579760"/>
              <a:ext cx="265320" cy="11088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0" y="70"/>
                  </a:moveTo>
                  <a:lnTo>
                    <a:pt x="16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888840" y="2860560"/>
            <a:ext cx="122400" cy="903240"/>
            <a:chOff x="888840" y="2860560"/>
            <a:chExt cx="122400" cy="903240"/>
          </a:xfrm>
        </p:grpSpPr>
        <p:sp>
          <p:nvSpPr>
            <p:cNvPr id="277" name=""/>
            <p:cNvSpPr/>
            <p:nvPr/>
          </p:nvSpPr>
          <p:spPr>
            <a:xfrm flipV="1">
              <a:off x="949320" y="2979720"/>
              <a:ext cx="1440" cy="78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88840" y="286056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77"/>
                  </a:moveTo>
                  <a:lnTo>
                    <a:pt x="38" y="0"/>
                  </a:lnTo>
                  <a:lnTo>
                    <a:pt x="0" y="77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062000" y="2860560"/>
            <a:ext cx="1812960" cy="1016280"/>
            <a:chOff x="1062000" y="2860560"/>
            <a:chExt cx="1812960" cy="1016280"/>
          </a:xfrm>
        </p:grpSpPr>
        <p:sp>
          <p:nvSpPr>
            <p:cNvPr id="280" name=""/>
            <p:cNvSpPr/>
            <p:nvPr/>
          </p:nvSpPr>
          <p:spPr>
            <a:xfrm>
              <a:off x="1062000" y="2860560"/>
              <a:ext cx="1709640" cy="9604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736720" y="3763800"/>
              <a:ext cx="138240" cy="113040"/>
            </a:xfrm>
            <a:custGeom>
              <a:avLst/>
              <a:gdLst/>
              <a:ahLst/>
              <a:rect l="l" t="t" r="r" b="b"/>
              <a:pathLst>
                <a:path w="87" h="71">
                  <a:moveTo>
                    <a:pt x="0" y="68"/>
                  </a:moveTo>
                  <a:lnTo>
                    <a:pt x="87" y="71"/>
                  </a:lnTo>
                  <a:lnTo>
                    <a:pt x="38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308320" y="3538440"/>
            <a:ext cx="568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64560" y="354348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96680" y="343044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72560" y="3425760"/>
            <a:ext cx="568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128800" y="343044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14800" y="3425760"/>
            <a:ext cx="568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2000" y="3425760"/>
            <a:ext cx="343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71440" y="3430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74960" y="3086280"/>
            <a:ext cx="34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84400" y="30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75240" y="3086280"/>
            <a:ext cx="34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84680" y="30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67520" y="2860560"/>
            <a:ext cx="341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176960" y="2865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89160" y="2860560"/>
            <a:ext cx="341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358640" y="2865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28920" y="2973240"/>
            <a:ext cx="341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07080" y="2973240"/>
            <a:ext cx="3412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76560" y="29797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972560" y="2860560"/>
            <a:ext cx="3427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42040" y="2865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449880" y="340056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41320" y="28717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266688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91120" y="266688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266688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276720" y="1981080"/>
            <a:ext cx="74520" cy="307800"/>
            <a:chOff x="3276720" y="1981080"/>
            <a:chExt cx="74520" cy="307800"/>
          </a:xfrm>
        </p:grpSpPr>
        <p:sp>
          <p:nvSpPr>
            <p:cNvPr id="309" name=""/>
            <p:cNvSpPr/>
            <p:nvPr/>
          </p:nvSpPr>
          <p:spPr>
            <a:xfrm>
              <a:off x="3313080" y="1981080"/>
              <a:ext cx="1800" cy="198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76720" y="217620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0"/>
                  </a:moveTo>
                  <a:lnTo>
                    <a:pt x="24" y="71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1600200" y="39625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2819520" y="1523880"/>
            <a:ext cx="914400" cy="423720"/>
            <a:chOff x="2819520" y="1523880"/>
            <a:chExt cx="914400" cy="423720"/>
          </a:xfrm>
        </p:grpSpPr>
        <p:sp>
          <p:nvSpPr>
            <p:cNvPr id="313" name=""/>
            <p:cNvSpPr/>
            <p:nvPr/>
          </p:nvSpPr>
          <p:spPr>
            <a:xfrm>
              <a:off x="2819520" y="1523880"/>
              <a:ext cx="91440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896920" y="1676160"/>
              <a:ext cx="71856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rrect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772400" y="1981080"/>
            <a:ext cx="74520" cy="307800"/>
            <a:chOff x="7772400" y="1981080"/>
            <a:chExt cx="74520" cy="307800"/>
          </a:xfrm>
        </p:grpSpPr>
        <p:sp>
          <p:nvSpPr>
            <p:cNvPr id="316" name=""/>
            <p:cNvSpPr/>
            <p:nvPr/>
          </p:nvSpPr>
          <p:spPr>
            <a:xfrm>
              <a:off x="7808760" y="1981080"/>
              <a:ext cx="1800" cy="198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72400" y="217620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0"/>
                  </a:moveTo>
                  <a:lnTo>
                    <a:pt x="24" y="71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315200" y="1523880"/>
            <a:ext cx="914400" cy="423720"/>
            <a:chOff x="7315200" y="1523880"/>
            <a:chExt cx="914400" cy="423720"/>
          </a:xfrm>
        </p:grpSpPr>
        <p:sp>
          <p:nvSpPr>
            <p:cNvPr id="319" name=""/>
            <p:cNvSpPr/>
            <p:nvPr/>
          </p:nvSpPr>
          <p:spPr>
            <a:xfrm>
              <a:off x="7315200" y="1523880"/>
              <a:ext cx="91440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92600" y="1676160"/>
              <a:ext cx="71856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rrect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562720" y="1981080"/>
            <a:ext cx="74520" cy="307800"/>
            <a:chOff x="5562720" y="1981080"/>
            <a:chExt cx="74520" cy="307800"/>
          </a:xfrm>
        </p:grpSpPr>
        <p:sp>
          <p:nvSpPr>
            <p:cNvPr id="322" name=""/>
            <p:cNvSpPr/>
            <p:nvPr/>
          </p:nvSpPr>
          <p:spPr>
            <a:xfrm>
              <a:off x="5599080" y="1981080"/>
              <a:ext cx="1800" cy="198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2720" y="217620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0"/>
                  </a:moveTo>
                  <a:lnTo>
                    <a:pt x="24" y="71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105520" y="1523880"/>
            <a:ext cx="914400" cy="423720"/>
            <a:chOff x="5105520" y="1523880"/>
            <a:chExt cx="914400" cy="423720"/>
          </a:xfrm>
        </p:grpSpPr>
        <p:sp>
          <p:nvSpPr>
            <p:cNvPr id="325" name=""/>
            <p:cNvSpPr/>
            <p:nvPr/>
          </p:nvSpPr>
          <p:spPr>
            <a:xfrm>
              <a:off x="5105520" y="1523880"/>
              <a:ext cx="91440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82920" y="1676160"/>
              <a:ext cx="71856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rrect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066680" y="1981080"/>
            <a:ext cx="74520" cy="307800"/>
            <a:chOff x="1066680" y="1981080"/>
            <a:chExt cx="74520" cy="307800"/>
          </a:xfrm>
        </p:grpSpPr>
        <p:sp>
          <p:nvSpPr>
            <p:cNvPr id="328" name=""/>
            <p:cNvSpPr/>
            <p:nvPr/>
          </p:nvSpPr>
          <p:spPr>
            <a:xfrm>
              <a:off x="1103040" y="1981080"/>
              <a:ext cx="1800" cy="198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066680" y="2176200"/>
              <a:ext cx="74520" cy="112680"/>
            </a:xfrm>
            <a:custGeom>
              <a:avLst/>
              <a:gdLst/>
              <a:ahLst/>
              <a:rect l="l" t="t" r="r" b="b"/>
              <a:pathLst>
                <a:path w="47" h="71">
                  <a:moveTo>
                    <a:pt x="0" y="0"/>
                  </a:moveTo>
                  <a:lnTo>
                    <a:pt x="24" y="71"/>
                  </a:lnTo>
                  <a:lnTo>
                    <a:pt x="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609480" y="1523880"/>
            <a:ext cx="914400" cy="423720"/>
            <a:chOff x="609480" y="1523880"/>
            <a:chExt cx="914400" cy="423720"/>
          </a:xfrm>
        </p:grpSpPr>
        <p:sp>
          <p:nvSpPr>
            <p:cNvPr id="331" name=""/>
            <p:cNvSpPr/>
            <p:nvPr/>
          </p:nvSpPr>
          <p:spPr>
            <a:xfrm>
              <a:off x="609480" y="1523880"/>
              <a:ext cx="91440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6880" y="1676160"/>
              <a:ext cx="71856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rrect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9480" y="4724280"/>
            <a:ext cx="1044360" cy="423720"/>
            <a:chOff x="609480" y="4724280"/>
            <a:chExt cx="1044360" cy="423720"/>
          </a:xfrm>
        </p:grpSpPr>
        <p:sp>
          <p:nvSpPr>
            <p:cNvPr id="334" name=""/>
            <p:cNvSpPr/>
            <p:nvPr/>
          </p:nvSpPr>
          <p:spPr>
            <a:xfrm>
              <a:off x="609480" y="472428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97320" y="4876560"/>
              <a:ext cx="8557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mplete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523880" y="5029200"/>
            <a:ext cx="1044360" cy="423720"/>
            <a:chOff x="1523880" y="5029200"/>
            <a:chExt cx="1044360" cy="423720"/>
          </a:xfrm>
        </p:grpSpPr>
        <p:sp>
          <p:nvSpPr>
            <p:cNvPr id="337" name=""/>
            <p:cNvSpPr/>
            <p:nvPr/>
          </p:nvSpPr>
          <p:spPr>
            <a:xfrm>
              <a:off x="1523880" y="502920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11360" y="5181480"/>
              <a:ext cx="7459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nsistency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2689200" y="4724280"/>
            <a:ext cx="1044360" cy="423720"/>
            <a:chOff x="2689200" y="4724280"/>
            <a:chExt cx="1044360" cy="423720"/>
          </a:xfrm>
        </p:grpSpPr>
        <p:sp>
          <p:nvSpPr>
            <p:cNvPr id="340" name=""/>
            <p:cNvSpPr/>
            <p:nvPr/>
          </p:nvSpPr>
          <p:spPr>
            <a:xfrm>
              <a:off x="2689200" y="472428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77040" y="4876560"/>
              <a:ext cx="8557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mplete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603600" y="5029200"/>
            <a:ext cx="1044360" cy="423720"/>
            <a:chOff x="3603600" y="5029200"/>
            <a:chExt cx="1044360" cy="423720"/>
          </a:xfrm>
        </p:grpSpPr>
        <p:sp>
          <p:nvSpPr>
            <p:cNvPr id="343" name=""/>
            <p:cNvSpPr/>
            <p:nvPr/>
          </p:nvSpPr>
          <p:spPr>
            <a:xfrm>
              <a:off x="3603600" y="502920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91080" y="5181480"/>
              <a:ext cx="7459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nsistency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746600" y="4724280"/>
            <a:ext cx="1044360" cy="423720"/>
            <a:chOff x="4746600" y="4724280"/>
            <a:chExt cx="1044360" cy="423720"/>
          </a:xfrm>
        </p:grpSpPr>
        <p:sp>
          <p:nvSpPr>
            <p:cNvPr id="346" name=""/>
            <p:cNvSpPr/>
            <p:nvPr/>
          </p:nvSpPr>
          <p:spPr>
            <a:xfrm>
              <a:off x="4746600" y="472428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34440" y="4876560"/>
              <a:ext cx="8557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mplete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5661000" y="5029200"/>
            <a:ext cx="1044360" cy="423720"/>
            <a:chOff x="5661000" y="5029200"/>
            <a:chExt cx="1044360" cy="423720"/>
          </a:xfrm>
        </p:grpSpPr>
        <p:sp>
          <p:nvSpPr>
            <p:cNvPr id="349" name=""/>
            <p:cNvSpPr/>
            <p:nvPr/>
          </p:nvSpPr>
          <p:spPr>
            <a:xfrm>
              <a:off x="5661000" y="502920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48480" y="5181480"/>
              <a:ext cx="7459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nsistency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727680" y="4724280"/>
            <a:ext cx="1044360" cy="423720"/>
            <a:chOff x="6727680" y="4724280"/>
            <a:chExt cx="1044360" cy="423720"/>
          </a:xfrm>
        </p:grpSpPr>
        <p:sp>
          <p:nvSpPr>
            <p:cNvPr id="352" name=""/>
            <p:cNvSpPr/>
            <p:nvPr/>
          </p:nvSpPr>
          <p:spPr>
            <a:xfrm>
              <a:off x="6727680" y="472428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15520" y="4876560"/>
              <a:ext cx="8557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mpletenes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7642080" y="5029200"/>
            <a:ext cx="1044360" cy="423720"/>
            <a:chOff x="7642080" y="5029200"/>
            <a:chExt cx="1044360" cy="423720"/>
          </a:xfrm>
        </p:grpSpPr>
        <p:sp>
          <p:nvSpPr>
            <p:cNvPr id="355" name=""/>
            <p:cNvSpPr/>
            <p:nvPr/>
          </p:nvSpPr>
          <p:spPr>
            <a:xfrm>
              <a:off x="7642080" y="5029200"/>
              <a:ext cx="1044360" cy="423720"/>
            </a:xfrm>
            <a:prstGeom prst="ellipse">
              <a:avLst/>
            </a:prstGeom>
            <a:solidFill>
              <a:srgbClr val="ffff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729560" y="5181480"/>
              <a:ext cx="745920" cy="182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3366"/>
                  </a:solidFill>
                  <a:latin typeface="Times New Roman"/>
                </a:rPr>
                <a:t>Consistency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2819520" y="3809880"/>
            <a:ext cx="5790960" cy="762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106668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1143000" y="434304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3200400" y="4343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 flipV="1">
            <a:off x="3276720" y="4343040"/>
            <a:ext cx="914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5257800" y="43434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5943240" y="4343040"/>
            <a:ext cx="2286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7238880" y="4343400"/>
            <a:ext cx="6098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 flipV="1">
            <a:off x="7924320" y="4343040"/>
            <a:ext cx="3049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74960" y="3876840"/>
            <a:ext cx="795240" cy="453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66120" y="398448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79920" y="3876840"/>
            <a:ext cx="784440" cy="453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35360" y="398448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lass_inf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20040" y="3876840"/>
            <a:ext cx="681120" cy="4539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762680" y="398448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041640" y="2860560"/>
            <a:ext cx="122040" cy="1016280"/>
            <a:chOff x="3041640" y="2860560"/>
            <a:chExt cx="122040" cy="1016280"/>
          </a:xfrm>
        </p:grpSpPr>
        <p:sp>
          <p:nvSpPr>
            <p:cNvPr id="373" name=""/>
            <p:cNvSpPr/>
            <p:nvPr/>
          </p:nvSpPr>
          <p:spPr>
            <a:xfrm flipV="1">
              <a:off x="3101760" y="2979720"/>
              <a:ext cx="1800" cy="897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1640" y="286056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77"/>
                  </a:moveTo>
                  <a:lnTo>
                    <a:pt x="38" y="0"/>
                  </a:lnTo>
                  <a:lnTo>
                    <a:pt x="0" y="77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441600" y="2860560"/>
            <a:ext cx="1585800" cy="1015920"/>
            <a:chOff x="3441600" y="2860560"/>
            <a:chExt cx="1585800" cy="1015920"/>
          </a:xfrm>
        </p:grpSpPr>
        <p:sp>
          <p:nvSpPr>
            <p:cNvPr id="376" name=""/>
            <p:cNvSpPr/>
            <p:nvPr/>
          </p:nvSpPr>
          <p:spPr>
            <a:xfrm flipV="1">
              <a:off x="3441600" y="2922120"/>
              <a:ext cx="1485720" cy="954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90960" y="2860560"/>
              <a:ext cx="136440" cy="11916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42" y="75"/>
                  </a:moveTo>
                  <a:lnTo>
                    <a:pt x="86" y="0"/>
                  </a:lnTo>
                  <a:lnTo>
                    <a:pt x="0" y="9"/>
                  </a:lnTo>
                  <a:lnTo>
                    <a:pt x="4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532480" y="2860560"/>
            <a:ext cx="122040" cy="1016280"/>
            <a:chOff x="5532480" y="2860560"/>
            <a:chExt cx="122040" cy="1016280"/>
          </a:xfrm>
        </p:grpSpPr>
        <p:sp>
          <p:nvSpPr>
            <p:cNvPr id="379" name=""/>
            <p:cNvSpPr/>
            <p:nvPr/>
          </p:nvSpPr>
          <p:spPr>
            <a:xfrm>
              <a:off x="5594400" y="2860560"/>
              <a:ext cx="1440" cy="898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532480" y="375444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934240" y="2860560"/>
            <a:ext cx="1698120" cy="1015920"/>
            <a:chOff x="5934240" y="2860560"/>
            <a:chExt cx="1698120" cy="1015920"/>
          </a:xfrm>
        </p:grpSpPr>
        <p:sp>
          <p:nvSpPr>
            <p:cNvPr id="382" name=""/>
            <p:cNvSpPr/>
            <p:nvPr/>
          </p:nvSpPr>
          <p:spPr>
            <a:xfrm flipV="1">
              <a:off x="5934240" y="2919240"/>
              <a:ext cx="1596600" cy="9572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97720" y="2860560"/>
              <a:ext cx="134640" cy="11448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39" y="72"/>
                  </a:moveTo>
                  <a:lnTo>
                    <a:pt x="85" y="0"/>
                  </a:lnTo>
                  <a:lnTo>
                    <a:pt x="0" y="6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140440" y="3425760"/>
            <a:ext cx="5680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297240" y="2867040"/>
            <a:ext cx="122400" cy="1015560"/>
            <a:chOff x="3297240" y="2867040"/>
            <a:chExt cx="122400" cy="1015560"/>
          </a:xfrm>
        </p:grpSpPr>
        <p:sp>
          <p:nvSpPr>
            <p:cNvPr id="386" name=""/>
            <p:cNvSpPr/>
            <p:nvPr/>
          </p:nvSpPr>
          <p:spPr>
            <a:xfrm>
              <a:off x="3359160" y="2867040"/>
              <a:ext cx="1800" cy="898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97240" y="3760560"/>
              <a:ext cx="12240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809880" y="42670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393939"/>
                </a:solidFill>
                <a:latin typeface="Times New Roman"/>
              </a:rPr>
              <a:t>DW databas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7797960" y="2860560"/>
            <a:ext cx="122040" cy="1016280"/>
            <a:chOff x="7797960" y="2860560"/>
            <a:chExt cx="122040" cy="1016280"/>
          </a:xfrm>
        </p:grpSpPr>
        <p:sp>
          <p:nvSpPr>
            <p:cNvPr id="390" name=""/>
            <p:cNvSpPr/>
            <p:nvPr/>
          </p:nvSpPr>
          <p:spPr>
            <a:xfrm>
              <a:off x="7859520" y="2860560"/>
              <a:ext cx="1440" cy="898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97960" y="3754440"/>
              <a:ext cx="12204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F93-BE8E-441F-9049-B5EE9B3428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Conceptual Perspective: Role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o model the interrelationships both of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takeholders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DW architecture elements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(Actor Dependency Model [Yu and Mylopoulos ‘94]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Stakeholder X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depends on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Table T1 due to political reasons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‘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able T3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is suitable for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View V1 due to proper quality of data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A7F8-E30E-4E07-8041-65BE200CD40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Suitability for the evolution of a DW 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1523880"/>
            <a:ext cx="815508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646280"/>
            <a:ext cx="73836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23880" y="1774800"/>
            <a:ext cx="704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24600" y="177804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76400" y="1646280"/>
            <a:ext cx="84780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74960" y="1778040"/>
            <a:ext cx="7952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88360" y="177948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lean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97440" y="1646280"/>
            <a:ext cx="1265400" cy="4255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954680" y="1779480"/>
            <a:ext cx="10969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091480" y="1782720"/>
            <a:ext cx="79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62920" y="1646280"/>
            <a:ext cx="1265040" cy="4255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19800" y="1779480"/>
            <a:ext cx="109728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374960" y="1782720"/>
            <a:ext cx="76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Aggreg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74960" y="3114720"/>
            <a:ext cx="79524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66120" y="322272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257800" y="3114720"/>
            <a:ext cx="78408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13240" y="3222720"/>
            <a:ext cx="65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lass_inf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62680" y="32227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2160" y="3114720"/>
            <a:ext cx="55728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7080" y="3222720"/>
            <a:ext cx="29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B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1401840" y="1817640"/>
            <a:ext cx="1360080" cy="111240"/>
            <a:chOff x="1401840" y="1817640"/>
            <a:chExt cx="1360080" cy="111240"/>
          </a:xfrm>
        </p:grpSpPr>
        <p:sp>
          <p:nvSpPr>
            <p:cNvPr id="416" name=""/>
            <p:cNvSpPr/>
            <p:nvPr/>
          </p:nvSpPr>
          <p:spPr>
            <a:xfrm>
              <a:off x="1401840" y="1857240"/>
              <a:ext cx="10969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95520" y="1817640"/>
              <a:ext cx="266400" cy="111240"/>
            </a:xfrm>
            <a:custGeom>
              <a:avLst/>
              <a:gdLst/>
              <a:ahLst/>
              <a:rect l="l" t="t" r="r" b="b"/>
              <a:pathLst>
                <a:path w="168" h="70">
                  <a:moveTo>
                    <a:pt x="0" y="70"/>
                  </a:moveTo>
                  <a:lnTo>
                    <a:pt x="168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1515960" y="164628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91080" y="165276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08600" y="1646280"/>
            <a:ext cx="56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58000" y="165276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6256440" y="1805040"/>
            <a:ext cx="793800" cy="110880"/>
            <a:chOff x="6256440" y="1805040"/>
            <a:chExt cx="793800" cy="110880"/>
          </a:xfrm>
        </p:grpSpPr>
        <p:sp>
          <p:nvSpPr>
            <p:cNvPr id="423" name=""/>
            <p:cNvSpPr/>
            <p:nvPr/>
          </p:nvSpPr>
          <p:spPr>
            <a:xfrm>
              <a:off x="6256440" y="1841400"/>
              <a:ext cx="532080" cy="34920"/>
            </a:xfrm>
            <a:custGeom>
              <a:avLst/>
              <a:gdLst/>
              <a:ahLst/>
              <a:rect l="l" t="t" r="r" b="b"/>
              <a:pathLst>
                <a:path w="335" h="22">
                  <a:moveTo>
                    <a:pt x="0" y="0"/>
                  </a:moveTo>
                  <a:lnTo>
                    <a:pt x="0" y="21"/>
                  </a:lnTo>
                  <a:lnTo>
                    <a:pt x="335" y="22"/>
                  </a:lnTo>
                  <a:lnTo>
                    <a:pt x="33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3480" y="1805040"/>
              <a:ext cx="266760" cy="110880"/>
            </a:xfrm>
            <a:custGeom>
              <a:avLst/>
              <a:gdLst/>
              <a:ahLst/>
              <a:rect l="l" t="t" r="r" b="b"/>
              <a:pathLst>
                <a:path w="168" h="70">
                  <a:moveTo>
                    <a:pt x="0" y="70"/>
                  </a:moveTo>
                  <a:lnTo>
                    <a:pt x="168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6256440" y="1646280"/>
            <a:ext cx="682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463080" y="165276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3781440" y="1817640"/>
            <a:ext cx="1019160" cy="111240"/>
            <a:chOff x="3781440" y="1817640"/>
            <a:chExt cx="1019160" cy="111240"/>
          </a:xfrm>
        </p:grpSpPr>
        <p:sp>
          <p:nvSpPr>
            <p:cNvPr id="428" name=""/>
            <p:cNvSpPr/>
            <p:nvPr/>
          </p:nvSpPr>
          <p:spPr>
            <a:xfrm>
              <a:off x="3781440" y="1857240"/>
              <a:ext cx="75708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535280" y="1817640"/>
              <a:ext cx="265320" cy="111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0" y="70"/>
                  </a:moveTo>
                  <a:lnTo>
                    <a:pt x="16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888840" y="2098800"/>
            <a:ext cx="122400" cy="903240"/>
            <a:chOff x="888840" y="2098800"/>
            <a:chExt cx="122400" cy="903240"/>
          </a:xfrm>
        </p:grpSpPr>
        <p:sp>
          <p:nvSpPr>
            <p:cNvPr id="431" name=""/>
            <p:cNvSpPr/>
            <p:nvPr/>
          </p:nvSpPr>
          <p:spPr>
            <a:xfrm flipV="1">
              <a:off x="949320" y="2217960"/>
              <a:ext cx="1440" cy="784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8840" y="209880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77"/>
                  </a:moveTo>
                  <a:lnTo>
                    <a:pt x="38" y="0"/>
                  </a:lnTo>
                  <a:lnTo>
                    <a:pt x="0" y="77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1062000" y="2098800"/>
            <a:ext cx="1812960" cy="1015560"/>
            <a:chOff x="1062000" y="2098800"/>
            <a:chExt cx="1812960" cy="1015560"/>
          </a:xfrm>
        </p:grpSpPr>
        <p:sp>
          <p:nvSpPr>
            <p:cNvPr id="434" name=""/>
            <p:cNvSpPr/>
            <p:nvPr/>
          </p:nvSpPr>
          <p:spPr>
            <a:xfrm>
              <a:off x="1062000" y="2098800"/>
              <a:ext cx="1709640" cy="960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36720" y="3001680"/>
              <a:ext cx="138240" cy="112680"/>
            </a:xfrm>
            <a:custGeom>
              <a:avLst/>
              <a:gdLst/>
              <a:ahLst/>
              <a:rect l="l" t="t" r="r" b="b"/>
              <a:pathLst>
                <a:path w="87" h="71">
                  <a:moveTo>
                    <a:pt x="0" y="68"/>
                  </a:moveTo>
                  <a:lnTo>
                    <a:pt x="87" y="71"/>
                  </a:lnTo>
                  <a:lnTo>
                    <a:pt x="38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041640" y="2098800"/>
            <a:ext cx="122040" cy="1015200"/>
            <a:chOff x="3041640" y="2098800"/>
            <a:chExt cx="122040" cy="1015200"/>
          </a:xfrm>
        </p:grpSpPr>
        <p:sp>
          <p:nvSpPr>
            <p:cNvPr id="437" name=""/>
            <p:cNvSpPr/>
            <p:nvPr/>
          </p:nvSpPr>
          <p:spPr>
            <a:xfrm flipV="1">
              <a:off x="3101760" y="2217240"/>
              <a:ext cx="1800" cy="8967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41640" y="209880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77" y="77"/>
                  </a:moveTo>
                  <a:lnTo>
                    <a:pt x="38" y="0"/>
                  </a:lnTo>
                  <a:lnTo>
                    <a:pt x="0" y="77"/>
                  </a:lnTo>
                  <a:lnTo>
                    <a:pt x="77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441600" y="2098800"/>
            <a:ext cx="1585800" cy="1015560"/>
            <a:chOff x="3441600" y="2098800"/>
            <a:chExt cx="1585800" cy="1015560"/>
          </a:xfrm>
        </p:grpSpPr>
        <p:sp>
          <p:nvSpPr>
            <p:cNvPr id="440" name=""/>
            <p:cNvSpPr/>
            <p:nvPr/>
          </p:nvSpPr>
          <p:spPr>
            <a:xfrm flipV="1">
              <a:off x="3441600" y="2160360"/>
              <a:ext cx="1485720" cy="9540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90960" y="2098800"/>
              <a:ext cx="136440" cy="118800"/>
            </a:xfrm>
            <a:custGeom>
              <a:avLst/>
              <a:gdLst/>
              <a:ahLst/>
              <a:rect l="l" t="t" r="r" b="b"/>
              <a:pathLst>
                <a:path w="86" h="75">
                  <a:moveTo>
                    <a:pt x="42" y="75"/>
                  </a:moveTo>
                  <a:lnTo>
                    <a:pt x="86" y="0"/>
                  </a:lnTo>
                  <a:lnTo>
                    <a:pt x="0" y="9"/>
                  </a:lnTo>
                  <a:lnTo>
                    <a:pt x="42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532480" y="2098800"/>
            <a:ext cx="122040" cy="1015560"/>
            <a:chOff x="5532480" y="2098800"/>
            <a:chExt cx="122040" cy="1015560"/>
          </a:xfrm>
        </p:grpSpPr>
        <p:sp>
          <p:nvSpPr>
            <p:cNvPr id="443" name=""/>
            <p:cNvSpPr/>
            <p:nvPr/>
          </p:nvSpPr>
          <p:spPr>
            <a:xfrm>
              <a:off x="5594400" y="2098800"/>
              <a:ext cx="1440" cy="898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32480" y="299232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6172200" y="2133720"/>
            <a:ext cx="1469520" cy="837720"/>
            <a:chOff x="6172200" y="2133720"/>
            <a:chExt cx="1469520" cy="837720"/>
          </a:xfrm>
        </p:grpSpPr>
        <p:sp>
          <p:nvSpPr>
            <p:cNvPr id="446" name=""/>
            <p:cNvSpPr/>
            <p:nvPr/>
          </p:nvSpPr>
          <p:spPr>
            <a:xfrm flipV="1">
              <a:off x="6172200" y="2182320"/>
              <a:ext cx="1381680" cy="789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525080" y="2133720"/>
              <a:ext cx="116640" cy="94320"/>
            </a:xfrm>
            <a:custGeom>
              <a:avLst/>
              <a:gdLst/>
              <a:ahLst/>
              <a:rect l="l" t="t" r="r" b="b"/>
              <a:pathLst>
                <a:path w="85" h="72">
                  <a:moveTo>
                    <a:pt x="39" y="72"/>
                  </a:moveTo>
                  <a:lnTo>
                    <a:pt x="85" y="0"/>
                  </a:lnTo>
                  <a:lnTo>
                    <a:pt x="0" y="6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7797960" y="2098800"/>
            <a:ext cx="122040" cy="1015560"/>
            <a:chOff x="7797960" y="2098800"/>
            <a:chExt cx="122040" cy="1015560"/>
          </a:xfrm>
        </p:grpSpPr>
        <p:sp>
          <p:nvSpPr>
            <p:cNvPr id="449" name=""/>
            <p:cNvSpPr/>
            <p:nvPr/>
          </p:nvSpPr>
          <p:spPr>
            <a:xfrm>
              <a:off x="7859520" y="2098800"/>
              <a:ext cx="1440" cy="89820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97960" y="2992320"/>
              <a:ext cx="122040" cy="12204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308320" y="2776680"/>
            <a:ext cx="568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464560" y="278136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140440" y="2664000"/>
            <a:ext cx="568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96680" y="266868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972560" y="2664000"/>
            <a:ext cx="568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28800" y="266868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14800" y="2664000"/>
            <a:ext cx="568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062000" y="2664000"/>
            <a:ext cx="343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171440" y="2668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74960" y="2324160"/>
            <a:ext cx="34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84400" y="233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75240" y="2324160"/>
            <a:ext cx="341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684680" y="233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67520" y="2098800"/>
            <a:ext cx="3412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176960" y="2103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89160" y="2098800"/>
            <a:ext cx="3412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358640" y="21034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328920" y="2211480"/>
            <a:ext cx="3412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07080" y="2211480"/>
            <a:ext cx="3412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38680" y="26668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972560" y="2098800"/>
            <a:ext cx="3427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042040" y="21034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3297240" y="2104920"/>
            <a:ext cx="122400" cy="1016280"/>
            <a:chOff x="3297240" y="2104920"/>
            <a:chExt cx="122400" cy="1016280"/>
          </a:xfrm>
        </p:grpSpPr>
        <p:sp>
          <p:nvSpPr>
            <p:cNvPr id="474" name=""/>
            <p:cNvSpPr/>
            <p:nvPr/>
          </p:nvSpPr>
          <p:spPr>
            <a:xfrm>
              <a:off x="3359160" y="2104920"/>
              <a:ext cx="1800" cy="8985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297240" y="2998800"/>
              <a:ext cx="122400" cy="122400"/>
            </a:xfrm>
            <a:custGeom>
              <a:avLst/>
              <a:gdLst/>
              <a:ahLst/>
              <a:rect l="l" t="t" r="r" b="b"/>
              <a:pathLst>
                <a:path w="77" h="77">
                  <a:moveTo>
                    <a:pt x="0" y="0"/>
                  </a:moveTo>
                  <a:lnTo>
                    <a:pt x="39" y="77"/>
                  </a:lnTo>
                  <a:lnTo>
                    <a:pt x="7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449880" y="263844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41320" y="210996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57400" y="190512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91120" y="190512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400800" y="190512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480" y="5578560"/>
            <a:ext cx="73836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3880" y="5707080"/>
            <a:ext cx="704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24600" y="5710320"/>
            <a:ext cx="50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Load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876400" y="5578560"/>
            <a:ext cx="847800" cy="4237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74960" y="5710320"/>
            <a:ext cx="7952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88360" y="571176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leaning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97440" y="5578560"/>
            <a:ext cx="1265400" cy="4255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954680" y="5711760"/>
            <a:ext cx="1096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091480" y="5715000"/>
            <a:ext cx="79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219800" y="5711760"/>
            <a:ext cx="1097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1401840" y="5749920"/>
            <a:ext cx="1360080" cy="111240"/>
            <a:chOff x="1401840" y="5749920"/>
            <a:chExt cx="1360080" cy="111240"/>
          </a:xfrm>
        </p:grpSpPr>
        <p:sp>
          <p:nvSpPr>
            <p:cNvPr id="492" name=""/>
            <p:cNvSpPr/>
            <p:nvPr/>
          </p:nvSpPr>
          <p:spPr>
            <a:xfrm>
              <a:off x="1401840" y="5789520"/>
              <a:ext cx="109692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95520" y="5749920"/>
              <a:ext cx="266400" cy="111240"/>
            </a:xfrm>
            <a:custGeom>
              <a:avLst/>
              <a:gdLst/>
              <a:ahLst/>
              <a:rect l="l" t="t" r="r" b="b"/>
              <a:pathLst>
                <a:path w="168" h="70">
                  <a:moveTo>
                    <a:pt x="0" y="70"/>
                  </a:moveTo>
                  <a:lnTo>
                    <a:pt x="168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1515960" y="5578560"/>
            <a:ext cx="102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891080" y="55846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08600" y="5578560"/>
            <a:ext cx="568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58000" y="5584680"/>
            <a:ext cx="26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781440" y="5749920"/>
            <a:ext cx="1019160" cy="111240"/>
            <a:chOff x="3781440" y="5749920"/>
            <a:chExt cx="1019160" cy="111240"/>
          </a:xfrm>
        </p:grpSpPr>
        <p:sp>
          <p:nvSpPr>
            <p:cNvPr id="499" name=""/>
            <p:cNvSpPr/>
            <p:nvPr/>
          </p:nvSpPr>
          <p:spPr>
            <a:xfrm>
              <a:off x="3781440" y="5789520"/>
              <a:ext cx="757080" cy="3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535280" y="5749920"/>
              <a:ext cx="265320" cy="111240"/>
            </a:xfrm>
            <a:custGeom>
              <a:avLst/>
              <a:gdLst/>
              <a:ahLst/>
              <a:rect l="l" t="t" r="r" b="b"/>
              <a:pathLst>
                <a:path w="167" h="70">
                  <a:moveTo>
                    <a:pt x="0" y="70"/>
                  </a:moveTo>
                  <a:lnTo>
                    <a:pt x="167" y="34"/>
                  </a:lnTo>
                  <a:lnTo>
                    <a:pt x="0" y="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2057400" y="583740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191120" y="583740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03400" y="4041720"/>
            <a:ext cx="79560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94560" y="4149720"/>
            <a:ext cx="39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286240" y="4041720"/>
            <a:ext cx="78444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42400" y="4149720"/>
            <a:ext cx="61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Dept_info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0960" y="4041720"/>
            <a:ext cx="55728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75880" y="4149720"/>
            <a:ext cx="298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B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990720" y="4495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143000" y="4495320"/>
            <a:ext cx="175248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400" y="4495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3352680" y="4495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657600" y="4495680"/>
            <a:ext cx="160020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562720" y="4495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77520" y="471636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184040" y="460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295280" y="51814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02400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29360" y="4648320"/>
            <a:ext cx="29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428640" y="53341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29200" y="5181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57080" y="4800600"/>
            <a:ext cx="24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I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638680" y="464832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095880" y="1600200"/>
            <a:ext cx="2438640" cy="4420080"/>
            <a:chOff x="6095880" y="1600200"/>
            <a:chExt cx="2438640" cy="4420080"/>
          </a:xfrm>
        </p:grpSpPr>
        <p:grpSp>
          <p:nvGrpSpPr>
            <p:cNvPr id="525" name=""/>
            <p:cNvGrpSpPr/>
            <p:nvPr/>
          </p:nvGrpSpPr>
          <p:grpSpPr>
            <a:xfrm>
              <a:off x="6256440" y="5737320"/>
              <a:ext cx="793800" cy="110880"/>
              <a:chOff x="6256440" y="5737320"/>
              <a:chExt cx="793800" cy="110880"/>
            </a:xfrm>
          </p:grpSpPr>
          <p:sp>
            <p:nvSpPr>
              <p:cNvPr id="526" name=""/>
              <p:cNvSpPr/>
              <p:nvPr/>
            </p:nvSpPr>
            <p:spPr>
              <a:xfrm>
                <a:off x="6256440" y="5773680"/>
                <a:ext cx="532080" cy="34920"/>
              </a:xfrm>
              <a:custGeom>
                <a:avLst/>
                <a:gdLst/>
                <a:ahLst/>
                <a:rect l="l" t="t" r="r" b="b"/>
                <a:pathLst>
                  <a:path w="335" h="22">
                    <a:moveTo>
                      <a:pt x="0" y="0"/>
                    </a:moveTo>
                    <a:lnTo>
                      <a:pt x="0" y="21"/>
                    </a:lnTo>
                    <a:lnTo>
                      <a:pt x="335" y="22"/>
                    </a:lnTo>
                    <a:lnTo>
                      <a:pt x="33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783480" y="5737320"/>
                <a:ext cx="266760" cy="110880"/>
              </a:xfrm>
              <a:custGeom>
                <a:avLst/>
                <a:gdLst/>
                <a:ahLst/>
                <a:rect l="l" t="t" r="r" b="b"/>
                <a:pathLst>
                  <a:path w="168" h="70">
                    <a:moveTo>
                      <a:pt x="0" y="70"/>
                    </a:moveTo>
                    <a:lnTo>
                      <a:pt x="168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095880" y="1600200"/>
              <a:ext cx="2438640" cy="4420080"/>
              <a:chOff x="6095880" y="1600200"/>
              <a:chExt cx="2438640" cy="442008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095880" y="3581280"/>
                <a:ext cx="2332080" cy="2439000"/>
                <a:chOff x="6095880" y="3581280"/>
                <a:chExt cx="2332080" cy="243900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162920" y="5578560"/>
                  <a:ext cx="1265040" cy="425520"/>
                </a:xfrm>
                <a:prstGeom prst="ellipse">
                  <a:avLst/>
                </a:prstGeom>
                <a:solidFill>
                  <a:srgbClr val="c0c0c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374960" y="5715000"/>
                  <a:ext cx="761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Aggregation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256440" y="5578560"/>
                  <a:ext cx="6825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463080" y="5584680"/>
                  <a:ext cx="2628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next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400800" y="5837400"/>
                  <a:ext cx="6858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COMMIT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095880" y="4495680"/>
                  <a:ext cx="1295640" cy="106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7848720" y="3581280"/>
                  <a:ext cx="0" cy="198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7238880" y="5181480"/>
                  <a:ext cx="11952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in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7466760" y="4038480"/>
                  <a:ext cx="246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INS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7924680" y="3733920"/>
                  <a:ext cx="1958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200" spc="-1" strike="noStrike">
                      <a:solidFill>
                        <a:srgbClr val="000000"/>
                      </a:solidFill>
                      <a:latin typeface="Times New Roman"/>
                    </a:rPr>
                    <a:t>out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6172200" y="1600200"/>
                <a:ext cx="2362320" cy="1523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1" name=""/>
          <p:cNvSpPr/>
          <p:nvPr/>
        </p:nvSpPr>
        <p:spPr>
          <a:xfrm>
            <a:off x="7520040" y="3114720"/>
            <a:ext cx="681120" cy="453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EDE7-0060-454C-9D82-6F830A8F6F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0088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Roles: Exampl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495680" y="3824280"/>
            <a:ext cx="1981440" cy="459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Hospital Be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391520" y="3824280"/>
            <a:ext cx="1600200" cy="459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Minist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477120" y="4052880"/>
            <a:ext cx="914400" cy="0"/>
          </a:xfrm>
          <a:prstGeom prst="line">
            <a:avLst/>
          </a:prstGeom>
          <a:ln w="1260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495680" y="1019520"/>
            <a:ext cx="1828800" cy="459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Info b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410080" y="1479240"/>
            <a:ext cx="0" cy="111132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315200" y="1019520"/>
            <a:ext cx="1447920" cy="459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Admin_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6324480" y="1251000"/>
            <a:ext cx="990720" cy="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1956600"/>
            <a:ext cx="1752480" cy="64260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propagation suitabil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2209680" y="2013120"/>
            <a:ext cx="32004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438280" y="205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due 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324480" y="1250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depen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4120" y="16455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depen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1905120" y="4285800"/>
            <a:ext cx="6858000" cy="1942200"/>
            <a:chOff x="1905120" y="4285800"/>
            <a:chExt cx="6858000" cy="1942200"/>
          </a:xfrm>
        </p:grpSpPr>
        <p:sp>
          <p:nvSpPr>
            <p:cNvPr id="556" name=""/>
            <p:cNvSpPr/>
            <p:nvPr/>
          </p:nvSpPr>
          <p:spPr>
            <a:xfrm>
              <a:off x="4495680" y="5497920"/>
              <a:ext cx="1828800" cy="4597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eaeaea"/>
                  </a:solidFill>
                  <a:latin typeface="Times New Roman"/>
                </a:rPr>
                <a:t>Info by Dept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15200" y="5497920"/>
              <a:ext cx="1447920" cy="4597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2400" spc="-1" strike="noStrike">
                  <a:solidFill>
                    <a:srgbClr val="eaeaea"/>
                  </a:solidFill>
                  <a:latin typeface="Times New Roman"/>
                </a:rPr>
                <a:t>Admin_2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324480" y="5729400"/>
              <a:ext cx="9907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05120" y="5311080"/>
              <a:ext cx="1752480" cy="91692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propagation suitability &amp; quality of data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3657600" y="5048280"/>
              <a:ext cx="1752480" cy="38088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410080" y="4285800"/>
              <a:ext cx="0" cy="1219320"/>
            </a:xfrm>
            <a:prstGeom prst="line">
              <a:avLst/>
            </a:prstGeom>
            <a:ln w="12600">
              <a:solidFill>
                <a:srgbClr val="eaeaea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81280" y="53524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due t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24480" y="5829480"/>
              <a:ext cx="990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depend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410080" y="50284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is suitable fo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6477120" y="4082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suitable f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95680" y="2605320"/>
            <a:ext cx="1828800" cy="45972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eaeaea"/>
                </a:solidFill>
                <a:latin typeface="Times New Roman"/>
              </a:rPr>
              <a:t>Propag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5410080" y="3065040"/>
            <a:ext cx="0" cy="762120"/>
          </a:xfrm>
          <a:prstGeom prst="line">
            <a:avLst/>
          </a:prstGeom>
          <a:ln w="12600">
            <a:solidFill>
              <a:srgbClr val="eaeaea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57200" y="3542760"/>
            <a:ext cx="1752480" cy="642600"/>
          </a:xfrm>
          <a:prstGeom prst="rect">
            <a:avLst/>
          </a:prstGeom>
          <a:noFill/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propagation suitabil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2209680" y="3598920"/>
            <a:ext cx="320040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457200" y="843480"/>
            <a:ext cx="4952880" cy="4397400"/>
            <a:chOff x="457200" y="843480"/>
            <a:chExt cx="4952880" cy="4397400"/>
          </a:xfrm>
        </p:grpSpPr>
        <p:sp>
          <p:nvSpPr>
            <p:cNvPr id="571" name=""/>
            <p:cNvSpPr/>
            <p:nvPr/>
          </p:nvSpPr>
          <p:spPr>
            <a:xfrm flipH="1" flipV="1">
              <a:off x="3733920" y="1174320"/>
              <a:ext cx="1676160" cy="83844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7200" y="843480"/>
              <a:ext cx="3200400" cy="3682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H_ID, EDATE, #BED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7200" y="4872600"/>
              <a:ext cx="3200400" cy="3682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H_ID, EDATE, #BED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657600" y="5048280"/>
              <a:ext cx="175248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09880" y="4672800"/>
              <a:ext cx="60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wr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57600" y="13708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wr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3657600" y="2819160"/>
              <a:ext cx="1752480" cy="77940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57200" y="2672280"/>
              <a:ext cx="3200400" cy="368280"/>
            </a:xfrm>
            <a:prstGeom prst="rect">
              <a:avLst/>
            </a:prstGeom>
            <a:noFill/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H_ID, EDATE, #BED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657600" y="31233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eaeaea"/>
                  </a:solidFill>
                  <a:latin typeface="Times New Roman"/>
                </a:rPr>
                <a:t>wrt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2438280" y="3642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due 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4120" y="323136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eaeaea"/>
                </a:solidFill>
                <a:latin typeface="Times New Roman"/>
              </a:rPr>
              <a:t>depend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E36C-A717-45C1-A16C-1BBB5CE93E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he proposed model enables the efficient Data Warehou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Design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through modeling constructs and consistency chec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Administration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through quality measurements and spotting of inefficien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Evolution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, through the discovery of interrelated DW components by using view definitions &amp; evolution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FDE-677B-42E3-9FBF-F782D93D7D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Thank you!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Long version at http://www.dblab.ece.ntua.gr/~pvassil/publications/process-model00.gz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Question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Comment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AF88-BB6A-4D72-B2A7-54C3C846DD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The DWQ approach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0" y="1201680"/>
          <a:ext cx="8763120" cy="509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01680"/>
                    <a:ext cx="8763120" cy="50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8EE-FEC0-4417-B149-31377AE600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Background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Related work in workflow modeling: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[Casati et al. ‘95, Sadiq &amp; Orlowska ‘99, ...]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Standards: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Workflow Management Coalition, Metadata Interchange Specific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Process modeling: Rolland ‘98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BB03-4948-4558-828B-669E914093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Future Work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We have used the 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global-as-view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approach, vs. 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local-as-vi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On-going implementation of a middleware tool for the management of DW process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C12-6420-461B-A985-BB1E916953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Objectiv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«...To provide a model for Data Warehouse Operational Processes in order to suppo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he design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he administration,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he ev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of a Data Warehouse...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AC4F-FC0B-4CEB-8683-27C6E99BA3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Extracting View Definition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457200" y="1447920"/>
          <a:ext cx="8523360" cy="472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523360" cy="47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F0E-6A08-4819-B424-57929A456E3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9520" y="7596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The DW Process Mode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457200" y="1106640"/>
          <a:ext cx="8001000" cy="54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06640"/>
                    <a:ext cx="8001000" cy="54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F84E-1BF5-4D72-AF01-EB0BA348CA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DW Process Quality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533520" y="1533600"/>
            <a:ext cx="8007120" cy="44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5F4-2896-4B36-B19B-B4E26CBC851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0088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Arktos: an ETL too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229600" cy="6077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EECD-B0C7-448E-B9D3-9E0E66A36D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Arktos: Foreign Key Checking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696440" cy="480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BD2-57EC-4D35-B4D7-534CF959A4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Akrtos: Quality Factor Management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07808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513-AEBE-43FC-9148-9A21F14C3E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0088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Arktos: Scheduling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305100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966000" cy="26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43B1-577B-44CC-937F-59E278D2B1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How the model supports DW desig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How the model supports DW manageme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How the model supports DW ev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E7E-FF9A-4F91-AE19-6A1EF6574A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Motivating Example: DW for the Greek Ministry of Health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373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Sources: COBOL files for all the medical centers in Greece (~2400) from a central legacy syst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Transformation and Cleaning Tas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Quality requirem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4724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«Achieve 100% completeness and consistency of the data delivered to the end users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4BE-B72F-4CDC-B25D-7E8DDE9F3C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Particularities of DW Operational Processes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Complexity of structu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Data intens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Process traces are crucial for adminis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Quality aspects are important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All the perspectives are important (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what, how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and 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why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C9C3-7F00-4066-9C5F-5AA340BB95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Different Perspectives of the DW Process Mode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1523880"/>
          <a:ext cx="571500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523880"/>
                    <a:ext cx="571500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340A-35FE-47A2-80CC-9C0BD0586E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Logical Perspective of the DW process model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3120" y="1599840"/>
            <a:ext cx="8037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Activities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are composed in sequences and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mposite Activities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Transition Elements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model the transitions between activities with COMMIT/ABORT semantic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eaeaea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Each activity is characterized by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Input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and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Output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data stores. An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QL Query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l-GR" sz="3200" spc="-1" strike="noStrike">
                <a:solidFill>
                  <a:srgbClr val="eaeaea"/>
                </a:solidFill>
                <a:latin typeface="Times New Roman"/>
              </a:rPr>
              <a:t>logically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 describes the performed task. </a:t>
            </a:r>
            <a:r>
              <a:rPr b="0" lang="el-GR" sz="3200" spc="-1" strike="noStrike" u="sng">
                <a:solidFill>
                  <a:srgbClr val="eaeaea"/>
                </a:solidFill>
                <a:uFillTx/>
                <a:latin typeface="Times New Roman"/>
              </a:rPr>
              <a:t>Semantics 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show whether the t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l-GR" sz="3200" spc="-1" strike="noStrike">
                <a:solidFill>
                  <a:srgbClr val="eaeaea"/>
                </a:solidFill>
                <a:latin typeface="Times New Roman"/>
              </a:rPr>
              <a:t>k INS/DEL/UP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079-7F51-45F2-8BBB-359B1C7481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588960" y="1620720"/>
            <a:ext cx="8158320" cy="2949480"/>
            <a:chOff x="588960" y="1620720"/>
            <a:chExt cx="8158320" cy="2949480"/>
          </a:xfrm>
        </p:grpSpPr>
        <p:sp>
          <p:nvSpPr>
            <p:cNvPr id="108" name=""/>
            <p:cNvSpPr/>
            <p:nvPr/>
          </p:nvSpPr>
          <p:spPr>
            <a:xfrm>
              <a:off x="590400" y="1620720"/>
              <a:ext cx="8155080" cy="294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8960" y="1743120"/>
              <a:ext cx="738360" cy="423720"/>
            </a:xfrm>
            <a:prstGeom prst="ellipse">
              <a:avLst/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3360" y="1871640"/>
              <a:ext cx="7048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03720" y="1874880"/>
              <a:ext cx="50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Loading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55880" y="1743120"/>
              <a:ext cx="847800" cy="423720"/>
            </a:xfrm>
            <a:prstGeom prst="ellipse">
              <a:avLst/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54440" y="1874880"/>
              <a:ext cx="7952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67840" y="1876320"/>
              <a:ext cx="55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Cleaning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1743120"/>
              <a:ext cx="1265040" cy="425160"/>
            </a:xfrm>
            <a:prstGeom prst="ellipse">
              <a:avLst/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33800" y="1876320"/>
              <a:ext cx="10972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70960" y="1879560"/>
              <a:ext cx="79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Computatio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42040" y="1743120"/>
              <a:ext cx="1265400" cy="425160"/>
            </a:xfrm>
            <a:prstGeom prst="ellipse">
              <a:avLst/>
            </a:prstGeom>
            <a:solidFill>
              <a:srgbClr val="c0c0c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99280" y="1876320"/>
              <a:ext cx="109692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4440" y="1879560"/>
              <a:ext cx="76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Aggregatio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54440" y="3211560"/>
              <a:ext cx="795240" cy="453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45600" y="3319200"/>
              <a:ext cx="39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59400" y="3211560"/>
              <a:ext cx="784080" cy="453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14840" y="3319200"/>
              <a:ext cx="65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Class_info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99520" y="3211560"/>
              <a:ext cx="680760" cy="453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1800" y="331920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V1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3211560"/>
              <a:ext cx="557280" cy="45396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26560" y="3319200"/>
              <a:ext cx="298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CBL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95440" y="1743120"/>
              <a:ext cx="1020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87720" y="1743120"/>
              <a:ext cx="56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37480" y="174924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235560" y="1901880"/>
              <a:ext cx="793800" cy="110880"/>
              <a:chOff x="6235560" y="1901880"/>
              <a:chExt cx="793800" cy="110880"/>
            </a:xfrm>
          </p:grpSpPr>
          <p:sp>
            <p:nvSpPr>
              <p:cNvPr id="133" name=""/>
              <p:cNvSpPr/>
              <p:nvPr/>
            </p:nvSpPr>
            <p:spPr>
              <a:xfrm>
                <a:off x="6235560" y="1938240"/>
                <a:ext cx="532080" cy="34920"/>
              </a:xfrm>
              <a:custGeom>
                <a:avLst/>
                <a:gdLst/>
                <a:ahLst/>
                <a:rect l="l" t="t" r="r" b="b"/>
                <a:pathLst>
                  <a:path w="335" h="22">
                    <a:moveTo>
                      <a:pt x="0" y="0"/>
                    </a:moveTo>
                    <a:lnTo>
                      <a:pt x="0" y="21"/>
                    </a:lnTo>
                    <a:lnTo>
                      <a:pt x="335" y="22"/>
                    </a:lnTo>
                    <a:lnTo>
                      <a:pt x="335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762600" y="1901880"/>
                <a:ext cx="266760" cy="110880"/>
              </a:xfrm>
              <a:custGeom>
                <a:avLst/>
                <a:gdLst/>
                <a:ahLst/>
                <a:rect l="l" t="t" r="r" b="b"/>
                <a:pathLst>
                  <a:path w="168" h="70">
                    <a:moveTo>
                      <a:pt x="0" y="70"/>
                    </a:moveTo>
                    <a:lnTo>
                      <a:pt x="168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6235560" y="1743120"/>
              <a:ext cx="68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42560" y="174924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3760920" y="1914480"/>
              <a:ext cx="1019160" cy="111240"/>
              <a:chOff x="3760920" y="1914480"/>
              <a:chExt cx="1019160" cy="111240"/>
            </a:xfrm>
          </p:grpSpPr>
          <p:sp>
            <p:nvSpPr>
              <p:cNvPr id="138" name=""/>
              <p:cNvSpPr/>
              <p:nvPr/>
            </p:nvSpPr>
            <p:spPr>
              <a:xfrm>
                <a:off x="3760920" y="1954080"/>
                <a:ext cx="75708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14760" y="1914480"/>
                <a:ext cx="265320" cy="111240"/>
              </a:xfrm>
              <a:custGeom>
                <a:avLst/>
                <a:gdLst/>
                <a:ahLst/>
                <a:rect l="l" t="t" r="r" b="b"/>
                <a:pathLst>
                  <a:path w="167" h="70">
                    <a:moveTo>
                      <a:pt x="0" y="70"/>
                    </a:moveTo>
                    <a:lnTo>
                      <a:pt x="167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868320" y="2195280"/>
              <a:ext cx="122400" cy="903240"/>
              <a:chOff x="868320" y="2195280"/>
              <a:chExt cx="122400" cy="903240"/>
            </a:xfrm>
          </p:grpSpPr>
          <p:sp>
            <p:nvSpPr>
              <p:cNvPr id="141" name=""/>
              <p:cNvSpPr/>
              <p:nvPr/>
            </p:nvSpPr>
            <p:spPr>
              <a:xfrm flipV="1">
                <a:off x="928800" y="2314440"/>
                <a:ext cx="1440" cy="784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68320" y="219528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77"/>
                    </a:moveTo>
                    <a:lnTo>
                      <a:pt x="38" y="0"/>
                    </a:lnTo>
                    <a:lnTo>
                      <a:pt x="0" y="77"/>
                    </a:lnTo>
                    <a:lnTo>
                      <a:pt x="7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041480" y="2195280"/>
              <a:ext cx="1812960" cy="1016280"/>
              <a:chOff x="1041480" y="2195280"/>
              <a:chExt cx="1812960" cy="1016280"/>
            </a:xfrm>
          </p:grpSpPr>
          <p:sp>
            <p:nvSpPr>
              <p:cNvPr id="144" name=""/>
              <p:cNvSpPr/>
              <p:nvPr/>
            </p:nvSpPr>
            <p:spPr>
              <a:xfrm>
                <a:off x="1041480" y="2195280"/>
                <a:ext cx="1709640" cy="9604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716200" y="3098520"/>
                <a:ext cx="138240" cy="113040"/>
              </a:xfrm>
              <a:custGeom>
                <a:avLst/>
                <a:gdLst/>
                <a:ahLst/>
                <a:rect l="l" t="t" r="r" b="b"/>
                <a:pathLst>
                  <a:path w="87" h="71">
                    <a:moveTo>
                      <a:pt x="0" y="68"/>
                    </a:moveTo>
                    <a:lnTo>
                      <a:pt x="87" y="71"/>
                    </a:lnTo>
                    <a:lnTo>
                      <a:pt x="38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021120" y="2195280"/>
              <a:ext cx="122040" cy="1016280"/>
              <a:chOff x="3021120" y="2195280"/>
              <a:chExt cx="122040" cy="1016280"/>
            </a:xfrm>
          </p:grpSpPr>
          <p:sp>
            <p:nvSpPr>
              <p:cNvPr id="147" name=""/>
              <p:cNvSpPr/>
              <p:nvPr/>
            </p:nvSpPr>
            <p:spPr>
              <a:xfrm flipV="1">
                <a:off x="3081240" y="2314440"/>
                <a:ext cx="1800" cy="89712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021120" y="2195280"/>
                <a:ext cx="12204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77" y="77"/>
                    </a:moveTo>
                    <a:lnTo>
                      <a:pt x="38" y="0"/>
                    </a:lnTo>
                    <a:lnTo>
                      <a:pt x="0" y="77"/>
                    </a:lnTo>
                    <a:lnTo>
                      <a:pt x="77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421080" y="2195280"/>
              <a:ext cx="1585800" cy="1015920"/>
              <a:chOff x="3421080" y="2195280"/>
              <a:chExt cx="1585800" cy="1015920"/>
            </a:xfrm>
          </p:grpSpPr>
          <p:sp>
            <p:nvSpPr>
              <p:cNvPr id="150" name=""/>
              <p:cNvSpPr/>
              <p:nvPr/>
            </p:nvSpPr>
            <p:spPr>
              <a:xfrm flipV="1">
                <a:off x="3421080" y="2256840"/>
                <a:ext cx="1485720" cy="954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0440" y="2195280"/>
                <a:ext cx="136440" cy="119160"/>
              </a:xfrm>
              <a:custGeom>
                <a:avLst/>
                <a:gdLst/>
                <a:ahLst/>
                <a:rect l="l" t="t" r="r" b="b"/>
                <a:pathLst>
                  <a:path w="86" h="75">
                    <a:moveTo>
                      <a:pt x="42" y="75"/>
                    </a:moveTo>
                    <a:lnTo>
                      <a:pt x="86" y="0"/>
                    </a:lnTo>
                    <a:lnTo>
                      <a:pt x="0" y="9"/>
                    </a:lnTo>
                    <a:lnTo>
                      <a:pt x="42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5511960" y="2195280"/>
              <a:ext cx="122040" cy="1016280"/>
              <a:chOff x="5511960" y="2195280"/>
              <a:chExt cx="122040" cy="1016280"/>
            </a:xfrm>
          </p:grpSpPr>
          <p:sp>
            <p:nvSpPr>
              <p:cNvPr id="153" name=""/>
              <p:cNvSpPr/>
              <p:nvPr/>
            </p:nvSpPr>
            <p:spPr>
              <a:xfrm>
                <a:off x="5573880" y="2195280"/>
                <a:ext cx="1440" cy="898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511960" y="3089160"/>
                <a:ext cx="12204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9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913360" y="2195280"/>
              <a:ext cx="1698840" cy="1015920"/>
              <a:chOff x="5913360" y="2195280"/>
              <a:chExt cx="1698840" cy="101592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5913360" y="2253960"/>
                <a:ext cx="1596960" cy="95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477200" y="2195280"/>
                <a:ext cx="135000" cy="114480"/>
              </a:xfrm>
              <a:custGeom>
                <a:avLst/>
                <a:gdLst/>
                <a:ahLst/>
                <a:rect l="l" t="t" r="r" b="b"/>
                <a:pathLst>
                  <a:path w="85" h="72">
                    <a:moveTo>
                      <a:pt x="39" y="72"/>
                    </a:moveTo>
                    <a:lnTo>
                      <a:pt x="85" y="0"/>
                    </a:lnTo>
                    <a:lnTo>
                      <a:pt x="0" y="6"/>
                    </a:lnTo>
                    <a:lnTo>
                      <a:pt x="39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7777080" y="2195280"/>
              <a:ext cx="122400" cy="1016280"/>
              <a:chOff x="7777080" y="2195280"/>
              <a:chExt cx="122400" cy="1016280"/>
            </a:xfrm>
          </p:grpSpPr>
          <p:sp>
            <p:nvSpPr>
              <p:cNvPr id="159" name=""/>
              <p:cNvSpPr/>
              <p:nvPr/>
            </p:nvSpPr>
            <p:spPr>
              <a:xfrm>
                <a:off x="7839000" y="2195280"/>
                <a:ext cx="1800" cy="8985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7080" y="3089160"/>
                <a:ext cx="122400" cy="12240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9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2287440" y="2873160"/>
              <a:ext cx="568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44040" y="287820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19560" y="2760480"/>
              <a:ext cx="568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76160" y="2765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51680" y="2760480"/>
              <a:ext cx="568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08280" y="2765160"/>
              <a:ext cx="246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S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193920" y="2760480"/>
              <a:ext cx="568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41480" y="2760480"/>
              <a:ext cx="3427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50920" y="276516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54440" y="2421000"/>
              <a:ext cx="341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63880" y="24271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54360" y="2421000"/>
              <a:ext cx="341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63800" y="24271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47000" y="2195280"/>
              <a:ext cx="341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56440" y="2200320"/>
              <a:ext cx="11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68280" y="2195280"/>
              <a:ext cx="341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38120" y="220032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08400" y="2307960"/>
              <a:ext cx="341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86560" y="2307960"/>
              <a:ext cx="341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6040" y="2314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1680" y="2195280"/>
              <a:ext cx="3430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21520" y="220032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1640" y="3889440"/>
              <a:ext cx="18144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1640" y="39002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9920" y="390024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H_ID, DATE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5400" y="407988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A,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65720" y="40798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B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5040" y="42433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C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54440" y="3889440"/>
              <a:ext cx="18144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4440" y="39002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52720" y="390024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H_ID, DATE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67840" y="4079880"/>
              <a:ext cx="82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A,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17080" y="407988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B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67480" y="4243320"/>
              <a:ext cx="732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C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59400" y="3889440"/>
              <a:ext cx="181440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59400" y="39002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56240" y="3900240"/>
              <a:ext cx="54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H_ID, 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22880" y="3900240"/>
              <a:ext cx="54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EDATE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76760" y="4065480"/>
              <a:ext cx="1463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CLASS_ID, #BEDS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499520" y="3889440"/>
              <a:ext cx="12477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99520" y="3900240"/>
              <a:ext cx="9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96000" y="390024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H_ID,EDATE,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02400" y="4065480"/>
              <a:ext cx="100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Courier New"/>
                </a:rPr>
                <a:t>SUM(#BEDS))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04800" y="4635360"/>
            <a:ext cx="831528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SELECT *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FROM BUFFER B1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WHERE EXISTS (SELECT B2.H_ID, B2.DATE FROM BUFFER B2 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      WHERE B1.H_ID = B2.H_ID AND B1.DATE = B2.DA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l-GR" sz="2000" spc="-1" strike="noStrike">
                <a:solidFill>
                  <a:srgbClr val="eaeaea"/>
                </a:solidFill>
                <a:latin typeface="Times New Roman"/>
              </a:rPr>
              <a:t>GROUP BY H_ID,DATE HAVING COUNT(*)&gt; 1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765440" y="1528920"/>
            <a:ext cx="2565360" cy="3098520"/>
            <a:chOff x="1765440" y="1528920"/>
            <a:chExt cx="2565360" cy="3098520"/>
          </a:xfrm>
        </p:grpSpPr>
        <p:sp>
          <p:nvSpPr>
            <p:cNvPr id="206" name=""/>
            <p:cNvSpPr/>
            <p:nvPr/>
          </p:nvSpPr>
          <p:spPr>
            <a:xfrm>
              <a:off x="3324600" y="2765160"/>
              <a:ext cx="29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9999"/>
                  </a:solidFill>
                  <a:latin typeface="Times New Roman"/>
                </a:rPr>
                <a:t>DEL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77880" y="2314440"/>
              <a:ext cx="19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9999"/>
                  </a:solidFill>
                  <a:latin typeface="Times New Roman"/>
                </a:rPr>
                <a:t>ou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65440" y="1528920"/>
              <a:ext cx="2565360" cy="3098520"/>
            </a:xfrm>
            <a:prstGeom prst="rect">
              <a:avLst/>
            </a:prstGeom>
            <a:noFill/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52680" y="2214360"/>
              <a:ext cx="0" cy="104112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380960" y="1604880"/>
            <a:ext cx="1362240" cy="711720"/>
            <a:chOff x="1380960" y="1604880"/>
            <a:chExt cx="1362240" cy="711720"/>
          </a:xfrm>
        </p:grpSpPr>
        <p:grpSp>
          <p:nvGrpSpPr>
            <p:cNvPr id="212" name=""/>
            <p:cNvGrpSpPr/>
            <p:nvPr/>
          </p:nvGrpSpPr>
          <p:grpSpPr>
            <a:xfrm>
              <a:off x="1380960" y="1914480"/>
              <a:ext cx="1360800" cy="111240"/>
              <a:chOff x="1380960" y="1914480"/>
              <a:chExt cx="1360800" cy="11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1380960" y="1954080"/>
                <a:ext cx="1097280" cy="31680"/>
              </a:xfrm>
              <a:prstGeom prst="rect">
                <a:avLst/>
              </a:prstGeom>
              <a:solidFill>
                <a:srgbClr val="99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75000" y="1914480"/>
                <a:ext cx="266760" cy="111240"/>
              </a:xfrm>
              <a:custGeom>
                <a:avLst/>
                <a:gdLst/>
                <a:ahLst/>
                <a:rect l="l" t="t" r="r" b="b"/>
                <a:pathLst>
                  <a:path w="168" h="70">
                    <a:moveTo>
                      <a:pt x="0" y="70"/>
                    </a:moveTo>
                    <a:lnTo>
                      <a:pt x="168" y="34"/>
                    </a:lnTo>
                    <a:lnTo>
                      <a:pt x="0" y="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99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1870560" y="1604880"/>
              <a:ext cx="26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nex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2133720"/>
              <a:ext cx="6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200" spc="-1" strike="noStrike">
                  <a:solidFill>
                    <a:srgbClr val="000000"/>
                  </a:solidFill>
                  <a:latin typeface="Times New Roman"/>
                </a:rPr>
                <a:t>COMMIT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038480" y="198108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1981080"/>
            <a:ext cx="685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</a:rPr>
              <a:t>COMMI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9520" y="22824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ffffff"/>
                </a:solidFill>
                <a:latin typeface="Arial"/>
              </a:rPr>
              <a:t>Process complexity and relationship with data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2787-DA23-4D60-AE4D-A2244687E9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9520" y="761760"/>
            <a:ext cx="7008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l-GR" sz="4400" spc="-1" strike="noStrike">
                <a:solidFill>
                  <a:srgbClr val="eaeaea"/>
                </a:solidFill>
                <a:latin typeface="Arial"/>
              </a:rPr>
              <a:t>Physical Perspective: Agents and traces for the management of the data warehouse</a:t>
            </a:r>
            <a:endParaRPr b="1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-152280" y="2971800"/>
          <a:ext cx="944856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2971800"/>
                    <a:ext cx="94485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assiliadis, Quix, Vassiliou, Jarke , CAiSE'00, Stockholm, Sweden, June 200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6B9-AC66-4E7A-85D9-9347029FB1C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1:19:48Z</dcterms:created>
  <dc:creator>Timos Sellis</dc:creator>
  <dc:description/>
  <dc:language>en-US</dc:language>
  <cp:lastModifiedBy>Timos Sellis</cp:lastModifiedBy>
  <cp:lastPrinted>2000-06-03T14:40:32Z</cp:lastPrinted>
  <dcterms:modified xsi:type="dcterms:W3CDTF">2000-06-13T12:38:39Z</dcterms:modified>
  <cp:revision>75</cp:revision>
  <dc:subject/>
  <dc:title>A Model for Data Warehouse Operational Processes </dc:title>
</cp:coreProperties>
</file>